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AD3-437A-4D66-AABD-98D71B6B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FC7-9C91-4F4C-9053-F177F74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631-C9DA-47C0-AAD5-77FC3E77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DC6-21D7-4366-9307-CC56046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BFE-B12F-43F5-B412-C9A9529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B14-BCC0-4F8B-9A8B-841CC64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6A8-2980-49C7-8182-41A0E0E1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698-13B7-4574-A187-7D18B338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03F-1A24-4A0B-BF38-D74CB28A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3BD-E967-47E0-BE67-485D000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9AE-11CF-487D-86D3-4241C33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D81-C4FA-485B-B484-490FC05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0F65-C1FA-42F9-BA36-C64ADC75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1600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447920"/>
            <a:ext cx="5410440" cy="3962160"/>
          </a:xfrm>
          <a:prstGeom prst="cloudCallout">
            <a:avLst>
              <a:gd name="adj1" fmla="val -76231"/>
              <a:gd name="adj2" fmla="val 461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著名剧作家莎士比亚有一句名言：“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，一马失社稷！”一匹马怎么可能会让一个国家倾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5812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理清文章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84160" y="157968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决战即将打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6120" y="2722680"/>
            <a:ext cx="14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-1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钉马掌，少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10520" y="3865680"/>
            <a:ext cx="18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-1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掉马掌，打败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97640" y="5084640"/>
            <a:ext cx="42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6-2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查理国王战败的原因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7524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查理环顾四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空中挥舞着宝剑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绝望地喊道：“马！我的马，难道国家倾覆，就因为这一匹马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1447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查理说的话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他到底为什么会失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219320"/>
            <a:ext cx="7391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查理国王战败的原因是“少 钉了一个马掌钉”。这里有战势的紧张，情况的危急，更有马夫的不负责任，铁匠的将就敷衍。总之，真正的原因在于忽视了“细节”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29528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少了一个铁钉，丢了一只马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丢了一只马掌，跑了一匹战马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跑了一匹战马，败了一场战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败了一场战役，失了一个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16765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马夫和铁匠听说了查理战败的消息后，会怎样想呢？在这次战役后，又发生了什么事呢？续写《一个马掌钉》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685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</a:rPr>
              <a:t>读一读，背一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2880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里之行，始于足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下难事，必做于易；天下大事，必做于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里之堤，溃于蚁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理不辞小让，细节决定成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事成就大事，细节成就完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9400" y="1676520"/>
            <a:ext cx="667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少一个马掌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51880" y="990720"/>
            <a:ext cx="4546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3808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6858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争王位    将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574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2767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72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198108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钉马掌    少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—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446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掉马掌     打败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3—2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46483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痛毁国     结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6—2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447920"/>
            <a:ext cx="2125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事本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事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握细节        定乾坤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23880" y="83808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762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895480" y="2209680"/>
            <a:ext cx="3124440" cy="16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再见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62320" y="20574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少一个马掌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491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4941720"/>
            <a:ext cx="976320" cy="486000"/>
          </a:xfrm>
          <a:prstGeom prst="rightArrow">
            <a:avLst>
              <a:gd name="adj1" fmla="val 6013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4724280"/>
            <a:ext cx="976320" cy="486000"/>
          </a:xfrm>
          <a:custGeom>
            <a:avLst/>
            <a:gdLst>
              <a:gd name="textAreaLeft" fmla="*/ 84960 w 976320"/>
              <a:gd name="textAreaRight" fmla="*/ 891360 w 976320"/>
              <a:gd name="textAreaTop" fmla="*/ 83880 h 486000"/>
              <a:gd name="textAreaBottom" fmla="*/ 402120 h 486000"/>
            </a:gdLst>
            <a:ahLst/>
            <a:rect l="textAreaLeft" t="textAreaTop" r="textAreaRight" b="textAreaBottom"/>
            <a:pathLst>
              <a:path w="21600" h="21600">
                <a:moveTo>
                  <a:pt x="0" y="3741"/>
                </a:moveTo>
                <a:lnTo>
                  <a:pt x="18720" y="3741"/>
                </a:lnTo>
                <a:lnTo>
                  <a:pt x="18720" y="0"/>
                </a:lnTo>
                <a:lnTo>
                  <a:pt x="21600" y="10800"/>
                </a:lnTo>
                <a:lnTo>
                  <a:pt x="18720" y="21600"/>
                </a:lnTo>
                <a:lnTo>
                  <a:pt x="18720" y="17859"/>
                </a:lnTo>
                <a:lnTo>
                  <a:pt x="0" y="17859"/>
                </a:lnTo>
                <a:lnTo>
                  <a:pt x="1882" y="10800"/>
                </a:lnTo>
                <a:lnTo>
                  <a:pt x="0" y="3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869000"/>
            <a:ext cx="1368360" cy="360360"/>
          </a:xfrm>
          <a:prstGeom prst="leftRightArrow">
            <a:avLst>
              <a:gd name="adj1" fmla="val 50000"/>
              <a:gd name="adj2" fmla="val 759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4869000"/>
            <a:ext cx="1295280" cy="215640"/>
          </a:xfrm>
          <a:prstGeom prst="leftRightArrow">
            <a:avLst>
              <a:gd name="adj1" fmla="val 50000"/>
              <a:gd name="adj2" fmla="val 1201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886200" cy="497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67280" y="609480"/>
            <a:ext cx="23623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方正少儿_GBK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少儿_GBK"/>
              </a:rPr>
              <a:t>马蹄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"/>
            <a:ext cx="23749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少儿_GBK"/>
              </a:rPr>
              <a:t>钉马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防止马匹走路、奔跑时受伤，人们通常在马蹄处钉上铁掌。钉马掌时，要用上很多的铁钉，也就是马掌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1460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95680" y="1447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95680" y="13716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77120" y="13716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77120" y="129528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62120" y="54100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25780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33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33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33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457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228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爵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爵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90920"/>
            <a:ext cx="2362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厮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厮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666880"/>
            <a:ext cx="2133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鞭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扬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90920"/>
            <a:ext cx="1447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缰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脱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54864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倾覆  覆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838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音字辨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13372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īng 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钉   钉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ìng 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钉马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4495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争夺——谦让            惊恐——镇定  绝望——希望            退却——前进   冲锋陷阵——临阵脱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523880"/>
            <a:ext cx="6629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厮杀——拼杀     凑合——将就                        退却——后退     绝望——失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惊恐——惊慌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33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理解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凑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冲锋陷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扬鞭策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缰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71400" y="1600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借指权威或职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将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2819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向敌人冲锋，深入敌人阵地形容作战英勇。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4280" y="3962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驱马快速前行，借指出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8360" y="4572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牵牲口的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334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使失败，颠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简洁的话说说课文主要讲了一个什么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236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阅读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29:30Z</dcterms:created>
  <dc:creator>Administrator</dc:creator>
  <dc:description/>
  <dc:language>en-US</dc:language>
  <cp:lastModifiedBy/>
  <dcterms:modified xsi:type="dcterms:W3CDTF">2016-04-19T09:29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