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3E4-4E8E-4639-A9B9-0EA4545B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153A-726E-440B-86C4-32D2ADAF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3A32-C0EF-40EF-94C1-5418C7CA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B2E-3B4B-41FA-A2E1-4AB2C2AB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D91-992E-4633-85C9-80F8207A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67FA-58B7-408F-9CAB-EABBD0C7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B144-8C81-4DE3-AAAA-7451411F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8B4D-55C2-4663-B321-6EEA290B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1BE-8A71-4342-BB99-BDB0291B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1064-ABBE-468E-9F1A-A3EEFA5D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59DB-F946-4240-B672-14345057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35C2-5A47-4DA6-9DB0-95882D3B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DFBD-8293-426B-9C7A-F5F8297C2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" Target="slide6.xml"/><Relationship Id="rId6" Type="http://schemas.openxmlformats.org/officeDocument/2006/relationships/image" Target="../media/image4.png"/><Relationship Id="rId7" Type="http://schemas.openxmlformats.org/officeDocument/2006/relationships/slide" Target="slide8.xml"/><Relationship Id="rId8" Type="http://schemas.openxmlformats.org/officeDocument/2006/relationships/image" Target="../media/image5.png"/><Relationship Id="rId9" Type="http://schemas.openxmlformats.org/officeDocument/2006/relationships/slide" Target="slide10.xm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b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b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b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b5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sp>
        <p:nvSpPr>
          <p:cNvPr id="46" name="WordArt 10"/>
          <p:cNvSpPr txBox="1"/>
          <p:nvPr/>
        </p:nvSpPr>
        <p:spPr>
          <a:xfrm>
            <a:off x="900000" y="2133720"/>
            <a:ext cx="76312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7" name="Picture 11" descr="b6"/>
          <p:cNvPicPr/>
          <p:nvPr/>
        </p:nvPicPr>
        <p:blipFill>
          <a:blip r:embed="rId11"/>
          <a:stretch/>
        </p:blipFill>
        <p:spPr>
          <a:xfrm>
            <a:off x="7524720" y="617868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8" name="WordArt 10" descr=""/>
          <p:cNvPicPr/>
          <p:nvPr/>
        </p:nvPicPr>
        <p:blipFill>
          <a:blip r:embed="rId12"/>
          <a:stretch/>
        </p:blipFill>
        <p:spPr>
          <a:xfrm>
            <a:off x="1609560" y="2335320"/>
            <a:ext cx="6285240" cy="166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1000080" y="2000160"/>
            <a:ext cx="77058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1332000" y="213372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芬兰人还选了北极圈附近的一个村庄为圣诞老人村。村口竖着一块木牌，上面写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圣诞老人的故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当我来到圣诞老人村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857160" y="928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想象说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2771640" y="386064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1000080" y="2000160"/>
            <a:ext cx="77058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4046400" y="1916280"/>
            <a:ext cx="86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抄写生字词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正确有感情地朗读课文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2" name="WordArt 39"/>
          <p:cNvSpPr txBox="1"/>
          <p:nvPr/>
        </p:nvSpPr>
        <p:spPr>
          <a:xfrm>
            <a:off x="1979640" y="2565360"/>
            <a:ext cx="3878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53" name="Picture 6" descr="D:\My Documents\My Pictures\u=643827507,2182021944&amp;fm=0&amp;gp=0.gif"/>
          <p:cNvPicPr/>
          <p:nvPr/>
        </p:nvPicPr>
        <p:blipFill>
          <a:blip r:embed="rId4"/>
          <a:stretch/>
        </p:blipFill>
        <p:spPr>
          <a:xfrm>
            <a:off x="2411280" y="1989000"/>
            <a:ext cx="3929040" cy="3888000"/>
          </a:xfrm>
          <a:prstGeom prst="rect">
            <a:avLst/>
          </a:prstGeom>
          <a:ln w="0">
            <a:noFill/>
          </a:ln>
        </p:spPr>
      </p:pic>
      <p:sp>
        <p:nvSpPr>
          <p:cNvPr id="54" name="矩形 6"/>
          <p:cNvSpPr/>
          <p:nvPr/>
        </p:nvSpPr>
        <p:spPr>
          <a:xfrm>
            <a:off x="2050920" y="9810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谁能介绍一下画面上的人物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8" name="WordArt 8"/>
          <p:cNvSpPr txBox="1"/>
          <p:nvPr/>
        </p:nvSpPr>
        <p:spPr>
          <a:xfrm>
            <a:off x="900000" y="2133720"/>
            <a:ext cx="76312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1332000" y="1413000"/>
            <a:ext cx="69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年的圣诞之夜，孩子们就会盼望白胡子和白眉毛的圣诞老爷爷。他乘着驯鹿拉的雪橇，带着圣诞礼物，悄悄地给每个孩子送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"/>
          <p:cNvSpPr/>
          <p:nvPr/>
        </p:nvSpPr>
        <p:spPr>
          <a:xfrm>
            <a:off x="395280" y="105264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785880" y="228600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D:\My Documents\My Pictures\01300000400875125377631363248.jpg"/>
          <p:cNvPicPr/>
          <p:nvPr/>
        </p:nvPicPr>
        <p:blipFill>
          <a:blip r:embed="rId4"/>
          <a:stretch/>
        </p:blipFill>
        <p:spPr>
          <a:xfrm>
            <a:off x="3571920" y="357120"/>
            <a:ext cx="5278320" cy="5643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8"/>
          <p:cNvSpPr/>
          <p:nvPr/>
        </p:nvSpPr>
        <p:spPr>
          <a:xfrm>
            <a:off x="459720" y="857160"/>
            <a:ext cx="182628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驯 鹿 和 雪 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0"/>
          <p:cNvSpPr/>
          <p:nvPr/>
        </p:nvSpPr>
        <p:spPr>
          <a:xfrm>
            <a:off x="1187280" y="2708280"/>
            <a:ext cx="757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*25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圣诞老人的故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7"/>
          <p:cNvSpPr/>
          <p:nvPr/>
        </p:nvSpPr>
        <p:spPr>
          <a:xfrm>
            <a:off x="1547640" y="1484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0"/>
          <p:cNvSpPr/>
          <p:nvPr/>
        </p:nvSpPr>
        <p:spPr>
          <a:xfrm>
            <a:off x="1619280" y="299736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1000080" y="3286080"/>
            <a:ext cx="7000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1152360" y="3438360"/>
            <a:ext cx="7000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826920" y="148428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自由读课文，要求：读准字音，读通句子，自学生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边读边思：圣诞老人的故乡在哪里？口头填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芬兰的儿童故事大王告诉孩子们，圣诞老人就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能听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芬兰还有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今，圣诞老人用电脑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571680" y="714240"/>
            <a:ext cx="32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学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571680" y="1628640"/>
            <a:ext cx="8143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1403280" y="1844640"/>
            <a:ext cx="67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圣诞    驯鹿   雪橇   礼物   附近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扮    迎接   招呼   电脑  俄罗斯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竖着   玛尔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928800" y="249228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29080" y="112680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826920" y="1571760"/>
            <a:ext cx="753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芬兰的儿童故事大王告诉孩子们，圣诞老人就住在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耳朵山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能听到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世界各地小朋友的心声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芬兰还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圣诞老人村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如今，圣诞老人用电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处理世界各地的来信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684360" y="1844640"/>
            <a:ext cx="77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684360" y="1285920"/>
            <a:ext cx="46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各地的小朋友会对圣诞老人说些什么呢？他们在信中会写些什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D:\My Documents\My Pictures\u=2908295864,2298075187&amp;fm=0&amp;gp=0.jpg"/>
          <p:cNvPicPr/>
          <p:nvPr/>
        </p:nvPicPr>
        <p:blipFill>
          <a:blip r:embed="rId4"/>
          <a:stretch/>
        </p:blipFill>
        <p:spPr>
          <a:xfrm>
            <a:off x="5429160" y="428760"/>
            <a:ext cx="335772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08-02T09:17:56Z</dcterms:modified>
  <cp:revision>128</cp:revision>
  <dc:subject/>
  <dc:title>PowerPoint Presentation</dc:title>
</cp:coreProperties>
</file>