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chimes.wav" ContentType="audio/x-wav"/>
  <Override PartName="/ppt/media/image6.jpeg" ContentType="image/jpeg"/>
  <Override PartName="/ppt/media/image11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B290-790A-499F-BAC0-EA655A5E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98A5-D75D-4781-8A57-C3540DD5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956E-E794-4B0C-9062-F8917646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0D93-0219-4BEB-A38A-778EA160E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46BC-38AC-4C8B-BE30-A392F89D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5108-3143-45B5-9EB3-312C5FCD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E5F6-B9B4-4C39-8DE7-99FC192A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DD26-6857-4A2D-BBA6-0CFB4BC8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37BA-2FD4-4D12-8CD8-389AF035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85CA-28F1-4C85-BE74-7D93A45C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C844-FA5C-40FE-9037-86F07251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4BC8-D14D-4B6E-B572-BA609034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6B33-94B9-44B6-961D-5107AA330CCA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000" y="1773360"/>
            <a:ext cx="68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00000"/>
                </a:solidFill>
                <a:latin typeface="黑体"/>
                <a:ea typeface="楷体_GB2312"/>
              </a:rPr>
              <a:t>冀教版小学</a:t>
            </a:r>
            <a:r>
              <a:rPr b="1" lang="zh-CN" sz="7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语文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886720" y="5661000"/>
            <a:ext cx="17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262626"/>
                </a:solidFill>
                <a:latin typeface="黑体"/>
                <a:ea typeface="黑体"/>
              </a:rPr>
              <a:t>三年级 上册</a:t>
            </a:r>
            <a:r>
              <a:rPr b="1" lang="en-US" sz="2800" spc="-1" strike="noStrike">
                <a:solidFill>
                  <a:srgbClr val="26262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914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9480"/>
            <a:ext cx="3429000" cy="50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就义诗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夏明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砍头不要紧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只要主义真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杀了夏明翰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还有后来人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299736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主义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指马克思列宁主义，是引导劳苦人民求解放争自由的革命真理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5105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后来人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指无数后继的革命者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5280" y="907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就义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为正义事业而遭到杀害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533520"/>
            <a:ext cx="8610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赏析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】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血肉凝成的诗篇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1" lang="en-US" sz="1800" spc="-1" strike="noStrike">
                <a:solidFill>
                  <a:srgbClr val="007a77"/>
                </a:solidFill>
                <a:latin typeface="宋体"/>
              </a:rPr>
              <a:t>1928</a:t>
            </a:r>
            <a:r>
              <a:rPr b="1" lang="zh-CN" sz="1800" spc="-1" strike="noStrike">
                <a:solidFill>
                  <a:srgbClr val="007a77"/>
                </a:solidFill>
                <a:latin typeface="宋体"/>
              </a:rPr>
              <a:t>年初，由于叛徒的出卖，夏明翰同志被捕了。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宋体"/>
              </a:rPr>
              <a:t>　　在狱中敌人先是企图收买他，但他毅然回答说：“办不到。可以牺牲我的生命，决不放弃我的信仰。”敌人又对他严刑拷打，他宁死不屈，敌人无计可施，恼羞成怒，终于杀害了夏明翰同志。临刑前，凶手问他有无遗言，他挥笔疾书，写下了这首气壮山河的诗篇。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宋体"/>
              </a:rPr>
              <a:t>　　这是一首五言诗。诗的前两句“砍头不要紧，只要主义真”，充分表达了一个共产党员为真理、为理想视死如归的英雄气概，一个革命者对人民、对革命事业的赤子丹心，闪烁于诗的字里行间。后两句“杀了夏明翰，还有后来人”，表达了作者对前途乐观，对革命必胜的坚定信念。他坚信：自己的血不会白流，无数革命志士会接过他的枪，继续战斗，去迎接灿烂的黎明，被压迫的人民一定能够获得解放，社会主义、共产主义一定能实现。读罢此诗，我们仿佛看到作者面对死亡大义凛然的英雄气概，以及怀着对同志的期盼和对革命事业的坚定信心昂首阔步走向刑场。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宋体"/>
              </a:rPr>
              <a:t>　　这首诗的特点：一是语言朴素，没有华丽的词句，明白如话，节奏明快，铿锵有力，读来琅琅上口，使人易读易记，成为一首广为传诵的短诗。二是字里行间道出了作者的肺腑之言。古人说“诗言志”，诗是真实感情的流露。通过这首诗，我们能够听到作者崇高的心声，它不是一般的诗，而是用血肉凝成的诗篇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楷体_GB2312"/>
              </a:rPr>
              <a:t>你觉得夏明翰是一个怎样的人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396072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3640" y="1125360"/>
            <a:ext cx="6210360" cy="4140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557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ff"/>
                </a:solidFill>
                <a:latin typeface="宋体"/>
              </a:rPr>
              <a:t>21 </a:t>
            </a:r>
            <a:r>
              <a:rPr b="1" lang="zh-CN" sz="5400" spc="-1" strike="noStrike">
                <a:solidFill>
                  <a:srgbClr val="3366ff"/>
                </a:solidFill>
                <a:latin typeface="宋体"/>
              </a:rPr>
              <a:t>诗 二 首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685800"/>
            <a:ext cx="272088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夏日绝句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李清照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生当作人杰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死亦为鬼雄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至今思项羽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肯过江东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17524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杰：人中的豪杰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汉高祖曾称赞开国功臣张良、萧何、韩信是“人杰”。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8195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鬼雄：鬼中的英雄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屈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国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“身既死兮神以灵，魂魄毅兮为鬼雄。”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8136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项羽（公元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2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：秦末下相（今江苏宿迁）人。曾领导起义军消灭秦军主力，自立为西楚霸王。后被刘邦打败，突围至乌江（在今安徽和县），自刎而死。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57150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江东：长江在芜湖、南京间，大体上作南北流向，故自汉初至唐，称这段江流东岸至海边的地域为“江东”，亦称吴中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32000" y="357336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诗人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人杰”“鬼雄”借指那些具有大无畏英雄气概的人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52293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  现在 想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40053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也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00400" y="2133720"/>
            <a:ext cx="5410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活着就要做人中的豪杰，为国家建功立业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死也要为国捐躯，成为鬼中的英雄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8000" y="4437000"/>
            <a:ext cx="502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们到现在还思念项羽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因他不肯偷生回江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685800"/>
            <a:ext cx="27208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夏日绝句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李清照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生当作人杰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死亦为鬼雄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至今思项羽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肯过江东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59280" y="723960"/>
            <a:ext cx="60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南宋统治者不管百姓死活，只顾自己逃命；抛弃中原河山，但求苟且偷生。因此，诗人想起了楚汉战争时期的项羽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项羽突围到乌江，乌江亭长劝他急速渡江，回到江东，重整旗鼓。项羽自己觉得无脸见江东父老，便回身苦战，杀死敌兵数百，然后自刎。诗人鞭挞南宋当权派的无耻行径，借古讽今，正气凛然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27208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356000" y="380880"/>
            <a:ext cx="440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这首诗起调高亢，鲜明地提出了人生的价值取向：人活着就要作人中的豪杰，为国家建功立业；死也要为国捐躯，成为鬼中的英雄。爱国激情，溢于言表，在当时确有振聋发聩的作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3573360" cy="3457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5280" y="4076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这首诗是诗人的心声。如此慷慨雄健、掷地有声的诗篇，出自女性之手，实在是压倒须眉了。</a:t>
            </a: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372360" y="4292640"/>
            <a:ext cx="20048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00400" y="2276640"/>
            <a:ext cx="594360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活着就要做人中的豪杰，为国家建功立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死也要为国捐躯，成为鬼中的英雄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3640" y="4724280"/>
            <a:ext cx="5029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们到现在还思念项羽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因他不肯偷生回江东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685800"/>
            <a:ext cx="27208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夏日绝句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李 清 照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生当作人杰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死亦为鬼雄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至今思项羽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肯过江东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认识李清照，读读她的其他作品。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3132000" cy="388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348000" y="2421000"/>
            <a:ext cx="2782800" cy="3744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337440" y="2492280"/>
            <a:ext cx="280656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1371600"/>
            <a:ext cx="73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2963880" cy="4343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-1248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479840" y="-12480840"/>
          <a:ext cx="182520" cy="312894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96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夏明翰：就义诗</a:t>
                      </a:r>
                      <a:r>
                        <a:rPr b="0" lang="zh-CN" sz="11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7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7a77"/>
                          </a:solidFill>
                          <a:latin typeface="Arial"/>
                          <a:ea typeface="ˎ̥"/>
                        </a:rPr>
                        <a:t>  </a:t>
                      </a:r>
                      <a:r>
                        <a:rPr b="0" lang="zh-CN" sz="27000" spc="-1" strike="noStrike">
                          <a:solidFill>
                            <a:srgbClr val="007a77"/>
                          </a:solidFill>
                          <a:latin typeface="Arial"/>
                          <a:ea typeface="ˎ̥"/>
                        </a:rPr>
                        <a:t> </a:t>
                      </a:r>
                      <a:r>
                        <a:rPr b="0" lang="zh-CN" sz="1000" spc="-1" strike="noStrike">
                          <a:solidFill>
                            <a:srgbClr val="007a77"/>
                          </a:solidFill>
                          <a:latin typeface="Arial"/>
                          <a:ea typeface="ˎ̥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r>
                        <a:rPr b="0" lang="zh-CN" sz="1000" spc="-1" strike="noStrike">
                          <a:solidFill>
                            <a:srgbClr val="007a77"/>
                          </a:solidFill>
                          <a:latin typeface="Arial"/>
                          <a:ea typeface="ˎ̥"/>
                        </a:rPr>
                        <a:t>　　砍头不要紧，</a:t>
                      </a:r>
                      <a:endParaRPr b="0" lang="en-US" sz="1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7a77"/>
                          </a:solidFill>
                          <a:latin typeface="Arial"/>
                          <a:ea typeface="ˎ̥"/>
                        </a:rPr>
                        <a:t>　　只要主义真。 </a:t>
                      </a:r>
                      <a:endParaRPr b="0" lang="en-US" sz="1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7a77"/>
                          </a:solidFill>
                          <a:latin typeface="Arial"/>
                          <a:ea typeface="ˎ̥"/>
                        </a:rPr>
                        <a:t>　　杀了夏明翰， </a:t>
                      </a:r>
                      <a:endParaRPr b="0" lang="en-US" sz="1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7a77"/>
                          </a:solidFill>
                          <a:latin typeface="Arial"/>
                          <a:ea typeface="ˎ̥"/>
                        </a:rPr>
                        <a:t>　　还有后来人。</a:t>
                      </a:r>
                      <a:endParaRPr b="0" lang="en-US" sz="1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4481640" y="188600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70560" y="-9277200"/>
            <a:ext cx="2219040" cy="4286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-1248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79840" y="-12480840"/>
          <a:ext cx="182520" cy="312894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96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夏明翰：就义诗</a:t>
                      </a:r>
                      <a:r>
                        <a:rPr b="0" lang="zh-CN" sz="11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7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7a77"/>
                          </a:solidFill>
                          <a:latin typeface="Arial"/>
                          <a:ea typeface="ˎ̥"/>
                        </a:rPr>
                        <a:t>  </a:t>
                      </a:r>
                      <a:r>
                        <a:rPr b="0" lang="zh-CN" sz="27000" spc="-1" strike="noStrike">
                          <a:solidFill>
                            <a:srgbClr val="007a77"/>
                          </a:solidFill>
                          <a:latin typeface="Arial"/>
                          <a:ea typeface="ˎ̥"/>
                        </a:rPr>
                        <a:t> </a:t>
                      </a:r>
                      <a:r>
                        <a:rPr b="0" lang="zh-CN" sz="1000" spc="-1" strike="noStrike">
                          <a:solidFill>
                            <a:srgbClr val="007a77"/>
                          </a:solidFill>
                          <a:latin typeface="Arial"/>
                          <a:ea typeface="ˎ̥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r>
                        <a:rPr b="0" lang="zh-CN" sz="1000" spc="-1" strike="noStrike">
                          <a:solidFill>
                            <a:srgbClr val="007a77"/>
                          </a:solidFill>
                          <a:latin typeface="Arial"/>
                          <a:ea typeface="ˎ̥"/>
                        </a:rPr>
                        <a:t>　　砍头不要紧，</a:t>
                      </a:r>
                      <a:endParaRPr b="0" lang="en-US" sz="1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7a77"/>
                          </a:solidFill>
                          <a:latin typeface="Arial"/>
                          <a:ea typeface="ˎ̥"/>
                        </a:rPr>
                        <a:t>　　只要主义真。 </a:t>
                      </a:r>
                      <a:endParaRPr b="0" lang="en-US" sz="1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7a77"/>
                          </a:solidFill>
                          <a:latin typeface="Arial"/>
                          <a:ea typeface="ˎ̥"/>
                        </a:rPr>
                        <a:t>　　杀了夏明翰， </a:t>
                      </a:r>
                      <a:endParaRPr b="0" lang="en-US" sz="1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7a77"/>
                          </a:solidFill>
                          <a:latin typeface="Arial"/>
                          <a:ea typeface="ˎ̥"/>
                        </a:rPr>
                        <a:t>　　还有后来人。</a:t>
                      </a:r>
                      <a:endParaRPr b="0" lang="en-US" sz="1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4481640" y="188600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836640"/>
            <a:ext cx="586728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就义诗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ff"/>
                </a:solidFill>
                <a:latin typeface="Arial"/>
              </a:rPr>
              <a:t>夏明翰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砍头不要紧，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只要主义真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杀了夏明翰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还有后来人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06:56:14Z</dcterms:created>
  <dc:creator> </dc:creator>
  <dc:description>  </dc:description>
  <cp:keywords/>
  <dc:language>en-US</dc:language>
  <cp:lastModifiedBy>微软用户</cp:lastModifiedBy>
  <dcterms:modified xsi:type="dcterms:W3CDTF">2014-08-10T17:45:39Z</dcterms:modified>
  <cp:revision>1</cp:revision>
  <dc:subject> 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