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294-F487-445E-B11D-99375C99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33C-E1F9-4447-A65D-68D2F64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5C8-6949-4039-8E05-7573A81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F19-19C0-44DE-92BD-02B14170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462E-40AB-4D99-9F93-B03F6F49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EE6B-DD85-4D33-9C3D-257D154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C24-810A-4C20-98B8-C632DD9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B6F-8D90-436D-AF21-9E75DDB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8B2-B030-4D92-9424-CFBDBFCF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410-B620-416B-AD45-CC17B78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7BD4-2798-4774-BB57-5C5E6F1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686-F9C7-40CC-931A-FBD5B3F3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04AF-7E63-4B49-8281-CF44206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738-F6B0-4B89-BF17-33A26F6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45F-9B6E-4BB2-A7E9-6A4398D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1203-119F-4070-B3EE-C6892522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FED8-7E34-4018-90CF-5C71C1CD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116-6D17-45D4-BDCC-69B9597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FD0-4FCE-43AC-93D0-D833216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4A4-5DA2-44EA-914D-D4533B46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EFA-3747-4885-92EF-038E074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A30-28C2-47E8-A624-6F3510A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7B5-8830-43E1-B72F-EE16ADF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4ED-3AA7-48D3-A483-A2C7F73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9BC-06D2-480C-A36A-EB5DB7C681B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7755-35C3-4E17-9BAC-AB012672F10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00200" y="52578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02904"/>
                </a:solidFill>
                <a:latin typeface="Times New Roman"/>
                <a:ea typeface="楷体_GB2312"/>
              </a:rPr>
              <a:t>孙中山破陋习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24382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a02904"/>
                </a:solidFill>
                <a:latin typeface="Times New Roman"/>
                <a:ea typeface="华文新魏"/>
              </a:rPr>
              <a:t>孙中山破陋习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0a9e"/>
                </a:solidFill>
                <a:latin typeface="Times New Roman"/>
                <a:ea typeface="华文行楷"/>
              </a:rPr>
              <a:t>苏教版语文第五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267e"/>
                </a:solidFill>
                <a:latin typeface="Times New Roman"/>
                <a:ea typeface="华文新魏"/>
              </a:rPr>
              <a:t>执教：汊河学校  高年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1341360"/>
            <a:ext cx="831960" cy="54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865080" cy="54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58920" y="4724280"/>
            <a:ext cx="323640" cy="21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323640" cy="218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187280" y="5805360"/>
            <a:ext cx="1873440" cy="50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203640" y="3933720"/>
            <a:ext cx="1873080" cy="50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2209680"/>
            <a:ext cx="7925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14972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90792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98100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孙中山又是生气又是心疼，便对妈妈说：“你为啥要姐姐受这份罪呢？姐姐缠了脚，还能下田干活吗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227664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2852640"/>
            <a:ext cx="763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50028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3573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妈妈叹了口气说：“孩子，我也知道缠小脚不好，可这是祖宗传下来的呀！女孩子不缠小脚会被人家笑话的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348000" y="5950080"/>
            <a:ext cx="32400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87280" y="162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　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“既然知道缠小脚不好，就不该去做。别人笑话怕什么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716280"/>
            <a:ext cx="73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　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“你年纪小，还不懂得这些事。”妈妈含着眼泪把孙中山推出了房门</a:t>
            </a:r>
            <a:r>
              <a:rPr b="1" lang="zh-CN" sz="4000" spc="-1" strike="noStrike" baseline="26000">
                <a:solidFill>
                  <a:srgbClr val="1c1c1c"/>
                </a:solidFill>
                <a:latin typeface="Times New Roman"/>
                <a:ea typeface="华文楷体"/>
              </a:rPr>
              <a:t>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1628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　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“既然知道缠小脚不好，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楷体"/>
              </a:rPr>
              <a:t>就不该去做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。别人笑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楷体"/>
              </a:rPr>
              <a:t>怕什么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3716280"/>
            <a:ext cx="73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　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“你年纪小，还不懂得这些事。”妈妈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楷体"/>
              </a:rPr>
              <a:t>含着眼泪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把孙中山推出了房门</a:t>
            </a:r>
            <a:r>
              <a:rPr b="1" lang="zh-CN" sz="4000" spc="-1" strike="noStrike" baseline="26000">
                <a:solidFill>
                  <a:srgbClr val="1c1c1c"/>
                </a:solidFill>
                <a:latin typeface="Times New Roman"/>
                <a:ea typeface="华文楷体"/>
              </a:rPr>
              <a:t>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2016360" cy="506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76360" y="2708280"/>
            <a:ext cx="2087640" cy="50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557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以后的几个月，孙中山再也没有看到姐姐的笑脸，再也没有听到姐姐的歌声。这件事深深地刺痛了他幼小的心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17733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773360"/>
            <a:ext cx="792000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比较句子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、这件事刺痛了他的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、这件事深深地刺痛了他幼小的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7733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773360"/>
            <a:ext cx="792000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比较句子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、这件事刺痛了他的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、这件事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深深地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刺痛了他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幼小的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2016360" cy="506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476360" y="2708280"/>
            <a:ext cx="2087640" cy="506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2000" y="1557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以后的几个月，孙中山再也没有看到姐姐的笑脸，再也没有听到姐姐的歌声。这件事</a:t>
            </a: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深深地</a:t>
            </a:r>
            <a:r>
              <a:rPr b="0" lang="zh-CN" sz="44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刺痛了他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幼小的</a:t>
            </a:r>
            <a:r>
              <a:rPr b="0" lang="zh-CN" sz="4400" spc="-1" strike="noStrike">
                <a:solidFill>
                  <a:srgbClr val="1c1c1c"/>
                </a:solidFill>
                <a:latin typeface="Times New Roman"/>
                <a:ea typeface="华文楷体"/>
              </a:rPr>
              <a:t>心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447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孙中山小时候很喜欢自己的姐姐。当时孙中山的家里很穷，他的姐姐一点儿也不怕吃苦，洗衣、烧饭、插秧、挑柴，样样活儿都干。空闲时，姐姐就陪孙中山一起玩。孙中山最爱听姐姐唱歌，姐姐也经常唱给他听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1447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孙中山小时候很喜欢自己的姐姐。当时孙中山的家里很穷，他的姐姐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</a:rPr>
              <a:t>一点儿也不怕吃苦，洗衣、烧饭、插秧、挑柴，样样活儿都干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。空闲时，姐姐就陪孙中山一起玩。孙中山最爱听姐姐唱歌，姐姐也经常唱给他听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447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孙中山小时候很喜欢自己的姐姐。当时孙中山的家里很穷，他的姐姐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</a:rPr>
              <a:t>一点儿也不怕吃苦，洗衣、烧饭、插秧、挑柴，样样活儿都干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空闲时，姐姐就陪孙中山一起玩。孙中山最爱听姐姐唱歌，姐姐也经常唱给他听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1447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孙中山小时候很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喜欢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自己的姐姐。当时孙中山的家里很穷，他的姐姐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</a:rPr>
              <a:t>一点儿也不怕吃苦，洗衣、烧饭、插秧、挑柴，样样活儿都干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空闲时，姐姐就陪孙中山一起玩。孙中山最爱听姐姐唱歌，姐姐也经常唱给他听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03280" y="184464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一天，孙中山从外面回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看见妈妈正在用一根长长的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条，一道又一道地给姐姐缠足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姐姐痛苦极了，眼泪直往下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03280" y="184464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一天，孙中山从外面回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看见妈妈正在用一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长的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条，一道又一道地给姐姐缠足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姐姐痛苦极了，眼泪直往下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184464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一天，孙中山从外面回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看见妈妈正在用一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长的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条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道又一道地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给姐姐缠足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姐姐痛苦极了，眼泪直往下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03280" y="184464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一天，孙中山从外面回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看见妈妈正在用一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长的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条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道又一道地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给姐姐缠足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姐姐痛苦极了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眼泪直往下流</a:t>
            </a:r>
            <a:r>
              <a:rPr b="1" lang="zh-CN" sz="4000" spc="-1" strike="noStrike">
                <a:solidFill>
                  <a:srgbClr val="38356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1:58:30Z</dcterms:created>
  <dc:creator/>
  <dc:description/>
  <dc:language>en-US</dc:language>
  <cp:lastModifiedBy/>
  <dcterms:modified xsi:type="dcterms:W3CDTF">2007-10-18T08:22:21Z</dcterms:modified>
  <cp:revision>20</cp:revision>
  <dc:subject/>
  <dc:title/>
</cp:coreProperties>
</file>