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41B-53D5-46D7-A2A7-00394E76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788688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8560" y="3886920"/>
            <a:ext cx="788688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CED-C124-485E-BB2D-D704D9FE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560" y="388692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0280" y="388692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3F2-7F7C-4BE2-9020-2F3A7A53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95440" y="143820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2320" y="143820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28560" y="388692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95440" y="388692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2320" y="388692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C97-CFE2-46B1-B449-7A79FE2B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B7C8-D3A7-4F9D-B4FB-0B069812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28560" y="1438200"/>
            <a:ext cx="78868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3F81-54F3-4CF2-9E7E-70C641E0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7886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2544-8F0D-44AF-A24D-643341E5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CFE3-8F1D-4115-8EFB-EE4C2F27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67E5-0C37-4AD4-A297-4AC249A4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6CA6-625F-42DA-A890-D5EAAC02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388692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91E2-5C95-4BD7-8CCC-5EE353BD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28560" y="1438200"/>
            <a:ext cx="78868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C1E-CFE8-4578-A06C-7B291346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388692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8CBF-E6C9-49A3-82CF-ABF0A53D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3886920"/>
            <a:ext cx="788688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267C-4BDE-4D6D-8981-523ACB02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788688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8560" y="3886920"/>
            <a:ext cx="788688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6958-D9F0-406A-8EAC-AAFDE770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8560" y="388692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388692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88D2-D778-4F75-BEE7-7029B81F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95440" y="143820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2320" y="143820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8560" y="388692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95440" y="388692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2320" y="388692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993B-2D1A-4FED-A72F-8B633345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144A-C65C-4DE3-8F69-4D9B509E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28560" y="1438200"/>
            <a:ext cx="78868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89563-97C4-4EA7-813B-BA8A765F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7886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BB6FB-DE0C-478A-9415-DCA7FA2C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A2BD-C42E-47C0-BF32-42AD6D34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CF3D1-9CCD-477E-BBFC-5B0041E0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7886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FC6-70F5-4952-8366-57976911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A49A6-B7DD-45EA-B3F5-B5BC8721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388692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B0C5A-ECEE-40BE-A497-E6A92357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0280" y="388692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FB210-334C-42DD-B7D2-12CFFDEB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8560" y="3886920"/>
            <a:ext cx="788688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7FACC-E886-4F28-A1F6-41D8B5D9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788688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8560" y="3886920"/>
            <a:ext cx="788688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D180C-4173-4EA7-967F-0AE96D12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8560" y="388692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0280" y="388692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74CB-2E73-48E1-8641-E7985B2E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95440" y="143820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62320" y="143820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28560" y="388692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95440" y="388692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62320" y="388692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4FF8E-8880-4852-95B1-5B075490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D4EAD-1F1A-4B7D-B3BC-3C9D9DC6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28560" y="1438200"/>
            <a:ext cx="78868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25C6-2237-433D-A9F8-D193BB5E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7886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7E286-0901-41AF-8AED-7E52EF24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6D6-79B8-4D7A-85AE-2849109D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04426-3567-4462-A7CB-C760BB23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F0E6D-D6F0-4A2E-A986-C285FC5D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3BF4F-806E-42DF-B66E-D91DA272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388692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70A7-5A44-4552-A3A4-8F6857FC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0280" y="388692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B2ED6-23DC-470C-917E-AC37179C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8560" y="3886920"/>
            <a:ext cx="788688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F48E9-5A0E-409B-B22D-9064F804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788688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8560" y="3886920"/>
            <a:ext cx="788688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AFBFE-E5EE-4E5C-A60B-A14F4648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8560" y="388692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0280" y="388692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F2CB5-9382-4460-AA6D-0B741322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95440" y="143820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62320" y="143820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28560" y="388692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95440" y="388692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62320" y="3886920"/>
            <a:ext cx="253944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843C3-D652-49F1-AACB-312C0735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FE2-8E5B-445B-A24C-8F782787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D24-EE90-477F-BB7D-2CE396F6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8560" y="388692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899-98D8-46AD-8006-5A18491A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0280" y="388692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822-A8E9-4E9F-A1A5-5F2F3B75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438200"/>
            <a:ext cx="384876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8560" y="3886920"/>
            <a:ext cx="7886880" cy="22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3F2-0E36-43DC-AB37-6F08B964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480" y="6703920"/>
            <a:ext cx="9156600" cy="154080"/>
            <a:chOff x="6480" y="6703920"/>
            <a:chExt cx="9156600" cy="154080"/>
          </a:xfrm>
        </p:grpSpPr>
        <p:sp>
          <p:nvSpPr>
            <p:cNvPr id="1" name="Rectangle 3"/>
            <p:cNvSpPr/>
            <p:nvPr/>
          </p:nvSpPr>
          <p:spPr>
            <a:xfrm>
              <a:off x="6480" y="6705720"/>
              <a:ext cx="1829880" cy="152280"/>
            </a:xfrm>
            <a:prstGeom prst="rect">
              <a:avLst/>
            </a:prstGeom>
            <a:solidFill>
              <a:srgbClr val="fb2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836360" y="6705720"/>
              <a:ext cx="1830960" cy="152280"/>
            </a:xfrm>
            <a:prstGeom prst="rect">
              <a:avLst/>
            </a:prstGeom>
            <a:solidFill>
              <a:srgbClr val="00b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5500080" y="6703920"/>
              <a:ext cx="1830960" cy="152280"/>
            </a:xfrm>
            <a:prstGeom prst="rect">
              <a:avLst/>
            </a:prstGeom>
            <a:solidFill>
              <a:srgbClr val="921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7331400" y="6703920"/>
              <a:ext cx="1831680" cy="152280"/>
            </a:xfrm>
            <a:prstGeom prst="rect">
              <a:avLst/>
            </a:prstGeom>
            <a:solidFill>
              <a:srgbClr val="f9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3667320" y="6704280"/>
              <a:ext cx="1832400" cy="153000"/>
            </a:xfrm>
            <a:prstGeom prst="rect">
              <a:avLst/>
            </a:prstGeom>
            <a:solidFill>
              <a:srgbClr val="fb2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28560" y="1438200"/>
            <a:ext cx="7886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2E8B-8698-4985-ACB9-1E9B18393E7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F114-8068-4961-ADB2-FC22191C7B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adadada"/>
          <p:cNvPicPr/>
          <p:nvPr/>
        </p:nvPicPr>
        <p:blipFill>
          <a:blip r:embed="rId2"/>
          <a:stretch/>
        </p:blipFill>
        <p:spPr>
          <a:xfrm>
            <a:off x="0" y="0"/>
            <a:ext cx="9144000" cy="42210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3"/>
          <p:cNvGrpSpPr/>
          <p:nvPr/>
        </p:nvGrpSpPr>
        <p:grpSpPr>
          <a:xfrm>
            <a:off x="679320" y="5170320"/>
            <a:ext cx="5873400" cy="76320"/>
            <a:chOff x="679320" y="5170320"/>
            <a:chExt cx="5873400" cy="76320"/>
          </a:xfrm>
        </p:grpSpPr>
        <p:sp>
          <p:nvSpPr>
            <p:cNvPr id="49" name="Rectangle 4"/>
            <p:cNvSpPr/>
            <p:nvPr/>
          </p:nvSpPr>
          <p:spPr>
            <a:xfrm>
              <a:off x="679320" y="5171400"/>
              <a:ext cx="1173600" cy="75240"/>
            </a:xfrm>
            <a:prstGeom prst="rect">
              <a:avLst/>
            </a:prstGeom>
            <a:solidFill>
              <a:srgbClr val="fb2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5"/>
            <p:cNvSpPr/>
            <p:nvPr/>
          </p:nvSpPr>
          <p:spPr>
            <a:xfrm>
              <a:off x="1852920" y="5171400"/>
              <a:ext cx="1174680" cy="75240"/>
            </a:xfrm>
            <a:prstGeom prst="rect">
              <a:avLst/>
            </a:prstGeom>
            <a:solidFill>
              <a:srgbClr val="00b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4203000" y="5170320"/>
              <a:ext cx="1174680" cy="75240"/>
            </a:xfrm>
            <a:prstGeom prst="rect">
              <a:avLst/>
            </a:prstGeom>
            <a:solidFill>
              <a:srgbClr val="921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5377680" y="5170320"/>
              <a:ext cx="1175040" cy="75240"/>
            </a:xfrm>
            <a:prstGeom prst="rect">
              <a:avLst/>
            </a:prstGeom>
            <a:solidFill>
              <a:srgbClr val="f9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3027600" y="5170680"/>
              <a:ext cx="1175040" cy="75240"/>
            </a:xfrm>
            <a:prstGeom prst="rect">
              <a:avLst/>
            </a:prstGeom>
            <a:solidFill>
              <a:srgbClr val="fb2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28560" y="1438200"/>
            <a:ext cx="7886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DA44-E69E-4EAF-9CD6-C5EAA3F0C58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F8F4-854D-44E7-B292-272D18B1B1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asda"/>
          <p:cNvPicPr/>
          <p:nvPr/>
        </p:nvPicPr>
        <p:blipFill>
          <a:blip r:embed="rId2"/>
          <a:stretch/>
        </p:blipFill>
        <p:spPr>
          <a:xfrm>
            <a:off x="54000" y="1212840"/>
            <a:ext cx="2928960" cy="1465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0" y="2570040"/>
            <a:ext cx="9150480" cy="1449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#wm#_51_07_*Z"/>
          <p:cNvPicPr/>
          <p:nvPr/>
        </p:nvPicPr>
        <p:blipFill>
          <a:blip r:embed="rId3"/>
          <a:stretch/>
        </p:blipFill>
        <p:spPr>
          <a:xfrm rot="300000">
            <a:off x="6927480" y="1114200"/>
            <a:ext cx="2050920" cy="2904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438200"/>
            <a:ext cx="7886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959E-0E73-46B8-93FB-3E06C146C45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06DF-F05E-469F-A462-FEC2BFE8B5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dasda"/>
          <p:cNvPicPr/>
          <p:nvPr/>
        </p:nvPicPr>
        <p:blipFill>
          <a:blip r:embed="rId2"/>
          <a:stretch/>
        </p:blipFill>
        <p:spPr>
          <a:xfrm>
            <a:off x="54000" y="1212840"/>
            <a:ext cx="2928960" cy="1465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0" y="2570040"/>
            <a:ext cx="9150480" cy="1449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#wm#_51_07_*Z"/>
          <p:cNvPicPr/>
          <p:nvPr/>
        </p:nvPicPr>
        <p:blipFill>
          <a:blip r:embed="rId3"/>
          <a:stretch/>
        </p:blipFill>
        <p:spPr>
          <a:xfrm rot="300000">
            <a:off x="6927480" y="1114200"/>
            <a:ext cx="2050920" cy="29048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28560" y="1438200"/>
            <a:ext cx="7886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3C60-79E0-4EFA-B780-F77D15FC7B1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D40D-DFFD-49FA-AD71-D3EB2E342D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b1"/>
          <p:cNvPicPr/>
          <p:nvPr/>
        </p:nvPicPr>
        <p:blipFill>
          <a:blip r:embed="rId1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b6"/>
          <p:cNvPicPr/>
          <p:nvPr/>
        </p:nvPicPr>
        <p:blipFill>
          <a:blip r:embed="rId2"/>
          <a:stretch/>
        </p:blipFill>
        <p:spPr>
          <a:xfrm>
            <a:off x="753588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b2"/>
          <p:cNvPicPr/>
          <p:nvPr/>
        </p:nvPicPr>
        <p:blipFill>
          <a:blip r:embed="rId3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b3"/>
          <p:cNvPicPr/>
          <p:nvPr/>
        </p:nvPicPr>
        <p:blipFill>
          <a:blip r:embed="rId4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b4"/>
          <p:cNvPicPr/>
          <p:nvPr/>
        </p:nvPicPr>
        <p:blipFill>
          <a:blip r:embed="rId5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b5"/>
          <p:cNvPicPr/>
          <p:nvPr/>
        </p:nvPicPr>
        <p:blipFill>
          <a:blip r:embed="rId6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189" name="WordArt 10"/>
          <p:cNvSpPr txBox="1"/>
          <p:nvPr/>
        </p:nvSpPr>
        <p:spPr>
          <a:xfrm>
            <a:off x="1116000" y="2133720"/>
            <a:ext cx="6912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１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2 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天鹅的故事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0" name="WordArt 8"/>
          <p:cNvSpPr txBox="1"/>
          <p:nvPr/>
        </p:nvSpPr>
        <p:spPr>
          <a:xfrm>
            <a:off x="3414600" y="4437000"/>
            <a:ext cx="2457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第一课时</a:t>
            </a:r>
            <a:endParaRPr b="0" lang="en-US" sz="32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539640" y="1052640"/>
            <a:ext cx="813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教学目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生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。积累描写风的词语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、有感情地朗读课文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继续学习预习课文，能划出不理解的地方，想办法解决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学习，了解一群天鹅齐心协力战胜恶劣环境的故事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懂得只有齐心协力才能共度难关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20060327145225(14)_2006032714523514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1219320" y="1828800"/>
            <a:ext cx="6781680" cy="3505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R0011230"/>
          <p:cNvPicPr/>
          <p:nvPr/>
        </p:nvPicPr>
        <p:blipFill>
          <a:blip r:embed="rId5">
            <a:lum contrast="36000"/>
          </a:blip>
          <a:stretch/>
        </p:blipFill>
        <p:spPr>
          <a:xfrm>
            <a:off x="1219320" y="1828800"/>
            <a:ext cx="67816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3"/>
          <p:cNvSpPr/>
          <p:nvPr/>
        </p:nvSpPr>
        <p:spPr>
          <a:xfrm>
            <a:off x="684360" y="1413000"/>
            <a:ext cx="7834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预习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１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字音，认清字形，读通句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、划出文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啸、窟窿、胸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部首相同的词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想它们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３、划出文中不理解的地方，想办法解决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2"/>
          <p:cNvSpPr/>
          <p:nvPr/>
        </p:nvSpPr>
        <p:spPr>
          <a:xfrm>
            <a:off x="1966320" y="1197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１、字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6" descr="田字格"/>
          <p:cNvPicPr/>
          <p:nvPr/>
        </p:nvPicPr>
        <p:blipFill>
          <a:blip r:embed="rId4"/>
          <a:stretch/>
        </p:blipFill>
        <p:spPr>
          <a:xfrm>
            <a:off x="1187280" y="2492280"/>
            <a:ext cx="3024360" cy="302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9" name="Text Box 14"/>
          <p:cNvSpPr/>
          <p:nvPr/>
        </p:nvSpPr>
        <p:spPr>
          <a:xfrm>
            <a:off x="1768680" y="2276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啸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8" descr="田字格"/>
          <p:cNvPicPr/>
          <p:nvPr/>
        </p:nvPicPr>
        <p:blipFill>
          <a:blip r:embed="rId5"/>
          <a:stretch/>
        </p:blipFill>
        <p:spPr>
          <a:xfrm>
            <a:off x="5148360" y="2492280"/>
            <a:ext cx="3024000" cy="302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1" name="Text Box 17"/>
          <p:cNvSpPr/>
          <p:nvPr/>
        </p:nvSpPr>
        <p:spPr>
          <a:xfrm>
            <a:off x="5729400" y="2276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窿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4390920" y="132552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２、找出文中部首相同的词语，想想它们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1802880" y="254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呼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3617280" y="254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窟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5509440" y="254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胸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755640" y="285264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所以一只老天鹅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群天鹅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53964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３、思考课文讲述了天鹅的什么故事？它们为什么要这样做？完成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1976040" y="1558080"/>
            <a:ext cx="5727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抄写生字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括号里填上合适的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地啼叫 （       ）的天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地工作 （       ）的冰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地扑打 （       ）的叫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熟课文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1T09:33:13Z</dcterms:created>
  <dc:creator/>
  <dc:description/>
  <dc:language>en-US</dc:language>
  <cp:lastModifiedBy>Administrator</cp:lastModifiedBy>
  <dcterms:modified xsi:type="dcterms:W3CDTF">2017-02-21T09:33:32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