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9.png" ContentType="image/png"/>
  <Override PartName="/ppt/media/image44.jpeg" ContentType="image/jpeg"/>
  <Override PartName="/ppt/media/image11.png" ContentType="image/png"/>
  <Override PartName="/ppt/media/image31.png" ContentType="image/png"/>
  <Override PartName="/ppt/media/image32.png" ContentType="image/png"/>
  <Override PartName="/ppt/media/image18.gif" ContentType="image/gif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ED4-450A-4B27-A739-8CE2B514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469-E2CE-4565-9CFF-B3F5B3DC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AFC-7766-4802-8F1C-ED39AFBF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1DB-CEF3-4469-9BA5-82C17447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8EE5-7364-4128-B89B-33C9DA41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1B0-A4F8-4883-AAD0-161FA12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55E-473B-471C-B4D0-F0C88FB0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08E-09B2-4796-A88C-7150DE9C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EA62-BF8C-45C9-902F-C1312145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A47A-54A9-49AB-A1DB-AE1B0B32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8DE9-927E-4714-9F97-A99215A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AA04-BC01-4834-91F1-BB99BCEF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E8F6-8A96-45EE-8764-33BECE3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BF28-2C64-4D78-86C6-D544034E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1F01-EDB6-49B4-A13B-D1D0D655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A3F8-84F3-4CA9-BC59-EEEF01F4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911-8203-422D-9588-3491CF8C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9DF3-8F6F-4FB2-9EFC-68A3F188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CABA-EBD9-4598-BA99-0A06DBAB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0EAB-DA56-448C-A126-2B42F5BA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A368-9BD9-4612-898F-F258A0A6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D213-AD8B-43BE-936D-1A1D9E20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45E-74B8-4C03-9A8E-2C185F7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C57A-97A2-4541-B7D7-5B8B86B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2896-9A28-4547-A9FC-AB2ED4E3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B23EA-D21D-4FB4-885F-D5D14CE4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1173-46CE-4E18-B90D-B4625573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40BD-F488-412C-B2F0-1EAA05F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C334-2008-4166-BC82-A97EFEE9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344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080" y="127332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7116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344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080" y="3969360"/>
            <a:ext cx="27162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7C9B-1A40-4E47-AB31-088F931E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512-450F-40EA-B5DB-E4045E3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DB4B-3398-4913-8549-7AC7400C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1160" y="452160"/>
            <a:ext cx="843588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F28-D772-4E9E-83EC-B35575D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BC-93B4-4A27-AA98-B727539C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396936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C797-B629-4B0B-B812-36285B9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16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273320"/>
            <a:ext cx="4116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160" y="3969360"/>
            <a:ext cx="843588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445-4A8D-415F-B31B-3803A35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A768-67A4-4F34-B511-8AE4BB5F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478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43680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4E79-1F5E-4443-9F68-34F0226CE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e7139"/>
              </a:buClr>
              <a:buSzPct val="60000"/>
              <a:buFont typeface="Wingdings" charset="2"/>
              <a:buChar char="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a49e9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43454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title"/>
          </p:nvPr>
        </p:nvSpPr>
        <p:spPr>
          <a:xfrm>
            <a:off x="371160" y="452160"/>
            <a:ext cx="8435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52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B188-4F51-475E-A6F4-ADBC1C8362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71400" y="283644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e7139"/>
                </a:solidFill>
                <a:latin typeface="华文中宋"/>
              </a:rPr>
              <a:t>Click to edit the title text format</a:t>
            </a:r>
            <a:endParaRPr b="1" lang="en-US" sz="44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434547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434547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434547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434547"/>
              </a:solidFill>
              <a:latin typeface="Times New Roman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5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  <a:p>
            <a:pPr lvl="6" marL="1371600">
              <a:spcBef>
                <a:spcPts val="326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34547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43454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gif"/><Relationship Id="rId18" Type="http://schemas.openxmlformats.org/officeDocument/2006/relationships/image" Target="../media/image19.png"/><Relationship Id="rId19" Type="http://schemas.openxmlformats.org/officeDocument/2006/relationships/audio" Target="file:///tmp/home/.config/libreoffice/4/user/gallery/&#32650;&#21483;.wav" TargetMode="External"/><Relationship Id="rId20" Type="http://schemas.microsoft.com/office/2007/relationships/media" Target="file:///tmp/home/.config/libreoffice/4/user/gallery/&#32650;&#21483;.wav" TargetMode="External"/><Relationship Id="rId21" Type="http://schemas.openxmlformats.org/officeDocument/2006/relationships/image" Target="../media/image20.png"/><Relationship Id="rId22" Type="http://schemas.openxmlformats.org/officeDocument/2006/relationships/audio" Target="file:///tmp/home/.config/libreoffice/4/user/gallery/&#29436;&#21483;.wav" TargetMode="External"/><Relationship Id="rId23" Type="http://schemas.microsoft.com/office/2007/relationships/media" Target="file:///tmp/home/.config/libreoffice/4/user/gallery/&#29436;&#21483;.wav" TargetMode="External"/><Relationship Id="rId24" Type="http://schemas.openxmlformats.org/officeDocument/2006/relationships/image" Target="../media/image20.png"/><Relationship Id="rId2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21.png"/><Relationship Id="rId18" Type="http://schemas.openxmlformats.org/officeDocument/2006/relationships/image" Target="../media/image19.png"/><Relationship Id="rId19" Type="http://schemas.openxmlformats.org/officeDocument/2006/relationships/audio" Target="file:///tmp/home/.config/libreoffice/4/user/gallery/chimes.wav" TargetMode="External"/><Relationship Id="rId20" Type="http://schemas.microsoft.com/office/2007/relationships/media" Target="file:///tmp/home/.config/libreoffice/4/user/gallery/chimes.wav" TargetMode="External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audio" Target="file:///tmp/home/.config/libreoffice/4/user/gallery/coin.wav" TargetMode="External"/><Relationship Id="rId15" Type="http://schemas.microsoft.com/office/2007/relationships/media" Target="file:///tmp/home/.config/libreoffice/4/user/gallery/coin.wav" TargetMode="External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8.gif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30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6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24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8.gif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8.gif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8.gif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8.gif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8.gif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8.gif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9.png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8.gif"/><Relationship Id="rId18" Type="http://schemas.openxmlformats.org/officeDocument/2006/relationships/image" Target="../media/image19.png"/><Relationship Id="rId19" Type="http://schemas.openxmlformats.org/officeDocument/2006/relationships/audio" Target="file:///tmp/home/.config/libreoffice/4/user/gallery/type.wav" TargetMode="External"/><Relationship Id="rId20" Type="http://schemas.microsoft.com/office/2007/relationships/media" Target="file:///tmp/home/.config/libreoffice/4/user/gallery/type.wav" TargetMode="External"/><Relationship Id="rId21" Type="http://schemas.openxmlformats.org/officeDocument/2006/relationships/image" Target="../media/image20.png"/><Relationship Id="rId22" Type="http://schemas.openxmlformats.org/officeDocument/2006/relationships/audio" Target="file:///tmp/home/.config/libreoffice/4/user/gallery/hammer.wav" TargetMode="External"/><Relationship Id="rId23" Type="http://schemas.microsoft.com/office/2007/relationships/media" Target="file:///tmp/home/.config/libreoffice/4/user/gallery/hammer.wav" TargetMode="External"/><Relationship Id="rId24" Type="http://schemas.openxmlformats.org/officeDocument/2006/relationships/image" Target="../media/image20.png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32000" y="2349360"/>
            <a:ext cx="3353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亡羊补牢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9343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156360" y="4365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284720" y="42210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861080" y="357336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-252360" y="522936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1835280" y="530064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250920" y="450864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 rot="288600">
            <a:off x="1763640" y="3357360"/>
            <a:ext cx="3505320" cy="1919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61760" y="7153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14345"/>
                </a:solidFill>
                <a:latin typeface="Arial"/>
              </a:rPr>
              <a:t>主讲人：徐秀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752480" y="30970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371600" y="48006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62920" y="1752480"/>
            <a:ext cx="1676160" cy="1606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4191120" y="2057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2666880" y="1905120"/>
            <a:ext cx="2210040" cy="160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048120" y="38098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5638680" y="3048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45720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685800" y="2133720"/>
            <a:ext cx="2819520" cy="1542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304920" y="1143000"/>
            <a:ext cx="2133360" cy="1168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0" y="4572000"/>
            <a:ext cx="2914560" cy="2119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3429000" y="8380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6019920" y="12952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1447920" y="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3200400" y="-304920"/>
            <a:ext cx="7810560" cy="6137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93250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>
            <a:lum bright="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52480" y="30970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1371600" y="48006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7162920" y="1752480"/>
            <a:ext cx="1676160" cy="1606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4191120" y="2057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2971800" y="274320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3886200" y="4267080"/>
            <a:ext cx="3505320" cy="191952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228600" y="762120"/>
            <a:ext cx="8153280" cy="4952880"/>
            <a:chOff x="228600" y="762120"/>
            <a:chExt cx="8153280" cy="4952880"/>
          </a:xfrm>
        </p:grpSpPr>
        <p:pic>
          <p:nvPicPr>
            <p:cNvPr id="219" name="" descr=""/>
            <p:cNvPicPr/>
            <p:nvPr/>
          </p:nvPicPr>
          <p:blipFill>
            <a:blip r:embed="rId10"/>
            <a:stretch/>
          </p:blipFill>
          <p:spPr>
            <a:xfrm>
              <a:off x="3276720" y="1905120"/>
              <a:ext cx="2209680" cy="16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4876920" y="3429000"/>
              <a:ext cx="3504960" cy="19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2"/>
            <a:stretch/>
          </p:blipFill>
          <p:spPr>
            <a:xfrm>
              <a:off x="380880" y="2129040"/>
              <a:ext cx="281952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3"/>
            <a:stretch/>
          </p:blipFill>
          <p:spPr>
            <a:xfrm>
              <a:off x="228600" y="1219320"/>
              <a:ext cx="213372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4"/>
            <a:stretch/>
          </p:blipFill>
          <p:spPr>
            <a:xfrm>
              <a:off x="1657440" y="3595680"/>
              <a:ext cx="291456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5"/>
            <a:stretch/>
          </p:blipFill>
          <p:spPr>
            <a:xfrm>
              <a:off x="4724280" y="762120"/>
              <a:ext cx="198144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6019920" y="12952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990720" y="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1905120" y="-228600"/>
            <a:ext cx="7810560" cy="6137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-9144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08000" y="-3338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 rot="19971600">
            <a:off x="2916360" y="-17136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324000" y="-31428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 rot="20397600">
            <a:off x="3995280" y="3284280"/>
            <a:ext cx="6318360" cy="5616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934320" y="44370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516720" y="458136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9343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1547640" y="836640"/>
            <a:ext cx="6286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924360" y="3213000"/>
            <a:ext cx="6462720" cy="4281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300720" y="458136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3"/>
          <a:stretch/>
        </p:blipFill>
        <p:spPr>
          <a:xfrm>
            <a:off x="6372360" y="40464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3708360" y="3141720"/>
            <a:ext cx="6696000" cy="4281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5334120" y="-228600"/>
            <a:ext cx="2590560" cy="1884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86440" y="380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半夜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578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9"/>
          <a:stretch/>
        </p:blipFill>
        <p:spPr>
          <a:xfrm>
            <a:off x="3492360" y="3213000"/>
            <a:ext cx="6624720" cy="4281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-1143000" y="4710240"/>
            <a:ext cx="33526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9"/>
          <a:stretch/>
        </p:blipFill>
        <p:spPr>
          <a:xfrm>
            <a:off x="3635280" y="3213000"/>
            <a:ext cx="6840720" cy="42814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732720" y="46530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609480" y="4710240"/>
            <a:ext cx="335304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3276720" y="3141720"/>
            <a:ext cx="6983280" cy="42814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2514600" y="5029200"/>
            <a:ext cx="335268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3419640" y="3141720"/>
            <a:ext cx="7127640" cy="4281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4952880" y="4253040"/>
            <a:ext cx="358164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000" y="1773000"/>
            <a:ext cx="77756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教学目标：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        </a:t>
            </a: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1</a:t>
            </a:r>
            <a:r>
              <a:rPr b="1" lang="zh-CN" sz="2400" spc="-1" strike="noStrike">
                <a:solidFill>
                  <a:srgbClr val="6c6f72"/>
                </a:solidFill>
                <a:latin typeface="幼圆"/>
              </a:rPr>
              <a:t>、有感情地朗读这则寓言。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        </a:t>
            </a: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2</a:t>
            </a:r>
            <a:r>
              <a:rPr b="1" lang="zh-CN" sz="2400" spc="-1" strike="noStrike">
                <a:solidFill>
                  <a:srgbClr val="6c6f72"/>
                </a:solidFill>
                <a:latin typeface="幼圆"/>
              </a:rPr>
              <a:t>、理解《亡羊补牢》这则寓言故事的内容，懂得做错了事要即时纠正。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幼圆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幼圆"/>
              </a:rPr>
              <a:t>教学重点、难点：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c6f72"/>
                </a:solidFill>
                <a:latin typeface="幼圆"/>
              </a:rPr>
              <a:t>        </a:t>
            </a:r>
            <a:r>
              <a:rPr b="1" lang="zh-CN" sz="2400" spc="-1" strike="noStrike">
                <a:solidFill>
                  <a:srgbClr val="6c6f72"/>
                </a:solidFill>
                <a:latin typeface="幼圆"/>
              </a:rPr>
              <a:t>引导学生在理解故事内容的基础上体会寓意，并能联系学习、生活实际，谈一谈感想。 </a:t>
            </a:r>
            <a:endParaRPr b="1" lang="en-US" sz="2400" spc="-1" strike="noStrike">
              <a:solidFill>
                <a:srgbClr val="6c6f72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9"/>
          <a:stretch/>
        </p:blipFill>
        <p:spPr>
          <a:xfrm>
            <a:off x="3348000" y="3213000"/>
            <a:ext cx="6840720" cy="42814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934320" y="46530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213372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3203640" y="3213000"/>
            <a:ext cx="6983280" cy="42814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-121932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-609480" y="22860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2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3"/>
          <a:stretch/>
        </p:blipFill>
        <p:spPr>
          <a:xfrm>
            <a:off x="1447920" y="0"/>
            <a:ext cx="3429000" cy="24940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6320" y="85680"/>
            <a:ext cx="12189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第二天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378" name=""/>
          <p:cNvSpPr/>
          <p:nvPr/>
        </p:nvSpPr>
        <p:spPr>
          <a:xfrm>
            <a:off x="3429000" y="152280"/>
            <a:ext cx="1828800" cy="152424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38088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34547"/>
                </a:solidFill>
                <a:latin typeface="Times New Roman"/>
              </a:rPr>
              <a:t>咦！羊怎么少了一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4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41911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0" y="184464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 rot="20047800">
            <a:off x="5148000" y="1915920"/>
            <a:ext cx="3047760" cy="22161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 rot="16200000">
            <a:off x="2457360" y="719280"/>
            <a:ext cx="2230560" cy="2465280"/>
          </a:xfrm>
          <a:prstGeom prst="cloudCallout">
            <a:avLst>
              <a:gd name="adj1" fmla="val -16407"/>
              <a:gd name="adj2" fmla="val 93138"/>
            </a:avLst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627280" y="981000"/>
            <a:ext cx="15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赶快把羊圈修一修，堵上那个窟窿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35812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9625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3962520" y="4038480"/>
            <a:ext cx="3504960" cy="1919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3962520" y="419112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44197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48006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2578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4800600" y="25765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395280" y="162864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2771640" y="4149720"/>
            <a:ext cx="4057920" cy="2951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 rot="274800">
            <a:off x="5435280" y="1773360"/>
            <a:ext cx="1981080" cy="2133360"/>
          </a:xfrm>
          <a:prstGeom prst="cloudCallout">
            <a:avLst>
              <a:gd name="adj1" fmla="val -54754"/>
              <a:gd name="adj2" fmla="val 78731"/>
            </a:avLst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198900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赶快堵上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个窟窿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304920"/>
            <a:ext cx="2590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cc"/>
                  </a:solidFill>
                  <a:miter/>
                </a:ln>
                <a:solidFill>
                  <a:srgbClr val="8e7139"/>
                </a:solidFill>
                <a:latin typeface="宋体"/>
              </a:rPr>
              <a:t>下午，天黑了下来。</a:t>
            </a:r>
            <a:endParaRPr b="0" lang="en-US" sz="1800" spc="-1" strike="noStrike">
              <a:ln w="9360">
                <a:solidFill>
                  <a:srgbClr val="ff66cc"/>
                </a:solidFill>
                <a:miter/>
              </a:ln>
              <a:solidFill>
                <a:srgbClr val="8e7139"/>
              </a:solidFill>
              <a:latin typeface="宋体"/>
              <a:ea typeface="宋体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2"/>
          <a:stretch/>
        </p:blipFill>
        <p:spPr>
          <a:xfrm>
            <a:off x="-5335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4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9"/>
          <a:stretch/>
        </p:blipFill>
        <p:spPr>
          <a:xfrm>
            <a:off x="3924360" y="32130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13"/>
          <a:stretch/>
        </p:blipFill>
        <p:spPr>
          <a:xfrm>
            <a:off x="-396720" y="1413000"/>
            <a:ext cx="6286320" cy="4572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 rot="479400">
            <a:off x="3494160" y="593640"/>
            <a:ext cx="2052720" cy="2311560"/>
          </a:xfrm>
          <a:prstGeom prst="cloudCallout">
            <a:avLst>
              <a:gd name="adj1" fmla="val -40875"/>
              <a:gd name="adj2" fmla="val 58449"/>
            </a:avLst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1125360"/>
            <a:ext cx="16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羊已经丢了，还修羊圈干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9"/>
          <a:stretch/>
        </p:blipFill>
        <p:spPr>
          <a:xfrm>
            <a:off x="4140360" y="31417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43640" y="49417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3"/>
          <a:stretch/>
        </p:blipFill>
        <p:spPr>
          <a:xfrm>
            <a:off x="1835280" y="7650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9"/>
          <a:stretch/>
        </p:blipFill>
        <p:spPr>
          <a:xfrm>
            <a:off x="4211640" y="32130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372360" y="49417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13"/>
          <a:stretch/>
        </p:blipFill>
        <p:spPr>
          <a:xfrm>
            <a:off x="5651640" y="333360"/>
            <a:ext cx="6286320" cy="4572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586440" y="3808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半夜里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9"/>
          <a:stretch/>
        </p:blipFill>
        <p:spPr>
          <a:xfrm>
            <a:off x="4140360" y="31417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4">
            <a:lum bright="-16000"/>
          </a:blip>
          <a:stretch/>
        </p:blipFill>
        <p:spPr>
          <a:xfrm>
            <a:off x="5219640" y="4253040"/>
            <a:ext cx="3581640" cy="2604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5"/>
          <a:stretch/>
        </p:blipFill>
        <p:spPr>
          <a:xfrm>
            <a:off x="-152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6324480" y="37339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5791320" y="38862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4">
            <a:lum bright="-36000"/>
          </a:blip>
          <a:stretch/>
        </p:blipFill>
        <p:spPr>
          <a:xfrm>
            <a:off x="5638680" y="40384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5">
            <a:lum bright="-36000"/>
          </a:blip>
          <a:stretch/>
        </p:blipFill>
        <p:spPr>
          <a:xfrm>
            <a:off x="5486400" y="419112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6">
            <a:lum bright="-36000"/>
          </a:blip>
          <a:stretch/>
        </p:blipFill>
        <p:spPr>
          <a:xfrm>
            <a:off x="5334120" y="43434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7">
            <a:lum bright="-36000"/>
          </a:blip>
          <a:stretch/>
        </p:blipFill>
        <p:spPr>
          <a:xfrm>
            <a:off x="548640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8">
            <a:lum bright="-36000"/>
          </a:blip>
          <a:stretch/>
        </p:blipFill>
        <p:spPr>
          <a:xfrm>
            <a:off x="5867280" y="44956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9"/>
          <a:stretch/>
        </p:blipFill>
        <p:spPr>
          <a:xfrm>
            <a:off x="4140360" y="314172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0">
            <a:lum bright="-48000"/>
          </a:blip>
          <a:stretch/>
        </p:blipFill>
        <p:spPr>
          <a:xfrm>
            <a:off x="6705720" y="44956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6858000" y="46483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2">
            <a:lum bright="-48000"/>
          </a:blip>
          <a:stretch/>
        </p:blipFill>
        <p:spPr>
          <a:xfrm>
            <a:off x="6400800" y="494676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3"/>
          <a:stretch/>
        </p:blipFill>
        <p:spPr>
          <a:xfrm>
            <a:off x="3809880" y="-533520"/>
            <a:ext cx="2590920" cy="18846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4">
            <a:lum bright="-14000"/>
          </a:blip>
          <a:stretch/>
        </p:blipFill>
        <p:spPr>
          <a:xfrm>
            <a:off x="2133720" y="464832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2519280" cy="67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979640" y="1125360"/>
            <a:ext cx="6121440" cy="4008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51280" y="4005360"/>
            <a:ext cx="172872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寓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事要老老实实，不能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偶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事情看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发生的事，存在侥幸心理。成功要靠辛勤的劳动，否则将会一无所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-685800" y="1066680"/>
            <a:ext cx="6286680" cy="4572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5410080" y="-380880"/>
            <a:ext cx="3429000" cy="24937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0" y="228600"/>
            <a:ext cx="12193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中宋"/>
              </a:rPr>
              <a:t>第三天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中宋"/>
              <a:ea typeface="华文中宋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914400"/>
            <a:ext cx="1828800" cy="15238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00400" y="11430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547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434547"/>
                </a:solidFill>
                <a:latin typeface="Times New Roman"/>
                <a:ea typeface="黑体"/>
              </a:rPr>
              <a:t>咦！羊怎么又少了一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4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5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6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7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8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9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10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1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12"/>
          <a:stretch/>
        </p:blipFill>
        <p:spPr>
          <a:xfrm>
            <a:off x="5410080" y="-380880"/>
            <a:ext cx="3429000" cy="24937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13"/>
          <a:stretch/>
        </p:blipFill>
        <p:spPr>
          <a:xfrm>
            <a:off x="-1676520" y="1219320"/>
            <a:ext cx="6286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5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6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7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8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9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0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11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12"/>
          <a:stretch/>
        </p:blipFill>
        <p:spPr>
          <a:xfrm>
            <a:off x="3276720" y="-53352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13"/>
          <a:stretch/>
        </p:blipFill>
        <p:spPr>
          <a:xfrm>
            <a:off x="-838080" y="198108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124000" y="1844640"/>
            <a:ext cx="1828800" cy="1523880"/>
          </a:xfrm>
          <a:prstGeom prst="wedgeRoundRectCallout">
            <a:avLst>
              <a:gd name="adj1" fmla="val 6773"/>
              <a:gd name="adj2" fmla="val 8958"/>
              <a:gd name="adj3" fmla="val 16667"/>
            </a:avLst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95640" y="2205000"/>
            <a:ext cx="16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现在修还不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7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8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9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0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1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2"/>
          <a:stretch/>
        </p:blipFill>
        <p:spPr>
          <a:xfrm>
            <a:off x="3276720" y="-53352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3"/>
          <a:stretch/>
        </p:blipFill>
        <p:spPr>
          <a:xfrm>
            <a:off x="3124080" y="3581280"/>
            <a:ext cx="556272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5886360" cy="42814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6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7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8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9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10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1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12"/>
          <a:stretch/>
        </p:blipFill>
        <p:spPr>
          <a:xfrm>
            <a:off x="3276720" y="-53352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13"/>
          <a:stretch/>
        </p:blipFill>
        <p:spPr>
          <a:xfrm>
            <a:off x="3581280" y="3657600"/>
            <a:ext cx="5562720" cy="40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4952880" y="44956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3886200" y="39625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tretch/>
        </p:blipFill>
        <p:spPr>
          <a:xfrm>
            <a:off x="3733920" y="41148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tretch/>
        </p:blipFill>
        <p:spPr>
          <a:xfrm>
            <a:off x="388620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tretch/>
        </p:blipFill>
        <p:spPr>
          <a:xfrm>
            <a:off x="4343400" y="4876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tretch/>
        </p:blipFill>
        <p:spPr>
          <a:xfrm>
            <a:off x="4952880" y="457200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tretch/>
        </p:blipFill>
        <p:spPr>
          <a:xfrm>
            <a:off x="6934320" y="42670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0"/>
          <a:stretch/>
        </p:blipFill>
        <p:spPr>
          <a:xfrm>
            <a:off x="6934320" y="4419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1"/>
          <a:stretch/>
        </p:blipFill>
        <p:spPr>
          <a:xfrm>
            <a:off x="3276720" y="-53352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2"/>
          <a:stretch/>
        </p:blipFill>
        <p:spPr>
          <a:xfrm>
            <a:off x="3657600" y="3505320"/>
            <a:ext cx="5791320" cy="42116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13"/>
          <a:stretch/>
        </p:blipFill>
        <p:spPr>
          <a:xfrm>
            <a:off x="5867280" y="3513240"/>
            <a:ext cx="480852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1752480" y="30970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1371600" y="48006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7162920" y="1752480"/>
            <a:ext cx="1676160" cy="1606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7"/>
          <a:stretch/>
        </p:blipFill>
        <p:spPr>
          <a:xfrm>
            <a:off x="4191120" y="2057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8"/>
          <a:stretch/>
        </p:blipFill>
        <p:spPr>
          <a:xfrm>
            <a:off x="2971800" y="274320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9"/>
          <a:stretch/>
        </p:blipFill>
        <p:spPr>
          <a:xfrm>
            <a:off x="3886200" y="4267080"/>
            <a:ext cx="3505320" cy="191952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228600" y="762120"/>
            <a:ext cx="8153280" cy="4952880"/>
            <a:chOff x="228600" y="762120"/>
            <a:chExt cx="8153280" cy="4952880"/>
          </a:xfrm>
        </p:grpSpPr>
        <p:pic>
          <p:nvPicPr>
            <p:cNvPr id="574" name="" descr=""/>
            <p:cNvPicPr/>
            <p:nvPr/>
          </p:nvPicPr>
          <p:blipFill>
            <a:blip r:embed="rId10"/>
            <a:stretch/>
          </p:blipFill>
          <p:spPr>
            <a:xfrm>
              <a:off x="3276720" y="1905120"/>
              <a:ext cx="2209680" cy="16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11"/>
            <a:stretch/>
          </p:blipFill>
          <p:spPr>
            <a:xfrm>
              <a:off x="4876920" y="3429000"/>
              <a:ext cx="3504960" cy="19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12"/>
            <a:stretch/>
          </p:blipFill>
          <p:spPr>
            <a:xfrm>
              <a:off x="380880" y="2129040"/>
              <a:ext cx="281952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13"/>
            <a:stretch/>
          </p:blipFill>
          <p:spPr>
            <a:xfrm>
              <a:off x="228600" y="1219320"/>
              <a:ext cx="213372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14"/>
            <a:stretch/>
          </p:blipFill>
          <p:spPr>
            <a:xfrm>
              <a:off x="1657440" y="3595680"/>
              <a:ext cx="291456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15"/>
            <a:stretch/>
          </p:blipFill>
          <p:spPr>
            <a:xfrm>
              <a:off x="4724280" y="762120"/>
              <a:ext cx="198144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0" name="" descr=""/>
          <p:cNvPicPr/>
          <p:nvPr/>
        </p:nvPicPr>
        <p:blipFill>
          <a:blip r:embed="rId16"/>
          <a:stretch/>
        </p:blipFill>
        <p:spPr>
          <a:xfrm>
            <a:off x="6019920" y="12952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17"/>
          <a:stretch/>
        </p:blipFill>
        <p:spPr>
          <a:xfrm>
            <a:off x="1905120" y="-228600"/>
            <a:ext cx="7810560" cy="61372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18"/>
          <a:stretch/>
        </p:blipFill>
        <p:spPr>
          <a:xfrm>
            <a:off x="2590920" y="-609480"/>
            <a:ext cx="3429000" cy="24937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 txBox="1"/>
          <p:nvPr/>
        </p:nvSpPr>
        <p:spPr>
          <a:xfrm>
            <a:off x="152280" y="685800"/>
            <a:ext cx="4572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从此以后，他的羊再也没丢过。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           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街坊劝他说：“赶快把羊圈修一修，堵上那个窟窿吧。”</a:t>
            </a: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          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他说：“羊已经丢了，还修羊圈干什么呢？”</a:t>
            </a: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427640" y="5315040"/>
            <a:ext cx="2819160" cy="15429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5724360" y="5589720"/>
            <a:ext cx="2819520" cy="15429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>
            <a:off x="6934320" y="525132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5"/>
          <a:stretch/>
        </p:blipFill>
        <p:spPr>
          <a:xfrm>
            <a:off x="3708360" y="5589720"/>
            <a:ext cx="220968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71160" y="1273320"/>
            <a:ext cx="8435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         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他很后悔，不该不接受街坊的劝告，心想，现在修还不晚。他赶快堵上那个窟窿，把羊圈修得结结实实的。</a:t>
            </a: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2781360" y="1844640"/>
            <a:ext cx="32288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不该不接受街坊的劝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40240" y="285264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547"/>
                </a:solidFill>
                <a:latin typeface="Arial"/>
              </a:rPr>
              <a:t>换一种说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1711440" y="4016160"/>
            <a:ext cx="5387760" cy="12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幼圆"/>
              </a:rPr>
              <a:t>应该接受街坊的劝告</a:t>
            </a:r>
            <a:endParaRPr b="1" lang="en-US" sz="4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4400" spc="-1" strike="noStrike">
              <a:solidFill>
                <a:srgbClr val="8e7139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92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77960" y="503280"/>
            <a:ext cx="237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违反了事物的发展规律、急于求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而会误了大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591280" y="690840"/>
            <a:ext cx="32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对两次丢羊，养羊人分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是怎么想的？怎么做的？结果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250920" y="2133720"/>
          <a:ext cx="7345440" cy="3409920"/>
        </p:xfrm>
        <a:graphic>
          <a:graphicData uri="http://schemas.openxmlformats.org/drawingml/2006/table">
            <a:tbl>
              <a:tblPr/>
              <a:tblGrid>
                <a:gridCol w="1008000"/>
                <a:gridCol w="1728720"/>
                <a:gridCol w="1727280"/>
                <a:gridCol w="1368360"/>
                <a:gridCol w="15130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1368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1368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8e7139"/>
                          </a:solidFill>
                          <a:latin typeface="幼圆"/>
                          <a:ea typeface="幼圆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1368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幼圆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幼圆"/>
                          <a:ea typeface="楷体_GB2312"/>
                        </a:rPr>
                        <a:t>结果怎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1368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幼圆"/>
                          <a:ea typeface="楷体_GB2312"/>
                        </a:rPr>
                        <a:t>内心的想法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34547"/>
                      </a:solidFill>
                    </a:lnL>
                    <a:lnR w="13680">
                      <a:solidFill>
                        <a:srgbClr val="434547"/>
                      </a:solidFill>
                    </a:lnR>
                    <a:lnT w="1368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</a:tr>
              <a:tr h="14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8e7139"/>
                          </a:solidFill>
                          <a:latin typeface="幼圆"/>
                          <a:ea typeface="楷体_GB2312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1368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5760">
                      <a:solidFill>
                        <a:srgbClr val="434547"/>
                      </a:solidFill>
                    </a:lnB>
                    <a:noFill/>
                  </a:tcPr>
                </a:tc>
              </a:tr>
              <a:tr h="122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zh-CN" sz="2000" spc="-1" strike="noStrike">
                          <a:solidFill>
                            <a:srgbClr val="8e7139"/>
                          </a:solidFill>
                          <a:latin typeface="幼圆"/>
                          <a:ea typeface="楷体_GB2312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1368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1368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1368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576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13680">
                      <a:solidFill>
                        <a:srgbClr val="4345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34547"/>
                      </a:solidFill>
                    </a:lnL>
                    <a:lnR w="13680">
                      <a:solidFill>
                        <a:srgbClr val="434547"/>
                      </a:solidFill>
                    </a:lnR>
                    <a:lnT w="5760">
                      <a:solidFill>
                        <a:srgbClr val="434547"/>
                      </a:solidFill>
                    </a:lnT>
                    <a:lnB w="13680">
                      <a:solidFill>
                        <a:srgbClr val="43454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"/>
          <p:cNvSpPr/>
          <p:nvPr/>
        </p:nvSpPr>
        <p:spPr>
          <a:xfrm>
            <a:off x="1547640" y="2421000"/>
            <a:ext cx="12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怎么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03640" y="2492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怎么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62840" y="3141720"/>
            <a:ext cx="94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羊已经丢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，还修羊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干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59280" y="335772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没有修羊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788000" y="321300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羊又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了一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56360" y="32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满不在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332000" y="458136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现在还不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56360" y="4653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非常后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987640" y="429264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赶快堵上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个窟窿，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羊圈修得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结实实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716360" y="450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14345"/>
                </a:solidFill>
                <a:latin typeface="Times New Roman"/>
                <a:ea typeface="楷体_GB2312"/>
              </a:rPr>
              <a:t>羊再也没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632720" y="3213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24400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8e7139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775640" y="4724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去改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8e7139"/>
                </a:solidFill>
                <a:latin typeface="华文中宋"/>
              </a:rPr>
              <a:t>总结：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  <p:sp>
        <p:nvSpPr>
          <p:cNvPr id="609" name=""/>
          <p:cNvSpPr/>
          <p:nvPr/>
        </p:nvSpPr>
        <p:spPr>
          <a:xfrm>
            <a:off x="755640" y="4724280"/>
            <a:ext cx="51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一个人做错了事，只要肯接受意见，认真改正，就不算晚   。</a:t>
            </a:r>
            <a:r>
              <a:rPr b="1" lang="en-US" sz="2400" spc="-1" strike="noStrike">
                <a:solidFill>
                  <a:srgbClr val="645e5c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b0f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7164360" y="4653000"/>
            <a:ext cx="2209680" cy="16066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170360" y="3933720"/>
            <a:ext cx="261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这则寓言告诉我们</a:t>
            </a:r>
            <a:r>
              <a:rPr b="0" lang="en-US" sz="4400" spc="-1" strike="noStrike">
                <a:solidFill>
                  <a:srgbClr val="434547"/>
                </a:solidFill>
                <a:latin typeface="Arial"/>
              </a:rPr>
              <a:t>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4000" y="170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养羊人第一次丢了羊，街坊好心（      ），他却（            ），到第二次又丢了羊，他（　        　），赶快（　　       ）。从此，他的羊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59640" y="17002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ahoma"/>
              </a:rPr>
              <a:t>劝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03280" y="220500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满不在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32280" y="234936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修补羊圈</a:t>
            </a:r>
            <a:r>
              <a:rPr b="1" lang="zh-CN" sz="5400" spc="-1" strike="noStrike">
                <a:solidFill>
                  <a:srgbClr val="434547"/>
                </a:solidFill>
                <a:latin typeface="Tahoma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6920" y="263700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后悔极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5092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再也没丢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2050920" y="5661000"/>
            <a:ext cx="221004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84360" y="907920"/>
            <a:ext cx="8459640" cy="38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拓展训练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联系生活实际补充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⑴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我想对养羊人说：“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⑵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我想对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说：“</a:t>
            </a:r>
            <a:r>
              <a:rPr b="1" lang="en-US" sz="3200" spc="-1" strike="noStrike" u="sng">
                <a:solidFill>
                  <a:srgbClr val="66ff33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0"/>
            <a:ext cx="3635640" cy="27972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rcRect l="0" t="0" r="0" b="14087"/>
          <a:stretch/>
        </p:blipFill>
        <p:spPr>
          <a:xfrm>
            <a:off x="900000" y="2924280"/>
            <a:ext cx="3564000" cy="28796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4"/>
          <a:srcRect l="0" t="0" r="4696" b="15048"/>
          <a:stretch/>
        </p:blipFill>
        <p:spPr>
          <a:xfrm>
            <a:off x="5003640" y="0"/>
            <a:ext cx="3432240" cy="23302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5003640" y="2781360"/>
            <a:ext cx="3672000" cy="30924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0" y="5805360"/>
            <a:ext cx="91440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434547"/>
                </a:solidFill>
                <a:latin typeface="Times New Roman"/>
              </a:rPr>
              <a:t>我想对           说：“                                       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19280" y="6308640"/>
            <a:ext cx="122400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1280" y="6308640"/>
            <a:ext cx="4896000" cy="0"/>
          </a:xfrm>
          <a:prstGeom prst="line">
            <a:avLst/>
          </a:prstGeom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56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8e7139"/>
                </a:solidFill>
                <a:latin typeface="幼圆"/>
              </a:rPr>
              <a:t>作业：</a:t>
            </a:r>
            <a:endParaRPr b="1" lang="en-US" sz="44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e7139"/>
                </a:solidFill>
                <a:latin typeface="幼圆"/>
              </a:rPr>
              <a:t>         </a:t>
            </a: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1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、把这个故事讲给家人听。</a:t>
            </a: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       </a:t>
            </a: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2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、完成练习册第九课的第</a:t>
            </a:r>
            <a:r>
              <a:rPr b="1" lang="en-US" sz="4000" spc="-1" strike="noStrike">
                <a:solidFill>
                  <a:srgbClr val="8e7139"/>
                </a:solidFill>
                <a:latin typeface="幼圆"/>
              </a:rPr>
              <a:t>1</a:t>
            </a:r>
            <a:r>
              <a:rPr b="1" lang="zh-CN" sz="4000" spc="-1" strike="noStrike">
                <a:solidFill>
                  <a:srgbClr val="8e7139"/>
                </a:solidFill>
                <a:latin typeface="幼圆"/>
              </a:rPr>
              <a:t>课时</a:t>
            </a:r>
            <a:endParaRPr b="1" lang="en-US" sz="4000" spc="-1" strike="noStrike">
              <a:solidFill>
                <a:srgbClr val="8e7139"/>
              </a:solidFill>
              <a:latin typeface="幼圆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56000" y="4365720"/>
            <a:ext cx="3057480" cy="1019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宋体"/>
              </a:rPr>
              <a:t>再见！</a:t>
            </a:r>
            <a:endParaRPr b="0" lang="en-US" sz="8000" spc="-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52200" y="16200"/>
            <a:ext cx="3068280" cy="2567160"/>
            <a:chOff x="52200" y="16200"/>
            <a:chExt cx="3068280" cy="2567160"/>
          </a:xfrm>
        </p:grpSpPr>
        <p:sp>
          <p:nvSpPr>
            <p:cNvPr id="144" name="Cloud"/>
            <p:cNvSpPr/>
            <p:nvPr/>
          </p:nvSpPr>
          <p:spPr>
            <a:xfrm flipV="1" rot="19990200">
              <a:off x="250560" y="549000"/>
              <a:ext cx="2664000" cy="1514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664400">
              <a:off x="488880" y="67788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仿宋_GB2312"/>
                  <a:ea typeface="仿宋_GB2312"/>
                </a:rPr>
                <a:t>理解课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27280" y="286632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丢了羊就赶快把羊圈补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93120" y="4796640"/>
            <a:ext cx="15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羊圈的意思</a:t>
            </a: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1520" y="3859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454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丢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2480" y="177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/>
          </p:cNvPr>
          <p:cNvSpPr/>
          <p:nvPr/>
        </p:nvSpPr>
        <p:spPr>
          <a:xfrm>
            <a:off x="3708360" y="177336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8446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45e5c"/>
                </a:solidFill>
                <a:latin typeface="Arial"/>
              </a:rPr>
              <a:t>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184464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45e5c"/>
                </a:solidFill>
                <a:latin typeface="Arial"/>
              </a:rPr>
              <a:t>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18446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18446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5400720" cy="244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96200" y="27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词语意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48555E-006 C 0.23629 -0.0067 0.19827 -0.10127 0.20573 0.19931 C 0.2092 0.33919 0.20868 0.23445 0.20868 0.2985 E">
                                      <p:cBhvr>
                                        <p:cTn id="3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13 0.00301 C 0.01979 0.04116 0.01979 0.07677 0.01944 0.11469 C 0.01927 0.15584 0.01909 0.19237 0.01875 0.23237 C 0.00711 0.14775 -0.00539 0.22659 -0.01737 0.22798 C -0.01754 0.22937 -0.01806 0.22937 -0.01841 0.23237 C -0.0191 0.24162 -0.0191 0.29388 -0.0191 0.31214 C -0.01927 0.32139 -0.01927 0.3318 -0.01945 0.34128 C -0.01945 0.3459 -0.01945 0.35631 -0.01945 0.35654 C -0.01945 0.35885 -0.0191 0.36093 -0.01893 0.36602 C -0.01875 0.37527 -0.0191 0.40162 -0.01858 0.40162 E">
                                      <p:cBhvr>
                                        <p:cTn id="41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4946760" cy="3273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076720" y="1773360"/>
            <a:ext cx="3233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边听、边看、边认真思考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《亡羊补牢》，说说这则寓言故事讲了什么？用自己的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7340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亡羊补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206064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课文哪几个自然段是讲丢羊的？</a:t>
            </a:r>
            <a:r>
              <a:rPr b="0" lang="en-US" sz="18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2852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1-4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黑体"/>
                <a:ea typeface="黑体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46360" y="3573360"/>
            <a:ext cx="16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养羊人一共丢了几次羊？怎样丢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486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这则寓言告诉我们什么道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16000" y="4221000"/>
            <a:ext cx="36716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 u="sng">
                <a:solidFill>
                  <a:srgbClr val="003300"/>
                </a:solidFill>
                <a:uFillTx/>
                <a:latin typeface="华文中宋"/>
                <a:ea typeface="黑体"/>
              </a:rPr>
              <a:t>共丢两次</a:t>
            </a:r>
            <a:endParaRPr b="1" lang="en-US" sz="3200" spc="-1" strike="noStrike">
              <a:solidFill>
                <a:srgbClr val="8e7139"/>
              </a:solidFill>
              <a:latin typeface="华文中宋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47640" y="2205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434547"/>
                </a:solidFill>
                <a:latin typeface="Arial"/>
              </a:rPr>
              <a:t>对两次丢羊，养羊人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Arial"/>
              </a:rPr>
              <a:t>别是怎么想的？怎么做的</a:t>
            </a:r>
            <a:r>
              <a:rPr b="1" lang="zh-CN" sz="3600" spc="-1" strike="noStrike">
                <a:solidFill>
                  <a:srgbClr val="434547"/>
                </a:solidFill>
                <a:latin typeface="Arial"/>
              </a:rPr>
              <a:t>？结果怎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9440" y="1557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14345"/>
                </a:solidFill>
                <a:latin typeface="Arial"/>
              </a:rPr>
              <a:t>同桌交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752480" y="3097080"/>
            <a:ext cx="2210040" cy="1606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371600" y="48006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7162920" y="1752480"/>
            <a:ext cx="1676160" cy="1606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191120" y="2057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3048120" y="1905120"/>
            <a:ext cx="2209680" cy="1606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2971800" y="2743200"/>
            <a:ext cx="3505320" cy="191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648320" y="3429000"/>
            <a:ext cx="3504960" cy="1919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3886200" y="4267080"/>
            <a:ext cx="3505320" cy="1919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152280" y="2128680"/>
            <a:ext cx="2819520" cy="1543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0" y="1219320"/>
            <a:ext cx="2133720" cy="1168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1428840" y="3595680"/>
            <a:ext cx="2914560" cy="2119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4495680" y="762120"/>
            <a:ext cx="1981440" cy="1439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6"/>
          <a:stretch/>
        </p:blipFill>
        <p:spPr>
          <a:xfrm>
            <a:off x="6019920" y="129528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7"/>
          <a:stretch/>
        </p:blipFill>
        <p:spPr>
          <a:xfrm>
            <a:off x="2413080" y="-243000"/>
            <a:ext cx="3429000" cy="2494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8"/>
          <a:stretch/>
        </p:blipFill>
        <p:spPr>
          <a:xfrm>
            <a:off x="4068720" y="-890640"/>
            <a:ext cx="7810560" cy="6137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96775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9829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4:20:00Z</dcterms:created>
  <dc:creator>Administrator</dc:creator>
  <dc:description/>
  <dc:language>en-US</dc:language>
  <cp:lastModifiedBy/>
  <dcterms:modified xsi:type="dcterms:W3CDTF">2015-08-20T03:17:17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