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764C-507C-455C-B2CB-5D4903293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E70A-918D-4DA2-A277-45774783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28D1-CA93-4E00-B2D1-FBC7ADDEA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904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272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40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8053-63F4-4A3B-878D-92CB3C9E0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FE593-33C8-4681-A1EC-BF9853D87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F8007-715B-4E00-8A1D-23AAA128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85563-4D3F-4F3F-A213-B88714DC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24E01-A037-4F7D-95B5-CC0316EB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E194-A46B-4FCF-83D1-0F2E46E8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E342B-0D11-42FF-BD25-203991B0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82EEA-F701-4094-A09F-C834A731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004E-B97A-476F-93CA-2343E72E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96C1C-95AD-4314-A9F1-E00D4161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65A78-1330-454F-905D-7D1752C6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1671C-6153-4BC3-89FA-A97D4EAA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A17C-5D27-4625-81C5-3042BEF4C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1904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272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640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3F47D-52A8-4F36-90BE-483557767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D87E5-92CA-455C-92BA-857EE2519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D2DE2-6C6D-4BD4-975C-AE7A3C3E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41B63-BE4A-420B-9EA0-718958F9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B67E0-A182-44DA-BF15-7DC2CDEE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83034-259B-4280-9A0A-18AD53EB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4EBB-00FE-429A-869A-865E34AB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E3416-418B-4731-A5AC-66016AE5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B3EDA-EB90-442D-8680-33293C82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A279A-762F-40EC-94F7-A84B254F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C02F6-463D-4383-94E5-2ECD6503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768DA-08C5-4713-8FE8-56D2C52F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CEE1A-0BCE-4075-9516-8F90DD0C0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1904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2272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640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1AA88-08E3-478C-8D58-D799A2ACD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19032-D240-4428-B22F-6CD091FB7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EF951-CD50-4255-8666-A125BCFA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D0730-7587-4009-A91F-F49E209B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5657-954A-49F9-AAA7-416866C5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2F6CA-542B-40FA-8092-463DB942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86F0D-F2E6-4E78-AB6A-8570B14F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A9966-322B-443A-ACD1-2C087D2A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D3C51-701A-49F4-8A39-97CBEE11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20D58-94AE-45BB-9D6F-552465B3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A8FC7-C51E-4B2C-BD17-A9E75A5A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29402-7F9E-44CB-9DC1-10576830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F8F7E-117C-412B-99D6-CAF283A25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1904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2272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640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31BF2-92F3-4102-B8C5-393A85759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F53BE-D61F-419E-80B7-5521CA6B5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187E-ADC5-44C0-ABB1-F0EE0BB9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2BA6B-977A-49E9-B46C-0EAB0FFB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AFFD5-93DA-489B-B17E-4E2543B8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36F3C-15E3-4DF7-B0C9-A6AD767A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CD1E6-E9DB-4B1E-8186-6EE3C2A89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E3014-E36B-4233-81FC-73C97391D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51409-0F6C-4956-9DBC-7C650906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7D0DA-3EFC-4FE7-9BA9-5803F3C5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B6370-34CA-4F5A-AC59-F7FFB92C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3C31C-AD13-45D5-996A-B6A09D5B1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DDBB7-2158-4EB2-8097-B50FFC550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D04D-E936-4D2A-935A-250C1956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1904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2272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640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F3D25-FD20-42B6-8711-8A5F8C4F6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074D9-1770-4BF2-BF85-82700343B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59C92-E375-4BA0-BAE3-DAE05940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8232F-A351-4AB9-B0DD-62F10151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92ED5-3B56-493E-B194-6C4BFAD0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EC42A-49D6-4FE6-B155-FE57D4B3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8B5BB-B1FA-4CF8-8DD2-308C18F4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7A0FB-BAC5-4CEF-B006-269C8601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EB94E-0CB3-4ACD-8816-D0C5D882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32446-71A1-468E-B548-6E975C61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590B-066D-4D66-A4C2-69ED2229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14FFD-F5AB-438F-8BBE-CFE9B96F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37EF0-358E-43C6-B2C7-C1AF10F29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1904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2272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640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82463-7F02-4328-84B3-B09ECF33A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A69B0-D7E6-4BAB-8538-3BB8DC957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40506-A4F8-47FD-A724-2E184640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1FAE9-86B3-40F9-8208-5EAB8FFC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AB660-5E5B-4110-AFD7-6F297494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90DA4-CDD0-4DAE-AD87-87EBE4E2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23F46-9906-4793-AFA2-5D11CF56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863F1-0EB7-471B-A43B-695EA03B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4136-BA55-46F8-A0AD-54B1E3EE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79D6B-B5C9-4A9B-8592-68266E2A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1772E-EE6D-4C5B-85C1-593B271A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67641-97EC-44C6-985F-7FEB9A00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289D3-E902-42A5-A4C3-B14270FD2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1904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2272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640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B26E5-7F0B-44C9-8622-A9DE918E8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9D0B-1C4F-4A1E-A67D-B50EABD2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80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F415-5E40-473F-BC8D-42B8D19B171D}" type="datetime">
              <a:rPr b="0" lang="zh-CN" sz="1200" spc="-1" strike="noStrike">
                <a:solidFill>
                  <a:srgbClr val="9d9d9d"/>
                </a:solidFill>
                <a:latin typeface="Times New Roman"/>
                <a:ea typeface="黑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CBA94-A51A-4EBA-802C-52BB061554B7}" type="slidenum">
              <a:rPr b="0" lang="zh-CN" sz="1200" spc="-1" strike="noStrike">
                <a:solidFill>
                  <a:srgbClr val="9d9d9d"/>
                </a:solidFill>
                <a:latin typeface="Times New Roman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f2800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0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  <a:p>
            <a:pPr lvl="1" marL="345960" indent="56844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0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  <a:p>
            <a:pPr lvl="2" marL="9144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0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  <a:p>
            <a:pPr lvl="3" marL="1371600" indent="-4572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0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  <a:p>
            <a:pPr lvl="4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0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  <a:p>
            <a:pPr lvl="5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0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  <a:p>
            <a:pPr lvl="6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0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80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f2800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0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  <a:p>
            <a:pPr lvl="1" marL="345960" indent="56844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0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  <a:p>
            <a:pPr lvl="2" marL="9144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0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  <a:p>
            <a:pPr lvl="3" marL="1371600" indent="-4572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0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  <a:p>
            <a:pPr lvl="4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0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  <a:p>
            <a:pPr lvl="5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0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  <a:p>
            <a:pPr lvl="6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0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E4FE-6223-43FD-A22B-6039B9CEDEF3}" type="datetime">
              <a:rPr b="0" lang="zh-CN" sz="1200" spc="-1" strike="noStrike">
                <a:solidFill>
                  <a:srgbClr val="9d9d9d"/>
                </a:solidFill>
                <a:latin typeface="Times New Roman"/>
                <a:ea typeface="黑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B3B8-18C3-4CEB-8F4E-0605E3604482}" type="slidenum">
              <a:rPr b="0" lang="zh-CN" sz="1200" spc="-1" strike="noStrike">
                <a:solidFill>
                  <a:srgbClr val="9d9d9d"/>
                </a:solidFill>
                <a:latin typeface="Times New Roman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椭圆 6"/>
          <p:cNvSpPr/>
          <p:nvPr/>
        </p:nvSpPr>
        <p:spPr>
          <a:xfrm>
            <a:off x="2050920" y="2906640"/>
            <a:ext cx="1043280" cy="1044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83" name="椭圆 7"/>
          <p:cNvSpPr/>
          <p:nvPr/>
        </p:nvSpPr>
        <p:spPr>
          <a:xfrm>
            <a:off x="2139840" y="2997360"/>
            <a:ext cx="865440" cy="8632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  <a:ea typeface="黑体"/>
              </a:rPr>
              <a:t>1</a:t>
            </a:r>
            <a:endParaRPr b="0" lang="en-US" sz="41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84" name="直接连接符 16"/>
          <p:cNvSpPr/>
          <p:nvPr/>
        </p:nvSpPr>
        <p:spPr>
          <a:xfrm>
            <a:off x="3094200" y="3429000"/>
            <a:ext cx="3998880" cy="0"/>
          </a:xfrm>
          <a:prstGeom prst="line">
            <a:avLst/>
          </a:prstGeom>
          <a:ln w="28440">
            <a:solidFill>
              <a:srgbClr val="ffc000"/>
            </a:solidFill>
            <a:round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80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f2800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0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  <a:p>
            <a:pPr lvl="1" marL="345960" indent="56844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0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  <a:p>
            <a:pPr lvl="2" marL="9144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0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  <a:p>
            <a:pPr lvl="3" marL="1371600" indent="-4572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0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  <a:p>
            <a:pPr lvl="4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0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  <a:p>
            <a:pPr lvl="5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0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  <a:p>
            <a:pPr lvl="6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0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7664-86DC-4134-B833-A146E6E26830}" type="datetime">
              <a:rPr b="0" lang="zh-CN" sz="1200" spc="-1" strike="noStrike">
                <a:solidFill>
                  <a:srgbClr val="9d9d9d"/>
                </a:solidFill>
                <a:latin typeface="Times New Roman"/>
                <a:ea typeface="黑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094200" y="640080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2E37-2922-407A-B3FE-EBC83655A2AC}" type="slidenum">
              <a:rPr b="0" lang="zh-CN" sz="1200" spc="-1" strike="noStrike">
                <a:solidFill>
                  <a:srgbClr val="9d9d9d"/>
                </a:solidFill>
                <a:latin typeface="Times New Roman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直接连接符 5"/>
          <p:cNvSpPr/>
          <p:nvPr/>
        </p:nvSpPr>
        <p:spPr>
          <a:xfrm>
            <a:off x="0" y="3805200"/>
            <a:ext cx="9144000" cy="0"/>
          </a:xfrm>
          <a:prstGeom prst="line">
            <a:avLst/>
          </a:prstGeom>
          <a:ln w="3240">
            <a:solidFill>
              <a:srgbClr val="d3d3d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27" name="直接连接符 6"/>
          <p:cNvSpPr/>
          <p:nvPr/>
        </p:nvSpPr>
        <p:spPr>
          <a:xfrm>
            <a:off x="0" y="4386240"/>
            <a:ext cx="9144000" cy="0"/>
          </a:xfrm>
          <a:prstGeom prst="line">
            <a:avLst/>
          </a:prstGeom>
          <a:ln w="3240">
            <a:solidFill>
              <a:srgbClr val="d3d3d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28" name="直接连接符 7"/>
          <p:cNvSpPr/>
          <p:nvPr/>
        </p:nvSpPr>
        <p:spPr>
          <a:xfrm>
            <a:off x="0" y="4549680"/>
            <a:ext cx="9144000" cy="0"/>
          </a:xfrm>
          <a:prstGeom prst="line">
            <a:avLst/>
          </a:prstGeom>
          <a:ln w="3240">
            <a:solidFill>
              <a:srgbClr val="d3d3d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29" name="直接连接符 8"/>
          <p:cNvSpPr/>
          <p:nvPr/>
        </p:nvSpPr>
        <p:spPr>
          <a:xfrm>
            <a:off x="2631960" y="154080"/>
            <a:ext cx="0" cy="6840360"/>
          </a:xfrm>
          <a:prstGeom prst="line">
            <a:avLst/>
          </a:prstGeom>
          <a:ln w="3240">
            <a:solidFill>
              <a:srgbClr val="d3d3d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30" name="直接连接符 9"/>
          <p:cNvSpPr/>
          <p:nvPr/>
        </p:nvSpPr>
        <p:spPr>
          <a:xfrm>
            <a:off x="2836800" y="154080"/>
            <a:ext cx="0" cy="6840360"/>
          </a:xfrm>
          <a:prstGeom prst="line">
            <a:avLst/>
          </a:prstGeom>
          <a:ln w="3240">
            <a:solidFill>
              <a:srgbClr val="d3d3d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31" name="直接连接符 10"/>
          <p:cNvSpPr/>
          <p:nvPr/>
        </p:nvSpPr>
        <p:spPr>
          <a:xfrm>
            <a:off x="0" y="3959280"/>
            <a:ext cx="9144000" cy="0"/>
          </a:xfrm>
          <a:prstGeom prst="line">
            <a:avLst/>
          </a:prstGeom>
          <a:ln w="3240">
            <a:solidFill>
              <a:srgbClr val="d3d3d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80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f2800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0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  <a:p>
            <a:pPr lvl="1" marL="345960" indent="56844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0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  <a:p>
            <a:pPr lvl="2" marL="9144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0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  <a:p>
            <a:pPr lvl="3" marL="1371600" indent="-4572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0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  <a:p>
            <a:pPr lvl="4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0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  <a:p>
            <a:pPr lvl="5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0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  <a:p>
            <a:pPr lvl="6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0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3383-CBEB-4981-9640-CCDC1D3C6EE0}" type="datetime">
              <a:rPr b="0" lang="zh-CN" sz="1200" spc="-1" strike="noStrike">
                <a:solidFill>
                  <a:srgbClr val="9d9d9d"/>
                </a:solidFill>
                <a:latin typeface="Times New Roman"/>
                <a:ea typeface="黑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2944-3734-49E5-A41C-B376E268EE73}" type="slidenum">
              <a:rPr b="0" lang="zh-CN" sz="1200" spc="-1" strike="noStrike">
                <a:solidFill>
                  <a:srgbClr val="9d9d9d"/>
                </a:solidFill>
                <a:latin typeface="Times New Roman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80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f2800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0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  <a:p>
            <a:pPr lvl="1" marL="345960" indent="56844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0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  <a:p>
            <a:pPr lvl="2" marL="9144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0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  <a:p>
            <a:pPr lvl="3" marL="1371600" indent="-4572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0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  <a:p>
            <a:pPr lvl="4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0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  <a:p>
            <a:pPr lvl="5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0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  <a:p>
            <a:pPr lvl="6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0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42182-5213-4C79-A417-F096079DBC4E}" type="datetime">
              <a:rPr b="0" lang="zh-CN" sz="1200" spc="-1" strike="noStrike">
                <a:solidFill>
                  <a:srgbClr val="9d9d9d"/>
                </a:solidFill>
                <a:latin typeface="Times New Roman"/>
                <a:ea typeface="黑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0171F-3CA9-4BFB-A7F1-2DDF099C6F4D}" type="slidenum">
              <a:rPr b="0" lang="zh-CN" sz="1200" spc="-1" strike="noStrike">
                <a:solidFill>
                  <a:srgbClr val="9d9d9d"/>
                </a:solidFill>
                <a:latin typeface="Times New Roman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80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f2800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0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  <a:p>
            <a:pPr lvl="1" marL="345960" indent="56844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0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  <a:p>
            <a:pPr lvl="2" marL="9144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0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  <a:p>
            <a:pPr lvl="3" marL="1371600" indent="-4572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0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  <a:p>
            <a:pPr lvl="4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0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  <a:p>
            <a:pPr lvl="5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0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  <a:p>
            <a:pPr lvl="6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0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28080-3A5D-4493-A3B1-8B52BEABF7FF}" type="datetime">
              <a:rPr b="0" lang="zh-CN" sz="1200" spc="-1" strike="noStrike">
                <a:solidFill>
                  <a:srgbClr val="9d9d9d"/>
                </a:solidFill>
                <a:latin typeface="Times New Roman"/>
                <a:ea typeface="黑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6D65-08CD-4CE4-BBE1-1FE0C805CE6B}" type="slidenum">
              <a:rPr b="0" lang="zh-CN" sz="1200" spc="-1" strike="noStrike">
                <a:solidFill>
                  <a:srgbClr val="9d9d9d"/>
                </a:solidFill>
                <a:latin typeface="Times New Roman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80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f2800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0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  <a:p>
            <a:pPr lvl="1" marL="345960" indent="56844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0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  <a:p>
            <a:pPr lvl="2" marL="9144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0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  <a:p>
            <a:pPr lvl="3" marL="1371600" indent="-4572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0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  <a:p>
            <a:pPr lvl="4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0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  <a:p>
            <a:pPr lvl="5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0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  <a:p>
            <a:pPr lvl="6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0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2800e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4F4C-347D-4A08-930E-2E0F0CBCCC5A}" type="datetime">
              <a:rPr b="0" lang="zh-CN" sz="1200" spc="-1" strike="noStrike">
                <a:solidFill>
                  <a:srgbClr val="9d9d9d"/>
                </a:solidFill>
                <a:latin typeface="Times New Roman"/>
                <a:ea typeface="黑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71B7-19DC-4353-9D72-7812EBE38634}" type="slidenum">
              <a:rPr b="0" lang="zh-CN" sz="1200" spc="-1" strike="noStrike">
                <a:solidFill>
                  <a:srgbClr val="9d9d9d"/>
                </a:solidFill>
                <a:latin typeface="Times New Roman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4" descr="b1"/>
          <p:cNvPicPr/>
          <p:nvPr/>
        </p:nvPicPr>
        <p:blipFill>
          <a:blip r:embed="rId1"/>
          <a:stretch/>
        </p:blipFill>
        <p:spPr>
          <a:xfrm>
            <a:off x="1569960" y="622296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5" descr="b6"/>
          <p:cNvPicPr/>
          <p:nvPr/>
        </p:nvPicPr>
        <p:blipFill>
          <a:blip r:embed="rId2"/>
          <a:stretch/>
        </p:blipFill>
        <p:spPr>
          <a:xfrm>
            <a:off x="7535880" y="621360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6" descr="b2"/>
          <p:cNvPicPr/>
          <p:nvPr/>
        </p:nvPicPr>
        <p:blipFill>
          <a:blip r:embed="rId3"/>
          <a:stretch/>
        </p:blipFill>
        <p:spPr>
          <a:xfrm>
            <a:off x="57240" y="622296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b3"/>
          <p:cNvPicPr/>
          <p:nvPr/>
        </p:nvPicPr>
        <p:blipFill>
          <a:blip r:embed="rId4"/>
          <a:stretch/>
        </p:blipFill>
        <p:spPr>
          <a:xfrm>
            <a:off x="3035160" y="6213600"/>
            <a:ext cx="1562400" cy="6350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8" descr="b4"/>
          <p:cNvPicPr/>
          <p:nvPr/>
        </p:nvPicPr>
        <p:blipFill>
          <a:blip r:embed="rId5"/>
          <a:stretch/>
        </p:blipFill>
        <p:spPr>
          <a:xfrm>
            <a:off x="4548240" y="621360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9" descr="b5"/>
          <p:cNvPicPr/>
          <p:nvPr/>
        </p:nvPicPr>
        <p:blipFill>
          <a:blip r:embed="rId6"/>
          <a:stretch/>
        </p:blipFill>
        <p:spPr>
          <a:xfrm>
            <a:off x="6039000" y="6213600"/>
            <a:ext cx="1562040" cy="635040"/>
          </a:xfrm>
          <a:prstGeom prst="rect">
            <a:avLst/>
          </a:prstGeom>
          <a:ln w="0">
            <a:noFill/>
          </a:ln>
        </p:spPr>
      </p:pic>
      <p:sp>
        <p:nvSpPr>
          <p:cNvPr id="302" name="WordArt 10"/>
          <p:cNvSpPr txBox="1"/>
          <p:nvPr/>
        </p:nvSpPr>
        <p:spPr>
          <a:xfrm>
            <a:off x="1116000" y="2133720"/>
            <a:ext cx="69120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7 </a:t>
            </a:r>
            <a:r>
              <a:rPr b="0" lang="zh-CN" sz="24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网上呼救</a:t>
            </a:r>
            <a:endParaRPr b="0" lang="en-US" sz="2400" spc="1" strike="noStrike">
              <a:ln w="1260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303" name="WordArt 8"/>
          <p:cNvSpPr txBox="1"/>
          <p:nvPr/>
        </p:nvSpPr>
        <p:spPr>
          <a:xfrm>
            <a:off x="3414600" y="4437000"/>
            <a:ext cx="245772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第一课时</a:t>
            </a:r>
            <a:endParaRPr b="0" lang="en-US" sz="3200" spc="1" strike="noStrike">
              <a:ln w="1260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4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7"/>
          <p:cNvSpPr/>
          <p:nvPr/>
        </p:nvSpPr>
        <p:spPr>
          <a:xfrm>
            <a:off x="468360" y="620640"/>
            <a:ext cx="8136000" cy="30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黑体"/>
                <a:ea typeface="黑体"/>
              </a:rPr>
              <a:t>教学目标：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、认识本课</a:t>
            </a:r>
            <a:r>
              <a:rPr b="1" lang="en-US" sz="2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个生字。积累</a:t>
            </a:r>
            <a:r>
              <a:rPr b="1" lang="en-US" sz="2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个词语。</a:t>
            </a:r>
            <a:r>
              <a:rPr b="0" lang="zh-CN" sz="2400" spc="-1" strike="noStrike">
                <a:solidFill>
                  <a:srgbClr val="5f5f5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、理解 </a:t>
            </a:r>
            <a:r>
              <a:rPr b="1" lang="zh-CN" sz="2800" spc="-1" strike="noStrike">
                <a:solidFill>
                  <a:srgbClr val="5f5f5f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那里的工作人员一边联系芬兰有关方面，一边向迈克询问苏珊的详细地址</a:t>
            </a:r>
            <a:r>
              <a:rPr b="1" lang="zh-CN" sz="2800" spc="-1" strike="noStrike">
                <a:solidFill>
                  <a:srgbClr val="5f5f5f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句子的意思，并能用</a:t>
            </a:r>
            <a:r>
              <a:rPr b="1" lang="zh-CN" sz="2800" spc="-1" strike="noStrike">
                <a:solidFill>
                  <a:srgbClr val="5f5f5f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一边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一边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楷体_GB2312"/>
              </a:rPr>
              <a:t>……”</a:t>
            </a:r>
            <a:r>
              <a:rPr b="1" lang="zh-CN" sz="2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写句子。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、能正确、有感情地朗读课文。在默读课文时，能划出表示时间的词语。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、知道电脑网络能使人互通信息，共享信息资源。感受电子计算机使人类社会各个领域的面貌发生了很大的变化。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4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ceU7VcEAthN7w"/>
          <p:cNvPicPr/>
          <p:nvPr/>
        </p:nvPicPr>
        <p:blipFill>
          <a:blip r:embed="rId4"/>
          <a:stretch/>
        </p:blipFill>
        <p:spPr>
          <a:xfrm>
            <a:off x="838080" y="990720"/>
            <a:ext cx="7315200" cy="4578120"/>
          </a:xfrm>
          <a:prstGeom prst="rect">
            <a:avLst/>
          </a:prstGeom>
          <a:ln w="0">
            <a:noFill/>
          </a:ln>
        </p:spPr>
      </p:pic>
      <p:sp>
        <p:nvSpPr>
          <p:cNvPr id="312" name="WordArt 10"/>
          <p:cNvSpPr txBox="1"/>
          <p:nvPr/>
        </p:nvSpPr>
        <p:spPr>
          <a:xfrm>
            <a:off x="971640" y="1197000"/>
            <a:ext cx="2232000" cy="84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80"/>
                  </a:solidFill>
                  <a:round/>
                </a:ln>
                <a:solidFill>
                  <a:srgbClr val="f2800e"/>
                </a:solidFill>
                <a:latin typeface="宋体"/>
              </a:rPr>
              <a:t>电脑网络</a:t>
            </a:r>
            <a:endParaRPr b="1" lang="en-US" sz="2800" spc="1" strike="noStrike">
              <a:ln w="9360">
                <a:solidFill>
                  <a:srgbClr val="000080"/>
                </a:solidFill>
                <a:round/>
              </a:ln>
              <a:solidFill>
                <a:srgbClr val="f2800e"/>
              </a:solidFill>
              <a:latin typeface="宋体"/>
              <a:ea typeface="宋体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13"/>
          <p:cNvSpPr/>
          <p:nvPr/>
        </p:nvSpPr>
        <p:spPr>
          <a:xfrm>
            <a:off x="838080" y="1981080"/>
            <a:ext cx="4038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读一读：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珊     灼      址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17" name="Text Box 14"/>
          <p:cNvSpPr/>
          <p:nvPr/>
        </p:nvSpPr>
        <p:spPr>
          <a:xfrm>
            <a:off x="838080" y="3348000"/>
            <a:ext cx="4021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查一查：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说说“灼”是什么意思？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18" name="Text Box 15"/>
          <p:cNvSpPr/>
          <p:nvPr/>
        </p:nvSpPr>
        <p:spPr>
          <a:xfrm>
            <a:off x="838080" y="4716360"/>
            <a:ext cx="7189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比一比，组词：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拒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(         )      </a:t>
            </a:r>
            <a:r>
              <a:rPr b="1" lang="zh-CN" sz="28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距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(          )      </a:t>
            </a:r>
            <a:r>
              <a:rPr b="1" lang="zh-CN" sz="28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矩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(          )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19" name="Text Box 17"/>
          <p:cNvSpPr/>
          <p:nvPr/>
        </p:nvSpPr>
        <p:spPr>
          <a:xfrm>
            <a:off x="5181480" y="393372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烧、</a:t>
            </a:r>
            <a:r>
              <a:rPr b="1" lang="zh-CN" sz="2400" spc="-1" strike="noStrike">
                <a:solidFill>
                  <a:srgbClr val="5f5f5f"/>
                </a:solidFill>
                <a:latin typeface="Times New Roman"/>
              </a:rPr>
              <a:t>烤</a:t>
            </a:r>
            <a:r>
              <a:rPr b="0" lang="zh-CN" sz="2400" spc="-1" strike="noStrike">
                <a:solidFill>
                  <a:srgbClr val="5f5f5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20" name="Text Box 19"/>
          <p:cNvSpPr/>
          <p:nvPr/>
        </p:nvSpPr>
        <p:spPr>
          <a:xfrm>
            <a:off x="468360" y="611280"/>
            <a:ext cx="867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黑体"/>
                <a:ea typeface="黑体"/>
              </a:rPr>
              <a:t>学习生字：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麦   聊   珊   兰   联  灼   肋   距   询   址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5"/>
          <p:cNvSpPr/>
          <p:nvPr/>
        </p:nvSpPr>
        <p:spPr>
          <a:xfrm>
            <a:off x="838080" y="9144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Times New Roman"/>
                <a:ea typeface="黑体"/>
              </a:rPr>
              <a:t>读一读，说一说：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1143000" y="2057400"/>
            <a:ext cx="72388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一天下午，</a:t>
            </a:r>
            <a:r>
              <a:rPr b="1" lang="zh-CN" sz="2800" spc="-1" strike="noStrike" u="sng">
                <a:solidFill>
                  <a:srgbClr val="5f5f5f"/>
                </a:solidFill>
                <a:uFillTx/>
                <a:latin typeface="Times New Roman"/>
                <a:ea typeface="楷体_GB2312"/>
              </a:rPr>
              <a:t>                                                  </a:t>
            </a:r>
            <a:r>
              <a:rPr b="1" lang="zh-CN" sz="28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将近六点，</a:t>
            </a:r>
            <a:r>
              <a:rPr b="1" lang="zh-CN" sz="2800" spc="-1" strike="noStrike" u="sng">
                <a:solidFill>
                  <a:srgbClr val="5f5f5f"/>
                </a:solidFill>
                <a:uFillTx/>
                <a:latin typeface="Times New Roman"/>
                <a:ea typeface="楷体_GB2312"/>
              </a:rPr>
              <a:t>                                                 </a:t>
            </a:r>
            <a:r>
              <a:rPr b="1" lang="zh-CN" sz="28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六点十分，</a:t>
            </a:r>
            <a:r>
              <a:rPr b="1" lang="zh-CN" sz="2800" spc="-1" strike="noStrike" u="sng">
                <a:solidFill>
                  <a:srgbClr val="5f5f5f"/>
                </a:solidFill>
                <a:uFillTx/>
                <a:latin typeface="Times New Roman"/>
                <a:ea typeface="楷体_GB2312"/>
              </a:rPr>
              <a:t>                                                 </a:t>
            </a:r>
            <a:r>
              <a:rPr b="1" lang="zh-CN" sz="28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十分钟后，</a:t>
            </a:r>
            <a:r>
              <a:rPr b="1" lang="zh-CN" sz="2800" spc="-1" strike="noStrike" u="sng">
                <a:solidFill>
                  <a:srgbClr val="5f5f5f"/>
                </a:solidFill>
                <a:uFillTx/>
                <a:latin typeface="Times New Roman"/>
                <a:ea typeface="楷体_GB2312"/>
              </a:rPr>
              <a:t>                                                 </a:t>
            </a:r>
            <a:r>
              <a:rPr b="1" lang="zh-CN" sz="28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六点三十分，</a:t>
            </a:r>
            <a:r>
              <a:rPr b="1" lang="zh-CN" sz="2800" spc="-1" strike="noStrike" u="sng">
                <a:solidFill>
                  <a:srgbClr val="5f5f5f"/>
                </a:solidFill>
                <a:uFillTx/>
                <a:latin typeface="Times New Roman"/>
                <a:ea typeface="楷体_GB2312"/>
              </a:rPr>
              <a:t>                                             </a:t>
            </a:r>
            <a:r>
              <a:rPr b="1" lang="zh-CN" sz="28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。</a:t>
            </a:r>
            <a:r>
              <a:rPr b="0" lang="zh-CN" sz="2400" spc="-1" strike="noStrike" u="sng">
                <a:solidFill>
                  <a:srgbClr val="5f5f5f"/>
                </a:solidFill>
                <a:uFillTx/>
                <a:latin typeface="Times New Roman"/>
              </a:rPr>
              <a:t>                                                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5"/>
          <p:cNvSpPr/>
          <p:nvPr/>
        </p:nvSpPr>
        <p:spPr>
          <a:xfrm>
            <a:off x="1008000" y="1620720"/>
            <a:ext cx="4572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Times New Roman"/>
                <a:ea typeface="黑体"/>
              </a:rPr>
              <a:t>读一读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1212840" y="2987640"/>
            <a:ext cx="616752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屏幕     互联网      困难      距离  夹住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询问      地址         灼痛      聊天 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11"/>
          <p:cNvSpPr/>
          <p:nvPr/>
        </p:nvSpPr>
        <p:spPr>
          <a:xfrm>
            <a:off x="1168200" y="1287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Times New Roman"/>
                <a:ea typeface="黑体"/>
              </a:rPr>
              <a:t>作业：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35" name="Text Box 12"/>
          <p:cNvSpPr/>
          <p:nvPr/>
        </p:nvSpPr>
        <p:spPr>
          <a:xfrm>
            <a:off x="1983240" y="227664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１、抄写词语。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36" name="Rectangle 13"/>
          <p:cNvSpPr/>
          <p:nvPr/>
        </p:nvSpPr>
        <p:spPr>
          <a:xfrm>
            <a:off x="1212840" y="2987640"/>
            <a:ext cx="616752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屏幕     互联网      困难      距离  夹住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询问      地址         灼痛      聊天 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37" name="Text Box 14"/>
          <p:cNvSpPr/>
          <p:nvPr/>
        </p:nvSpPr>
        <p:spPr>
          <a:xfrm>
            <a:off x="3044880" y="4565520"/>
            <a:ext cx="68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２、正确、流利地朗读课文。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6T09:58:10Z</dcterms:created>
  <dc:creator/>
  <dc:description/>
  <dc:language>en-US</dc:language>
  <cp:lastModifiedBy>Administrator</cp:lastModifiedBy>
  <dcterms:modified xsi:type="dcterms:W3CDTF">2017-02-16T09:58:24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06</vt:lpwstr>
  </property>
</Properties>
</file>