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562-8E05-44A5-8CE1-9EB555F7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3A1-7AED-4C1C-BDBA-0D0126FD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5C8-5FD7-4ECC-B193-A1C23F4B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D5D-29CC-4CCE-B56B-D86430F2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E6A-8660-48E2-9A39-FA445BB0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8EB-519C-4E6D-B65C-E63ACDC2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FC7-0062-414F-8E9F-52A2686F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E05-49B2-4D9E-A633-3ABF245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B05-7EAA-4CB8-A637-A0054DE0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704-885C-4635-91B4-6763AD40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077-904F-483B-B2ED-537C3A9A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2FE-07C3-4287-8D33-1F68C37D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ECED-532C-4A0C-A1AD-9751A971ED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66680" y="1371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语文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版 三年级 语文 上册 第三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76720" y="28954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故乡的酸枣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981080" y="28954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我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>
            <a:hlinkClick r:id="rId1" action="ppaction://hlinksldjump"/>
          </p:cNvPr>
          <p:cNvSpPr/>
          <p:nvPr/>
        </p:nvSpPr>
        <p:spPr>
          <a:xfrm>
            <a:off x="990720" y="4572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>
            <a:hlinkClick r:id="rId2" action="ppaction://hlinksldjump"/>
          </p:cNvPr>
          <p:cNvSpPr/>
          <p:nvPr/>
        </p:nvSpPr>
        <p:spPr>
          <a:xfrm>
            <a:off x="1981080" y="4572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生字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>
            <a:hlinkClick r:id="rId3" action="ppaction://hlinksldjump"/>
          </p:cNvPr>
          <p:cNvSpPr/>
          <p:nvPr/>
        </p:nvSpPr>
        <p:spPr>
          <a:xfrm>
            <a:off x="3886200" y="4572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课文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>
            <a:hlinkClick r:id="rId4" action="ppaction://hlinksldjump"/>
          </p:cNvPr>
          <p:cNvSpPr/>
          <p:nvPr/>
        </p:nvSpPr>
        <p:spPr>
          <a:xfrm>
            <a:off x="1295280" y="5257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课外拓展酸枣树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f88ab006bd7ff252030881fc"/>
          <p:cNvPicPr/>
          <p:nvPr/>
        </p:nvPicPr>
        <p:blipFill>
          <a:blip r:embed="rId2"/>
          <a:srcRect l="0" t="0" r="0" b="1998"/>
          <a:stretch/>
        </p:blipFill>
        <p:spPr>
          <a:xfrm>
            <a:off x="1523880" y="914400"/>
            <a:ext cx="61722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657600" y="5562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樱桃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6a9b121fdd6dc749f724e409"/>
          <p:cNvPicPr/>
          <p:nvPr/>
        </p:nvPicPr>
        <p:blipFill>
          <a:blip r:embed="rId2"/>
          <a:srcRect l="-397" t="4132" r="1999" b="5201"/>
          <a:stretch/>
        </p:blipFill>
        <p:spPr>
          <a:xfrm>
            <a:off x="1752480" y="914400"/>
            <a:ext cx="5867640" cy="4495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505320" y="556272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山楂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shizi1"/>
          <p:cNvPicPr/>
          <p:nvPr/>
        </p:nvPicPr>
        <p:blipFill>
          <a:blip r:embed="rId2"/>
          <a:stretch/>
        </p:blipFill>
        <p:spPr>
          <a:xfrm>
            <a:off x="1676520" y="685800"/>
            <a:ext cx="5715000" cy="4257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743200" y="51055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柿子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MCj04326670000[1]"/>
          <p:cNvPicPr/>
          <p:nvPr/>
        </p:nvPicPr>
        <p:blipFill>
          <a:blip r:embed="rId3"/>
          <a:stretch/>
        </p:blipFill>
        <p:spPr>
          <a:xfrm>
            <a:off x="7620120" y="53341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1219320" y="22860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她先是羞答答地捧出一两个黄茸茸的小尖芽像触角一样，试探着春天的信息。后来，嫩芽渐渐增多，不几天，就长成了浅绿色的叶片。天气晴朗的时候，酸枣叶在阳光下一闪一闪从远处看，像一树小巧玲珑的翡翠，可爱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0" y="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学习第二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219320" y="1295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品读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295280" y="1600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把小尖芽比作害羞的小姑娘，非常可爱、漂亮；运用拟人、比喻把酸枣树的叶儿写活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828800" y="3733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“小巧玲珑”说个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295280" y="1371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初夏时节，酸枣花开了，那黄黄的、米粒般大小的酸枣花，在绿叶的映衬下，像天空无数颗金色的小星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371600" y="2971800"/>
            <a:ext cx="6172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课文将酸枣花比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她与小星星有什么相同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谁能读出酸枣花的特点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61021981793708"/>
          <p:cNvPicPr/>
          <p:nvPr/>
        </p:nvPicPr>
        <p:blipFill>
          <a:blip r:embed="rId2"/>
          <a:stretch/>
        </p:blipFill>
        <p:spPr>
          <a:xfrm>
            <a:off x="1905120" y="9144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124080" y="53341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酸枣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295280" y="1523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一颗颗熟透了的酸枣挂在枝头，红红的，像玛瑙，像珍珠，漫山遍野，到处是火，到处是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523880" y="33526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自己的语言描绘这幅图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MCj04326670000[1]"/>
          <p:cNvPicPr/>
          <p:nvPr/>
        </p:nvPicPr>
        <p:blipFill>
          <a:blip r:embed="rId1"/>
          <a:stretch/>
        </p:blipFill>
        <p:spPr>
          <a:xfrm>
            <a:off x="830592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600200" y="21337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故乡这漫山遍野的酸枣树生长在哪儿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371600" y="1219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第三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3716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酸枣树是土生土长的，不需施肥浇水，却让人们吃到了甘美的果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MCj04326670000[1]"/>
          <p:cNvPicPr/>
          <p:nvPr/>
        </p:nvPicPr>
        <p:blipFill>
          <a:blip r:embed="rId1"/>
          <a:stretch/>
        </p:blipFill>
        <p:spPr>
          <a:xfrm>
            <a:off x="830592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14400" y="1219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酸枣树属灌木科木本植物，很难成树，长到杯口粗细便自然干枯，由根部再生嫩芽。黄土高原自古就有酸枣丛生，遍布阳坡，但要长成大树却十分罕见。酸枣的果实酸甜可口，具有许多营养成份，尤其酸枣仁历来就是滋补大脑、生血养血的良药。酸枣枝条质地坚硬，耐磨性好，一直是编织地磨的上好材料。它嫩条生长快，老杆却生长得十分缓慢，亦称铁树。能长成参天大树，实属不易，这就产生了一个美妙的传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5120" y="1828800"/>
            <a:ext cx="556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加上“我爱”有什么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我为什么喜欢酸枣树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05120" y="33526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想想这篇课文是按什么顺序写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MCj04326710000[1]"/>
          <p:cNvPicPr/>
          <p:nvPr/>
        </p:nvPicPr>
        <p:blipFill>
          <a:blip r:embed="rId2"/>
          <a:stretch/>
        </p:blipFill>
        <p:spPr>
          <a:xfrm>
            <a:off x="6477120" y="4572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0061021982812445"/>
          <p:cNvPicPr/>
          <p:nvPr/>
        </p:nvPicPr>
        <p:blipFill>
          <a:blip r:embed="rId1"/>
          <a:stretch/>
        </p:blipFill>
        <p:spPr>
          <a:xfrm>
            <a:off x="4343400" y="10666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006102198098682"/>
          <p:cNvPicPr/>
          <p:nvPr/>
        </p:nvPicPr>
        <p:blipFill>
          <a:blip r:embed="rId2"/>
          <a:stretch/>
        </p:blipFill>
        <p:spPr>
          <a:xfrm>
            <a:off x="1143000" y="35812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>
            <a:hlinkClick r:id="" action="ppaction://hlinkshowjump?jump=endshow"/>
          </p:cNvPr>
          <p:cNvSpPr/>
          <p:nvPr/>
        </p:nvSpPr>
        <p:spPr>
          <a:xfrm>
            <a:off x="8305920" y="601992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133720" y="19051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</a:rPr>
              <a:t>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4120" y="182880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</a:rPr>
              <a:t>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438280" y="914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410080" y="8380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209680" y="19051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</a:rPr>
              <a:t>增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486400" y="19051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8600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zē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715000" y="838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l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09680" y="18288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486400" y="175248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438280" y="9907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x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410080" y="990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lǐ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MCj04326710000[1]"/>
          <p:cNvPicPr/>
          <p:nvPr/>
        </p:nvPicPr>
        <p:blipFill>
          <a:blip r:embed="rId2"/>
          <a:stretch/>
        </p:blipFill>
        <p:spPr>
          <a:xfrm>
            <a:off x="6324480" y="5105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990720" y="114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指导分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219320" y="19051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第一段（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1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）：故乡有许多果树，我最爱的是酸枣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219320" y="3276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第二段（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2—4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）：描写了春、夏、秋酸枣树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219320" y="45720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Arial"/>
              </a:rPr>
              <a:t> 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Arial"/>
              </a:rPr>
              <a:t>第三段（</a:t>
            </a:r>
            <a:r>
              <a:rPr b="1" lang="en-US" sz="3200" spc="-1" strike="noStrike" u="sng">
                <a:solidFill>
                  <a:srgbClr val="6600ff"/>
                </a:solidFill>
                <a:uFillTx/>
                <a:latin typeface="Arial"/>
              </a:rPr>
              <a:t>5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Arial"/>
              </a:rPr>
              <a:t>）：赞美酸枣树默默奉献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MCj04326710000[1]"/>
          <p:cNvPicPr/>
          <p:nvPr/>
        </p:nvPicPr>
        <p:blipFill>
          <a:blip r:embed="rId1"/>
          <a:stretch/>
        </p:blipFill>
        <p:spPr>
          <a:xfrm>
            <a:off x="8229600" y="5867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134120" cy="3057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066680" y="1295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习第一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219320" y="228600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果树的王国”说明什么？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 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各种各样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1828800"/>
            <a:ext cx="69343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的故乡都有哪些种类的果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樱桃、山楂、柿子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你从哪儿看出酸枣树很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丛丛、一簇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4-12-30T03:54:1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