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12.jpeg" ContentType="image/jpeg"/>
  <Override PartName="/ppt/media/image6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8.png" ContentType="image/png"/>
  <Override PartName="/ppt/media/image11.jpeg" ContentType="image/jpeg"/>
  <Override PartName="/ppt/media/image4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776-518E-43E2-9A7A-7ADD12D5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B38-BE76-4E36-86CB-59BC27F6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08D-AB17-4515-8048-792E8A65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07DB-B090-4639-BD0B-9B311D4C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9CBF-4030-43F9-93BD-9EA87EF3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8DC-26B6-4E2B-958A-476C2014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0AF-F4C6-4635-8480-F4A384E5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4ED-D0E5-4E3D-864C-744EF817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A11-86D4-4943-8EED-FD911FA3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8C0-EA38-4D85-9661-ECD303F8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0EB-AE24-44E3-8139-1DE30177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0B0-A50A-4BAB-B925-1A1DF98F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1C2E-1D4E-496D-8EA7-B9BF06E7FE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55640" y="306864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바탕"/>
                <a:ea typeface="바탕"/>
              </a:rPr>
              <a:t>你的家乡在哪里？有什么特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cdb1f"/>
                </a:solidFill>
                <a:latin typeface="Arial"/>
              </a:rPr>
              <a:t>小练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5280" y="1341360"/>
            <a:ext cx="858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的故乡在江南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爱故乡的杨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838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雨如丝，一棵棵杨梅树贪婪地吮吸着春天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甘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g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ā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n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露。它们伸展着四季常绿的枝条，一片片狭长的叶子在雨雾中欢笑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4000" cy="6308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3132000" y="6308640"/>
          <a:ext cx="4321440" cy="5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6308640"/>
                    <a:ext cx="432144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350040" y="6308640"/>
          <a:ext cx="2793960" cy="549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50040" y="6308640"/>
                    <a:ext cx="27939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7391520" y="6324480"/>
            <a:ext cx="760320" cy="76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8893080" y="0"/>
            <a:ext cx="250920" cy="6308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836640"/>
            <a:ext cx="7848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露   平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滑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贪婪   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道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桂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   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津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酸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软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四季常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2060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è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59640" y="2060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j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8000" y="39337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ruǎ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27640" y="260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chú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9337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su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060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gu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60280"/>
            <a:ext cx="19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g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206064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bǎ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260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hu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6308640"/>
          <a:ext cx="4321080" cy="54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6308640"/>
                    <a:ext cx="43210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403280" y="3284640"/>
            <a:ext cx="6589800" cy="3460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4920" y="0"/>
            <a:ext cx="91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杨梅圆圆的，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gu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ì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圆一样大小，遍身生着小刺。等杨梅渐渐长熟，刺也渐渐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软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ru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ǎ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n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，平了，摘一个放进嘴里，舌尖触到杨梅那平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滑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hu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á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刺，使人感到细腻而且柔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4005360"/>
            <a:ext cx="3492360" cy="2619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476280"/>
            <a:ext cx="813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e3043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杨梅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淡红的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随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变成深红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最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乎变成黑的了。它不是真的变黑，因为太红了，所以像黑的。你轻轻咬开它，就可以看见那新鲜红嫩的果肉，嘴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ú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n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、舌头上同时染满了鲜红的汁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62064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没有熟透的杨梅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酸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su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ā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n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又甜，熟透了就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津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j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ī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n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津的，叫人越吃越爱吃。我小时候，有一次吃杨梅，吃得太多了，发觉牙齿又酸又软，连豆腐也咬不动了。我才知道杨梅虽然熟透了，酸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味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w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è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i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还是有的，因为它太甜，吃起来就不觉得酸了。吃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饱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b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ǎ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o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杨梅再吃别的东西，才感觉到牙齿被它酸倒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11280" y="90792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，杨梅挂满枝头，样子（     ），遍身（     ），成熟后，刺（     ）。开始，杨梅的颜色是（    ）随后（      ），最后（      ）。没有成熟的杨梅吃在嘴里（      ）。成熟了就（      ）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38280" y="1143000"/>
            <a:ext cx="549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6880" y="1219320"/>
            <a:ext cx="78984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爱故乡的杨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1676520"/>
            <a:ext cx="685800" cy="2666880"/>
          </a:xfrm>
          <a:custGeom>
            <a:avLst/>
            <a:gdLst>
              <a:gd name="textAreaLeft" fmla="*/ 438120 w 685800"/>
              <a:gd name="textAreaRight" fmla="*/ 686160 w 6858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12193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9907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1280" y="685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枝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990720"/>
            <a:ext cx="4572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季常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1676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叶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057400"/>
            <a:ext cx="6858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1752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狭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3809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3048120"/>
            <a:ext cx="685800" cy="2361960"/>
          </a:xfrm>
          <a:custGeom>
            <a:avLst/>
            <a:gdLst>
              <a:gd name="textAreaLeft" fmla="*/ 438120 w 685800"/>
              <a:gd name="textAreaRight" fmla="*/ 686160 w 68580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43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124080"/>
            <a:ext cx="6858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259092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圆圆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桂元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样大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小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3733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颜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571640" y="4114800"/>
            <a:ext cx="6094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37339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淡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3809880"/>
            <a:ext cx="0" cy="2286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3962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深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4343400"/>
            <a:ext cx="0" cy="2286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4495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几乎变成黑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味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5486400"/>
            <a:ext cx="685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518148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4952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酸又甜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5334120"/>
            <a:ext cx="0" cy="3045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5638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甜津津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94640" y="914400"/>
            <a:ext cx="5493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07880" y="685800"/>
            <a:ext cx="1155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表达了作者热爱故乡的思想感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91520" y="914400"/>
            <a:ext cx="825480" cy="4952880"/>
          </a:xfrm>
          <a:custGeom>
            <a:avLst/>
            <a:gdLst>
              <a:gd name="textAreaLeft" fmla="*/ 0 w 825480"/>
              <a:gd name="textAreaRight" fmla="*/ 298080 w 825480"/>
              <a:gd name="textAreaTop" fmla="*/ 128880 h 4952880"/>
              <a:gd name="textAreaBottom" fmla="*/ 4824000 h 495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8-31T18:57:41Z</dcterms:modified>
  <cp:revision>0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