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BCE-D972-4EA0-B129-3C391D63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57C-D066-44A7-B1A5-23EB413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0A9-B5E8-4E81-B161-4643EB52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E44-62CA-4BB5-A007-182E5068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51F8-EEC3-40E2-94B4-59D1D922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1D7C-2CD1-401F-AA76-92DA267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2AA4-9CB2-413F-AEF2-29BA7CB4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E022-20CF-49F1-BAD6-147C7855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B567-D9AD-4FD6-8AF6-AD5AA4B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1369-3F83-4423-B3DA-E89D3BB2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FE22-E35B-43C3-9E2B-2B76489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ED2-EA4C-4083-9EFD-1D51E1E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DFEB-AB48-475B-8F0A-1A572BC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E56-22DE-43BC-9114-533F749D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6AC6-6450-4AB6-AF2A-1071BE7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CC5-E18E-4632-80DC-D24224F9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A5DD-C82C-4C18-B777-A879CFC7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D2AF-B18D-4E64-9405-A57A420A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164C-C202-4BF7-AA4E-82037D42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5DFA-243A-45FB-A127-CD189DA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3520-49E6-4ACE-BD42-0EDE9B46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F32D-F6D6-4A08-84C0-A0A0EDCD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293-FC7A-4FFD-A327-C296140B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21ED-BE0F-4DA5-B066-4F7080A2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E57A-9D09-495E-A188-62007661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5EC7-14D5-4E04-8353-A8624EA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8E50-F1CE-4211-86C7-FF6F6FF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3C75-6429-464F-AB93-A83591CF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D4E9-83F4-4065-ACC0-B9B2751D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04A5-F475-4237-8AF1-8C399051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D598-8853-4C7C-AC3F-81B047DA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26A0-BDC8-423D-B0E9-B945367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12FC-8DC7-4F0C-82FA-40B1ACDD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692-8FDD-47D6-866D-14032E33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7055-1ADB-4D09-8903-241D2A3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A763-810F-40DD-A37C-1467810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9BF5-8DE0-4CB3-B055-E1F965FF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4C36-7B66-4287-86D7-1ED5E2C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1C99-C0E7-4FD9-847D-CFC33A6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E0D8-BFD3-4CCF-82D1-EF9CA62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3D5E-6039-41B0-9FB0-DC9C2E7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16A5-957D-405C-A857-A06EABAB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0407-AD87-4EA5-B207-D124145D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FD5E-D8E4-4AFA-8C68-780EF9B0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518-A5BE-4258-9183-9BD4C4FA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09E3-76C4-4B03-AA1F-1D13B61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E178-60DF-4587-98D0-B9873659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F29F-DB5F-4FCB-9D8B-566BB75B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820D-53FA-4BF8-AC72-94B3418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E56D4-0932-4F3F-B6E9-BC26337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DCBD-4A77-413C-9E78-00F084B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49C48-512A-43DD-BB4E-C7BF3DF0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94FE-BCC2-4D47-B593-2A723E39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7C8D-C6C3-4F40-B7D0-C37D99C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3DA81-3B59-456D-B3A0-88E37FDF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7B9-37F6-491B-B46F-FA034F00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72AE-B82A-45DF-8580-2AAC3D0E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E41-3FEF-4018-8293-609C73E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B78-F5C8-4F54-9014-256DD794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D77-D7B2-475D-9850-E2B6F53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DA88-BED7-4BE3-A66B-D47FFEAF28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3F01-5FEB-429A-998A-37F60E906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FAC9-FD53-4B4D-9F88-EBFA737790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31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grpSp>
          <p:nvGrpSpPr>
            <p:cNvPr id="132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133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34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35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36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dt" idx="10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11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2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A995-2E3C-4E58-A54F-C3F3EBEF4DCF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79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180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1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2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3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4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5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6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7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88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89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0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1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2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1F3-B70E-418C-83B4-E3EB77707190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7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42920" y="2637000"/>
            <a:ext cx="7705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8800" spc="-1" strike="noStrike">
                <a:solidFill>
                  <a:srgbClr val="0000ff"/>
                </a:solidFill>
                <a:latin typeface="Times New Roman"/>
              </a:rPr>
              <a:t>我不能失信</a:t>
            </a:r>
            <a:endParaRPr b="0" lang="en-US" sz="8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27050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微软雅黑"/>
              </a:rPr>
              <a:t>思考：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幼圆"/>
              </a:rPr>
              <a:t>爸爸和妈妈是怎么劝说的？她是怎么说的？</a:t>
            </a:r>
            <a:endParaRPr b="1" lang="en-US" sz="5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幼圆"/>
              </a:rPr>
              <a:t>你从中受到了启示？</a:t>
            </a:r>
            <a:endParaRPr b="1" lang="en-US" sz="5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5280" y="1341360"/>
            <a:ext cx="59054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小组分角色朗读课文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260440"/>
            <a:ext cx="6954840" cy="28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幼圆"/>
              </a:rPr>
              <a:t>小组长主持，分配角色，练读</a:t>
            </a: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1337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d3f41"/>
                </a:solidFill>
                <a:latin typeface="Arial"/>
              </a:rPr>
              <a:t>你认为宋庆龄做得对吗？为什么？</a:t>
            </a:r>
            <a:endParaRPr b="0" lang="en-US" sz="7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520" y="23619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600" spc="-1" strike="noStrike">
                <a:solidFill>
                  <a:srgbClr val="3d3f41"/>
                </a:solidFill>
                <a:latin typeface="微软雅黑"/>
                <a:ea typeface="黑体"/>
              </a:rPr>
              <a:t>诚信是金</a:t>
            </a:r>
            <a:endParaRPr b="1" lang="en-US" sz="96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242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黑体"/>
                <a:ea typeface="黑体"/>
              </a:rPr>
              <a:t>一言</a:t>
            </a:r>
            <a:r>
              <a:rPr b="1" lang="zh-CN" sz="7200" spc="-1" strike="noStrike">
                <a:solidFill>
                  <a:srgbClr val="ff3300"/>
                </a:solidFill>
                <a:latin typeface="黑体"/>
                <a:ea typeface="黑体"/>
              </a:rPr>
              <a:t>既</a:t>
            </a:r>
            <a:r>
              <a:rPr b="0" lang="en-US" sz="5400" spc="-1" strike="noStrike">
                <a:solidFill>
                  <a:srgbClr val="3d3f41"/>
                </a:solidFill>
                <a:latin typeface="黑体"/>
                <a:ea typeface="黑体"/>
              </a:rPr>
              <a:t>jì</a:t>
            </a:r>
            <a:r>
              <a:rPr b="1" lang="zh-CN" sz="5400" spc="-1" strike="noStrike">
                <a:solidFill>
                  <a:srgbClr val="3d3f41"/>
                </a:solidFill>
                <a:latin typeface="黑体"/>
                <a:ea typeface="黑体"/>
              </a:rPr>
              <a:t>出，</a:t>
            </a: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驷</a:t>
            </a:r>
            <a:r>
              <a:rPr b="0" lang="en-US" sz="5400" spc="-1" strike="noStrike">
                <a:solidFill>
                  <a:srgbClr val="3d3f41"/>
                </a:solidFill>
                <a:latin typeface="黑体"/>
                <a:ea typeface="黑体"/>
              </a:rPr>
              <a:t>sì</a:t>
            </a:r>
            <a:r>
              <a:rPr b="1" lang="zh-CN" sz="5400" spc="-1" strike="noStrike">
                <a:solidFill>
                  <a:srgbClr val="3d3f41"/>
                </a:solidFill>
                <a:latin typeface="黑体"/>
                <a:ea typeface="黑体"/>
              </a:rPr>
              <a:t>马难追。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6a63cb"/>
                </a:solidFill>
                <a:latin typeface="Arial"/>
              </a:rPr>
              <a:t>——</a:t>
            </a:r>
            <a:r>
              <a:rPr b="0" lang="en-US" sz="5400" spc="-1" strike="noStrike">
                <a:solidFill>
                  <a:srgbClr val="6a63cb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6a63cb"/>
                </a:solidFill>
                <a:latin typeface="Arial"/>
              </a:rPr>
              <a:t>论语</a:t>
            </a:r>
            <a:r>
              <a:rPr b="1" lang="en-US" sz="5400" spc="-1" strike="noStrike">
                <a:solidFill>
                  <a:srgbClr val="6a63cb"/>
                </a:solidFill>
                <a:latin typeface="Arial"/>
              </a:rPr>
              <a:t>·</a:t>
            </a:r>
            <a:r>
              <a:rPr b="1" lang="zh-CN" sz="5400" spc="-1" strike="noStrike">
                <a:solidFill>
                  <a:srgbClr val="6a63cb"/>
                </a:solidFill>
                <a:latin typeface="Arial"/>
              </a:rPr>
              <a:t>颜渊</a:t>
            </a:r>
            <a:r>
              <a:rPr b="0" lang="en-US" sz="5400" spc="-1" strike="noStrike">
                <a:solidFill>
                  <a:srgbClr val="6a63cb"/>
                </a:solidFill>
                <a:latin typeface="Arial"/>
              </a:rPr>
              <a:t>》</a:t>
            </a:r>
            <a:r>
              <a:rPr b="0" lang="en-US" sz="5400" spc="-1" strike="noStrike">
                <a:solidFill>
                  <a:srgbClr val="3d3f41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13360"/>
            <a:ext cx="89154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d3f41"/>
                </a:solidFill>
                <a:latin typeface="Arial"/>
                <a:ea typeface="黑体"/>
              </a:rPr>
              <a:t>言必信，行必果。</a:t>
            </a:r>
            <a:endParaRPr b="0" lang="en-US" sz="8000" spc="-1" strike="noStrike">
              <a:solidFill>
                <a:srgbClr val="39393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a63cb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a63cb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6a63cb"/>
                </a:solidFill>
                <a:latin typeface="Arial"/>
              </a:rPr>
              <a:t>——</a:t>
            </a:r>
            <a:r>
              <a:rPr b="1" lang="en-US" sz="5400" spc="-1" strike="noStrike">
                <a:solidFill>
                  <a:srgbClr val="6a63cb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6a63cb"/>
                </a:solidFill>
                <a:latin typeface="Arial"/>
              </a:rPr>
              <a:t>论语</a:t>
            </a:r>
            <a:r>
              <a:rPr b="1" lang="en-US" sz="5400" spc="-1" strike="noStrike">
                <a:solidFill>
                  <a:srgbClr val="6a63cb"/>
                </a:solidFill>
                <a:latin typeface="Arial"/>
              </a:rPr>
              <a:t>·</a:t>
            </a:r>
            <a:r>
              <a:rPr b="1" lang="zh-CN" sz="5400" spc="-1" strike="noStrike">
                <a:solidFill>
                  <a:srgbClr val="6a63cb"/>
                </a:solidFill>
                <a:latin typeface="Arial"/>
              </a:rPr>
              <a:t>子路</a:t>
            </a:r>
            <a:r>
              <a:rPr b="1" lang="en-US" sz="5400" spc="-1" strike="noStrike">
                <a:solidFill>
                  <a:srgbClr val="6a63cb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诚实守信的成语：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一言既出，驷马难追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言必信，行必果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一诺千金 、     取信于人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言而有信、      言行一致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093080" y="1268280"/>
            <a:ext cx="2046240" cy="5473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5400000">
            <a:off x="5745240" y="18223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成语大观园</a:t>
            </a:r>
            <a:endParaRPr b="0" i="1" lang="en-US" sz="2400" spc="-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中华诚信歌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115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中华五千年，诚信代代传。一诺值千金，为人不食言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思想想诚信，语言说诚信，行动做诚信，诚信扎下根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诚信满社会，九洲气象新，南来北往客，都是－家人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924680" y="762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zh-CN" sz="3200" spc="-1" strike="noStrike">
                <a:solidFill>
                  <a:srgbClr val="3d3f41"/>
                </a:solidFill>
                <a:latin typeface="微软雅黑"/>
              </a:rPr>
              <a:t>诚信之约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们祝愿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: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诚信的种子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播撒荒芜的心田；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们牢记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: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古往今来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那些诚信的教导；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们神往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: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茫茫人间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那些诚信的榜样；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们呼唤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: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彼此诚实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 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一清如水；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们承诺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: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对朋友忠诚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对世人关爱！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924680" y="762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zh-CN" sz="3200" spc="-1" strike="noStrike">
                <a:solidFill>
                  <a:srgbClr val="3d3f41"/>
                </a:solidFill>
                <a:latin typeface="微软雅黑"/>
                <a:ea typeface="华文新魏"/>
              </a:rPr>
              <a:t>制作诚信卡</a:t>
            </a:r>
            <a:r>
              <a:rPr b="1" i="1" lang="en-US" sz="3200" spc="-1" strike="noStrike">
                <a:solidFill>
                  <a:srgbClr val="3d3f41"/>
                </a:solidFill>
                <a:latin typeface="微软雅黑"/>
                <a:ea typeface="华文新魏"/>
              </a:rPr>
              <a:t>: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幼圆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  <a:ea typeface="华文新魏"/>
              </a:rPr>
              <a:t>给自己设计制作一张“诚信卡”，正面可写上自己喜欢的一句有关诚信的格言，背面可写上自己在诚信方面的努力方向，以便经常提醒、督促自己，做一个诚实守信的人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486400" y="4950000"/>
            <a:ext cx="314784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10720" y="1017720"/>
            <a:ext cx="777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宋庆龄是一位（           ）的女性，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为新中国的解放，做出了巨大的努力，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曾经担任过（                     ），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Arial"/>
              </a:rPr>
              <a:t>(                   ),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她非常喜欢（              ），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关注（               ），在她的支持下，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创办了</a:t>
            </a:r>
            <a:r>
              <a:rPr b="1" lang="en-US" sz="4000" spc="-1" strike="noStrike">
                <a:solidFill>
                  <a:srgbClr val="3d3f41"/>
                </a:solidFill>
                <a:latin typeface="Arial"/>
              </a:rPr>
              <a:t>《                 》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914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伟大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2096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家副主席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28195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少年儿童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0384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儿童时代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34290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少年儿童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9718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名誉主席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58672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你了解她吗？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157480" cy="2779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858000" y="3505320"/>
            <a:ext cx="180180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2879640" cy="226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248520" y="304920"/>
            <a:ext cx="2523960" cy="21668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666880" y="457200"/>
            <a:ext cx="3237120" cy="2203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228600" y="3276720"/>
            <a:ext cx="203040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86184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时间）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宋耀如一家准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备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地点）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en-US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谁）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很想去。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她突然想起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什么事）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爸爸妈妈都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劝她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怎么做）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，但她为了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什么）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还是留下来了。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64640" y="-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课文讲了一件什么事情？根据提示补充。</a:t>
            </a:r>
            <a:endParaRPr b="0" lang="en-US" sz="36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25848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星期天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时间）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宋耀如一家准备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去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一位朋友家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地点）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宋庆龄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谁）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很想去。她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突然想起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要教小珍叠花篮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什么事）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爸爸妈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妈都劝她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改天再教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怎么做）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，但她为了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不失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d3f41"/>
                </a:solidFill>
                <a:uFillTx/>
                <a:latin typeface="黑体"/>
                <a:ea typeface="黑体"/>
              </a:rPr>
              <a:t>信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什么）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还是留下来了。</a:t>
            </a:r>
            <a:endParaRPr b="0" lang="en-US" sz="4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76640" cy="2862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048120" y="228600"/>
            <a:ext cx="1993680" cy="231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486400" y="0"/>
            <a:ext cx="327672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04920"/>
            <a:ext cx="86104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庆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政治家，社会活动家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人民共和国主要领导人之一。广东文昌（今属海南）人。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生于上海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毕业于美国佐治亚州梅肯威斯理女子大学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和孙中山结婚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孙中山逝世后继续坚持联俄、联共、扶助农工三大政策。</a:t>
            </a:r>
            <a:r>
              <a:rPr b="0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当选远东反帝反战同盟中国分会主席。</a:t>
            </a:r>
            <a:r>
              <a:rPr b="0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国抗日战争胜利后，她呼吁美国人民制止美国政府支持蒋介石打内战。又创办“中国福利基金会”，从事妇幼福利事业。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微软雅黑"/>
              </a:rPr>
              <a:t>初读课文</a:t>
            </a:r>
            <a:endParaRPr b="1" lang="en-US" sz="60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幼圆"/>
              </a:rPr>
              <a:t>借助拼音读生字</a:t>
            </a:r>
            <a:endParaRPr b="1" lang="en-US" sz="72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幼圆"/>
              </a:rPr>
              <a:t>读不通顺的多读几遍</a:t>
            </a:r>
            <a:endParaRPr b="1" lang="en-US" sz="72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27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8200" y="1411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会读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7720" y="1222200"/>
            <a:ext cx="7587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耀眼  照耀  闪耀  抽水  解释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表示  歉意  道歉  失信  守信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尖尖的嘴巴   红红的眼睛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叠花篮    甜甜地笑了   扑空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03280" y="90792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思考：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2421000"/>
            <a:ext cx="7993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１</a:t>
            </a:r>
            <a:r>
              <a:rPr b="0" lang="en-US" sz="48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故事发生在什么时候？</a:t>
            </a:r>
            <a:endParaRPr b="0" lang="en-US" sz="4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２</a:t>
            </a:r>
            <a:r>
              <a:rPr b="0" lang="en-US" sz="48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文中讲到了几个人？</a:t>
            </a:r>
            <a:endParaRPr b="0" lang="en-US" sz="4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３</a:t>
            </a:r>
            <a:r>
              <a:rPr b="0" lang="en-US" sz="48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3d3f41"/>
                </a:solidFill>
                <a:latin typeface="Arial"/>
              </a:rPr>
              <a:t>课文讲了一件什么事？</a:t>
            </a:r>
            <a:endParaRPr b="0" lang="en-US" sz="4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47640" y="289080"/>
            <a:ext cx="7596360" cy="65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360" y="907560"/>
            <a:ext cx="251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思考：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76000" y="1988640"/>
            <a:ext cx="65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幼圆"/>
              </a:rPr>
              <a:t>宋庆龄想不想去伯伯家？为什么？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幼圆"/>
              </a:rPr>
              <a:t>她为什么停下脚步？</a:t>
            </a:r>
            <a:endParaRPr b="1" lang="en-US" sz="48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8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08:50:03Z</dcterms:created>
  <dc:creator>Administrator</dc:creator>
  <dc:description/>
  <dc:language>en-US</dc:language>
  <cp:lastModifiedBy/>
  <dcterms:modified xsi:type="dcterms:W3CDTF">2015-08-19T08:51:53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