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39B-6A0E-4030-B9B8-1009DBB8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73356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B9B-55D3-4941-B2B3-EE3B1EE1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A11-C8AA-4ED9-8B67-151BF0BB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166-BFB6-48C0-8A55-97FB3075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53B0-2E42-4F94-A60F-83278344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062C-724C-4C08-872B-F0D8B169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4EFE-AEF9-4EBA-BC09-B5E99211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7EF8-31C4-427D-9E8D-1EFFF887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19D4-75D5-4D2A-9A66-1F9AC61E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F63F-8864-4BB2-89D4-6ABA05AE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CE81-D4CE-4910-B573-054DC63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482-4754-48AE-993F-D4E7D007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028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CCD5-FAFB-412B-8BEA-83C4BCA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4B8C-8ED2-4578-BC9D-414F0B8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8560" y="373356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7809-8291-4056-8F46-733A7D8E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028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89A4-85B3-41BC-825F-69FB8D05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9544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6232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856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9544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6232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6DC0-C249-4CE7-AB83-3B111D3D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6E7B6-47EC-499C-A663-C3CDF976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1BC7-B304-40B4-BAB3-01494F68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ECA9-C1E6-49A8-B9C3-71E8390E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B42C-8FA1-4DCF-8A88-72CF5DAE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EAE6-0073-4328-9FDC-23992FB1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9EC-9B60-4EF6-AA30-0740C4D6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67BFE-1C3E-4E43-83AC-386DD80A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B7BE-B741-4482-B5EC-554A80FB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FAE5-685F-48EA-8C45-2919F82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1C74-728A-423D-8168-A2A70EC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8560" y="373356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2E33-A128-458A-B62B-040D1344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806EE-6C46-435C-9BAC-93188291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9544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232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856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9544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232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67C6-8F66-455A-B02E-A005CF91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22861-358E-4948-A26C-1636DDF3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8C74-65F9-460E-AB7D-C7D6D528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986A-6704-4815-BBF7-0E45561B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1FF-717E-4393-8CBA-ECEB53F2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0A45-0D96-427B-9449-EBF37A2A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C28C-1F2C-4789-9208-622C78D8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C2EC4-E25F-4975-B2B3-E901A165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5169-E5C8-4DEB-B98F-D95D6EF0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28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F7C2-C97D-47F7-BD69-7CFE5A1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7EBD-C293-4BC0-9826-4D6951C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8560" y="373356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0529-0FCD-486C-88C7-BFDB66BC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28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99B31-B380-453E-977B-91B900B7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9544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62320" y="133020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856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9544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62320" y="3733560"/>
            <a:ext cx="253944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A7CE-3B44-4629-A8BC-EA9813FB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854-71BC-4E98-9222-3BEE781C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0CB-7032-42F6-84FD-38D90BE0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DC9-A611-4175-B579-9FB88655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73356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661-896B-4C04-9F8D-3D5450E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30200"/>
            <a:ext cx="384876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733560"/>
            <a:ext cx="7886880" cy="21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26F-CA30-4D53-83B5-A73076E8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6c2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4B6E-C620-4799-9FFC-F17391070A95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2B4E-03E8-4AF4-8E9A-FAC7642CAC8F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4"/>
          <p:cNvGrpSpPr/>
          <p:nvPr/>
        </p:nvGrpSpPr>
        <p:grpSpPr>
          <a:xfrm>
            <a:off x="685800" y="812880"/>
            <a:ext cx="7772400" cy="3111480"/>
            <a:chOff x="685800" y="812880"/>
            <a:chExt cx="7772400" cy="3111480"/>
          </a:xfrm>
        </p:grpSpPr>
        <p:sp>
          <p:nvSpPr>
            <p:cNvPr id="42" name="Rectangle 9"/>
            <p:cNvSpPr/>
            <p:nvPr/>
          </p:nvSpPr>
          <p:spPr>
            <a:xfrm>
              <a:off x="2881080" y="1028160"/>
              <a:ext cx="3381840" cy="2153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43" name="Rectangle 10"/>
            <p:cNvSpPr/>
            <p:nvPr/>
          </p:nvSpPr>
          <p:spPr>
            <a:xfrm>
              <a:off x="3049920" y="1163880"/>
              <a:ext cx="3044160" cy="176004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44" name="Freeform 11"/>
            <p:cNvSpPr/>
            <p:nvPr/>
          </p:nvSpPr>
          <p:spPr>
            <a:xfrm>
              <a:off x="2658960" y="812880"/>
              <a:ext cx="3826080" cy="2496240"/>
            </a:xfrm>
            <a:custGeom>
              <a:avLst/>
              <a:gdLst/>
              <a:ahLst/>
              <a:rect l="l" t="t" r="r" b="b"/>
              <a:pathLst>
                <a:path w="432" h="312">
                  <a:moveTo>
                    <a:pt x="397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295"/>
                    <a:pt x="15" y="312"/>
                    <a:pt x="33" y="312"/>
                  </a:cubicBezTo>
                  <a:cubicBezTo>
                    <a:pt x="397" y="312"/>
                    <a:pt x="397" y="312"/>
                    <a:pt x="397" y="312"/>
                  </a:cubicBezTo>
                  <a:cubicBezTo>
                    <a:pt x="416" y="312"/>
                    <a:pt x="432" y="295"/>
                    <a:pt x="432" y="276"/>
                  </a:cubicBezTo>
                  <a:cubicBezTo>
                    <a:pt x="432" y="35"/>
                    <a:pt x="432" y="35"/>
                    <a:pt x="432" y="35"/>
                  </a:cubicBezTo>
                  <a:cubicBezTo>
                    <a:pt x="432" y="16"/>
                    <a:pt x="416" y="0"/>
                    <a:pt x="397" y="0"/>
                  </a:cubicBezTo>
                  <a:close/>
                  <a:moveTo>
                    <a:pt x="408" y="284"/>
                  </a:moveTo>
                  <a:cubicBezTo>
                    <a:pt x="24" y="284"/>
                    <a:pt x="24" y="284"/>
                    <a:pt x="24" y="284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408" y="28"/>
                    <a:pt x="408" y="28"/>
                    <a:pt x="408" y="28"/>
                  </a:cubicBezTo>
                  <a:lnTo>
                    <a:pt x="408" y="284"/>
                  </a:lnTo>
                  <a:close/>
                </a:path>
              </a:pathLst>
            </a:custGeom>
            <a:solidFill>
              <a:srgbClr val="1c2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45" name="Freeform 12"/>
            <p:cNvSpPr/>
            <p:nvPr/>
          </p:nvSpPr>
          <p:spPr>
            <a:xfrm>
              <a:off x="3651120" y="3467880"/>
              <a:ext cx="1832040" cy="424080"/>
            </a:xfrm>
            <a:custGeom>
              <a:avLst/>
              <a:gdLst/>
              <a:ahLst/>
              <a:rect l="l" t="t" r="r" b="b"/>
              <a:pathLst>
                <a:path w="207" h="53">
                  <a:moveTo>
                    <a:pt x="163" y="35"/>
                  </a:moveTo>
                  <a:cubicBezTo>
                    <a:pt x="207" y="35"/>
                    <a:pt x="207" y="35"/>
                    <a:pt x="207" y="35"/>
                  </a:cubicBezTo>
                  <a:cubicBezTo>
                    <a:pt x="207" y="53"/>
                    <a:pt x="207" y="53"/>
                    <a:pt x="207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4" y="35"/>
                    <a:pt x="44" y="35"/>
                    <a:pt x="44" y="35"/>
                  </a:cubicBezTo>
                  <a:cubicBezTo>
                    <a:pt x="48" y="31"/>
                    <a:pt x="53" y="24"/>
                    <a:pt x="58" y="11"/>
                  </a:cubicBezTo>
                  <a:cubicBezTo>
                    <a:pt x="58" y="11"/>
                    <a:pt x="61" y="1"/>
                    <a:pt x="66" y="0"/>
                  </a:cubicBezTo>
                  <a:cubicBezTo>
                    <a:pt x="69" y="0"/>
                    <a:pt x="86" y="0"/>
                    <a:pt x="104" y="0"/>
                  </a:cubicBezTo>
                  <a:cubicBezTo>
                    <a:pt x="121" y="0"/>
                    <a:pt x="138" y="0"/>
                    <a:pt x="141" y="0"/>
                  </a:cubicBezTo>
                  <a:cubicBezTo>
                    <a:pt x="146" y="1"/>
                    <a:pt x="149" y="11"/>
                    <a:pt x="149" y="11"/>
                  </a:cubicBezTo>
                  <a:cubicBezTo>
                    <a:pt x="154" y="24"/>
                    <a:pt x="159" y="31"/>
                    <a:pt x="163" y="35"/>
                  </a:cubicBezTo>
                  <a:close/>
                </a:path>
              </a:pathLst>
            </a:custGeom>
            <a:solidFill>
              <a:srgbClr val="464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46" name="Freeform 13"/>
            <p:cNvSpPr/>
            <p:nvPr/>
          </p:nvSpPr>
          <p:spPr>
            <a:xfrm>
              <a:off x="4340520" y="3467880"/>
              <a:ext cx="1142640" cy="42408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85" y="35"/>
                  </a:moveTo>
                  <a:cubicBezTo>
                    <a:pt x="81" y="31"/>
                    <a:pt x="76" y="24"/>
                    <a:pt x="71" y="11"/>
                  </a:cubicBezTo>
                  <a:cubicBezTo>
                    <a:pt x="71" y="11"/>
                    <a:pt x="68" y="1"/>
                    <a:pt x="63" y="0"/>
                  </a:cubicBezTo>
                  <a:cubicBezTo>
                    <a:pt x="60" y="0"/>
                    <a:pt x="43" y="0"/>
                    <a:pt x="26" y="0"/>
                  </a:cubicBezTo>
                  <a:cubicBezTo>
                    <a:pt x="16" y="0"/>
                    <a:pt x="7" y="0"/>
                    <a:pt x="0" y="0"/>
                  </a:cubicBezTo>
                  <a:cubicBezTo>
                    <a:pt x="21" y="15"/>
                    <a:pt x="41" y="33"/>
                    <a:pt x="59" y="53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29" y="35"/>
                    <a:pt x="129" y="35"/>
                    <a:pt x="129" y="35"/>
                  </a:cubicBezTo>
                  <a:lnTo>
                    <a:pt x="85" y="35"/>
                  </a:lnTo>
                  <a:close/>
                </a:path>
              </a:pathLst>
            </a:custGeom>
            <a:solidFill>
              <a:srgbClr val="1c2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47" name="Rectangle 14"/>
            <p:cNvSpPr/>
            <p:nvPr/>
          </p:nvSpPr>
          <p:spPr>
            <a:xfrm>
              <a:off x="3049920" y="1163880"/>
              <a:ext cx="1061640" cy="351000"/>
            </a:xfrm>
            <a:prstGeom prst="rect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48" name="Rectangle 15"/>
            <p:cNvSpPr/>
            <p:nvPr/>
          </p:nvSpPr>
          <p:spPr>
            <a:xfrm>
              <a:off x="3049920" y="1515240"/>
              <a:ext cx="1061640" cy="1409040"/>
            </a:xfrm>
            <a:prstGeom prst="rect">
              <a:avLst/>
            </a:prstGeom>
            <a:solidFill>
              <a:srgbClr val="3c4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49" name="Rectangle 16"/>
            <p:cNvSpPr/>
            <p:nvPr/>
          </p:nvSpPr>
          <p:spPr>
            <a:xfrm>
              <a:off x="3225600" y="1676160"/>
              <a:ext cx="707760" cy="288360"/>
            </a:xfrm>
            <a:prstGeom prst="rect">
              <a:avLst/>
            </a:prstGeom>
            <a:solidFill>
              <a:srgbClr val="1c2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0" name="Rectangle 17"/>
            <p:cNvSpPr/>
            <p:nvPr/>
          </p:nvSpPr>
          <p:spPr>
            <a:xfrm>
              <a:off x="3225600" y="2157120"/>
              <a:ext cx="707760" cy="286200"/>
            </a:xfrm>
            <a:prstGeom prst="rect">
              <a:avLst/>
            </a:prstGeom>
            <a:solidFill>
              <a:srgbClr val="1c2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1" name="Rectangle 18"/>
            <p:cNvSpPr/>
            <p:nvPr/>
          </p:nvSpPr>
          <p:spPr>
            <a:xfrm>
              <a:off x="3225600" y="2604600"/>
              <a:ext cx="707760" cy="160920"/>
            </a:xfrm>
            <a:prstGeom prst="rect">
              <a:avLst/>
            </a:prstGeom>
            <a:solidFill>
              <a:srgbClr val="1c2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2" name="Rectangle 19"/>
            <p:cNvSpPr/>
            <p:nvPr/>
          </p:nvSpPr>
          <p:spPr>
            <a:xfrm>
              <a:off x="4537440" y="1548720"/>
              <a:ext cx="1309320" cy="96120"/>
            </a:xfrm>
            <a:prstGeom prst="rect">
              <a:avLst/>
            </a:prstGeom>
            <a:solidFill>
              <a:srgbClr val="ffc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3" name="Rectangle 20"/>
            <p:cNvSpPr/>
            <p:nvPr/>
          </p:nvSpPr>
          <p:spPr>
            <a:xfrm>
              <a:off x="4537440" y="1803600"/>
              <a:ext cx="1309320" cy="96120"/>
            </a:xfrm>
            <a:prstGeom prst="rect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4" name="Rectangle 21"/>
            <p:cNvSpPr/>
            <p:nvPr/>
          </p:nvSpPr>
          <p:spPr>
            <a:xfrm>
              <a:off x="4537440" y="2061000"/>
              <a:ext cx="1309320" cy="96120"/>
            </a:xfrm>
            <a:prstGeom prst="rect">
              <a:avLst/>
            </a:prstGeom>
            <a:solidFill>
              <a:srgbClr val="ffc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5" name="Rectangle 22"/>
            <p:cNvSpPr/>
            <p:nvPr/>
          </p:nvSpPr>
          <p:spPr>
            <a:xfrm>
              <a:off x="4537440" y="2315880"/>
              <a:ext cx="1309320" cy="96120"/>
            </a:xfrm>
            <a:prstGeom prst="rect">
              <a:avLst/>
            </a:prstGeom>
            <a:solidFill>
              <a:srgbClr val="464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4537440" y="2572920"/>
              <a:ext cx="1309320" cy="96120"/>
            </a:xfrm>
            <a:prstGeom prst="rect">
              <a:avLst/>
            </a:prstGeom>
            <a:solidFill>
              <a:srgbClr val="ffc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685800" y="3739320"/>
              <a:ext cx="286200" cy="185040"/>
            </a:xfrm>
            <a:prstGeom prst="rect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8" name="Rectangle 26"/>
            <p:cNvSpPr/>
            <p:nvPr/>
          </p:nvSpPr>
          <p:spPr>
            <a:xfrm>
              <a:off x="972000" y="3391200"/>
              <a:ext cx="276120" cy="533160"/>
            </a:xfrm>
            <a:prstGeom prst="rect">
              <a:avLst/>
            </a:prstGeom>
            <a:solidFill>
              <a:srgbClr val="ffc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1248480" y="2868120"/>
              <a:ext cx="286200" cy="1056240"/>
            </a:xfrm>
            <a:prstGeom prst="rect">
              <a:avLst/>
            </a:prstGeom>
            <a:solidFill>
              <a:srgbClr val="464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534680" y="2491560"/>
              <a:ext cx="284040" cy="1432800"/>
            </a:xfrm>
            <a:prstGeom prst="rect">
              <a:avLst/>
            </a:prstGeom>
            <a:solidFill>
              <a:srgbClr val="1c2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818720" y="3306600"/>
              <a:ext cx="278280" cy="617760"/>
            </a:xfrm>
            <a:prstGeom prst="rect">
              <a:avLst/>
            </a:prstGeom>
            <a:solidFill>
              <a:srgbClr val="ffc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62" name="Rectangle 30"/>
            <p:cNvSpPr/>
            <p:nvPr/>
          </p:nvSpPr>
          <p:spPr>
            <a:xfrm>
              <a:off x="2097360" y="3669120"/>
              <a:ext cx="284040" cy="255240"/>
            </a:xfrm>
            <a:prstGeom prst="rect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63" name="Rectangle 32"/>
            <p:cNvSpPr/>
            <p:nvPr/>
          </p:nvSpPr>
          <p:spPr>
            <a:xfrm>
              <a:off x="8182080" y="3739320"/>
              <a:ext cx="276120" cy="185040"/>
            </a:xfrm>
            <a:prstGeom prst="rect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64" name="Rectangle 33"/>
            <p:cNvSpPr/>
            <p:nvPr/>
          </p:nvSpPr>
          <p:spPr>
            <a:xfrm>
              <a:off x="7895520" y="3391200"/>
              <a:ext cx="286200" cy="533160"/>
            </a:xfrm>
            <a:prstGeom prst="rect">
              <a:avLst/>
            </a:prstGeom>
            <a:solidFill>
              <a:srgbClr val="ffc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65" name="Rectangle 34"/>
            <p:cNvSpPr/>
            <p:nvPr/>
          </p:nvSpPr>
          <p:spPr>
            <a:xfrm>
              <a:off x="7611480" y="2868120"/>
              <a:ext cx="284040" cy="1056240"/>
            </a:xfrm>
            <a:prstGeom prst="rect">
              <a:avLst/>
            </a:prstGeom>
            <a:solidFill>
              <a:srgbClr val="464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66" name="Rectangle 35"/>
            <p:cNvSpPr/>
            <p:nvPr/>
          </p:nvSpPr>
          <p:spPr>
            <a:xfrm>
              <a:off x="7332840" y="2491560"/>
              <a:ext cx="278280" cy="1432800"/>
            </a:xfrm>
            <a:prstGeom prst="rect">
              <a:avLst/>
            </a:prstGeom>
            <a:solidFill>
              <a:srgbClr val="1c2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67" name="Rectangle 36"/>
            <p:cNvSpPr/>
            <p:nvPr/>
          </p:nvSpPr>
          <p:spPr>
            <a:xfrm>
              <a:off x="7048800" y="3306600"/>
              <a:ext cx="284040" cy="617760"/>
            </a:xfrm>
            <a:prstGeom prst="rect">
              <a:avLst/>
            </a:prstGeom>
            <a:solidFill>
              <a:srgbClr val="ffc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68" name="Rectangle 37"/>
            <p:cNvSpPr/>
            <p:nvPr/>
          </p:nvSpPr>
          <p:spPr>
            <a:xfrm>
              <a:off x="6762600" y="3669120"/>
              <a:ext cx="286200" cy="255240"/>
            </a:xfrm>
            <a:prstGeom prst="rect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6c2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61F5-1F41-45DC-9970-33F8CD7C8CF2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6EF6-5AD9-483E-9A84-977AA149D45C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6"/>
          <p:cNvGrpSpPr/>
          <p:nvPr/>
        </p:nvGrpSpPr>
        <p:grpSpPr>
          <a:xfrm>
            <a:off x="2703600" y="728640"/>
            <a:ext cx="3736800" cy="2978280"/>
            <a:chOff x="2703600" y="728640"/>
            <a:chExt cx="3736800" cy="2978280"/>
          </a:xfrm>
        </p:grpSpPr>
        <p:sp>
          <p:nvSpPr>
            <p:cNvPr id="111" name="Rectangle 9"/>
            <p:cNvSpPr/>
            <p:nvPr/>
          </p:nvSpPr>
          <p:spPr>
            <a:xfrm>
              <a:off x="2920320" y="936720"/>
              <a:ext cx="3303000" cy="20826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2703600" y="728640"/>
              <a:ext cx="3736800" cy="2414160"/>
            </a:xfrm>
            <a:custGeom>
              <a:avLst/>
              <a:gdLst/>
              <a:ahLst/>
              <a:rect l="l" t="t" r="r" b="b"/>
              <a:pathLst>
                <a:path w="432" h="312">
                  <a:moveTo>
                    <a:pt x="397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295"/>
                    <a:pt x="15" y="312"/>
                    <a:pt x="33" y="312"/>
                  </a:cubicBezTo>
                  <a:cubicBezTo>
                    <a:pt x="397" y="312"/>
                    <a:pt x="397" y="312"/>
                    <a:pt x="397" y="312"/>
                  </a:cubicBezTo>
                  <a:cubicBezTo>
                    <a:pt x="416" y="312"/>
                    <a:pt x="432" y="295"/>
                    <a:pt x="432" y="276"/>
                  </a:cubicBezTo>
                  <a:cubicBezTo>
                    <a:pt x="432" y="35"/>
                    <a:pt x="432" y="35"/>
                    <a:pt x="432" y="35"/>
                  </a:cubicBezTo>
                  <a:cubicBezTo>
                    <a:pt x="432" y="16"/>
                    <a:pt x="416" y="0"/>
                    <a:pt x="397" y="0"/>
                  </a:cubicBezTo>
                  <a:close/>
                  <a:moveTo>
                    <a:pt x="408" y="284"/>
                  </a:moveTo>
                  <a:cubicBezTo>
                    <a:pt x="24" y="284"/>
                    <a:pt x="24" y="284"/>
                    <a:pt x="24" y="284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408" y="28"/>
                    <a:pt x="408" y="28"/>
                    <a:pt x="408" y="28"/>
                  </a:cubicBezTo>
                  <a:lnTo>
                    <a:pt x="408" y="284"/>
                  </a:lnTo>
                  <a:close/>
                </a:path>
              </a:pathLst>
            </a:custGeom>
            <a:solidFill>
              <a:srgbClr val="1c2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13" name="Freeform 12"/>
            <p:cNvSpPr/>
            <p:nvPr/>
          </p:nvSpPr>
          <p:spPr>
            <a:xfrm>
              <a:off x="3672720" y="3296520"/>
              <a:ext cx="1789200" cy="410400"/>
            </a:xfrm>
            <a:custGeom>
              <a:avLst/>
              <a:gdLst/>
              <a:ahLst/>
              <a:rect l="l" t="t" r="r" b="b"/>
              <a:pathLst>
                <a:path w="207" h="53">
                  <a:moveTo>
                    <a:pt x="163" y="35"/>
                  </a:moveTo>
                  <a:cubicBezTo>
                    <a:pt x="207" y="35"/>
                    <a:pt x="207" y="35"/>
                    <a:pt x="207" y="35"/>
                  </a:cubicBezTo>
                  <a:cubicBezTo>
                    <a:pt x="207" y="53"/>
                    <a:pt x="207" y="53"/>
                    <a:pt x="207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4" y="35"/>
                    <a:pt x="44" y="35"/>
                    <a:pt x="44" y="35"/>
                  </a:cubicBezTo>
                  <a:cubicBezTo>
                    <a:pt x="48" y="31"/>
                    <a:pt x="53" y="24"/>
                    <a:pt x="58" y="11"/>
                  </a:cubicBezTo>
                  <a:cubicBezTo>
                    <a:pt x="58" y="11"/>
                    <a:pt x="61" y="1"/>
                    <a:pt x="66" y="0"/>
                  </a:cubicBezTo>
                  <a:cubicBezTo>
                    <a:pt x="69" y="0"/>
                    <a:pt x="86" y="0"/>
                    <a:pt x="104" y="0"/>
                  </a:cubicBezTo>
                  <a:cubicBezTo>
                    <a:pt x="121" y="0"/>
                    <a:pt x="138" y="0"/>
                    <a:pt x="141" y="0"/>
                  </a:cubicBezTo>
                  <a:cubicBezTo>
                    <a:pt x="146" y="1"/>
                    <a:pt x="149" y="11"/>
                    <a:pt x="149" y="11"/>
                  </a:cubicBezTo>
                  <a:cubicBezTo>
                    <a:pt x="154" y="24"/>
                    <a:pt x="159" y="31"/>
                    <a:pt x="163" y="35"/>
                  </a:cubicBezTo>
                  <a:close/>
                </a:path>
              </a:pathLst>
            </a:custGeom>
            <a:solidFill>
              <a:srgbClr val="464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14" name="Freeform 13"/>
            <p:cNvSpPr/>
            <p:nvPr/>
          </p:nvSpPr>
          <p:spPr>
            <a:xfrm>
              <a:off x="4345920" y="3296520"/>
              <a:ext cx="1116000" cy="41040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85" y="35"/>
                  </a:moveTo>
                  <a:cubicBezTo>
                    <a:pt x="81" y="31"/>
                    <a:pt x="76" y="24"/>
                    <a:pt x="71" y="11"/>
                  </a:cubicBezTo>
                  <a:cubicBezTo>
                    <a:pt x="71" y="11"/>
                    <a:pt x="68" y="1"/>
                    <a:pt x="63" y="0"/>
                  </a:cubicBezTo>
                  <a:cubicBezTo>
                    <a:pt x="60" y="0"/>
                    <a:pt x="43" y="0"/>
                    <a:pt x="26" y="0"/>
                  </a:cubicBezTo>
                  <a:cubicBezTo>
                    <a:pt x="16" y="0"/>
                    <a:pt x="7" y="0"/>
                    <a:pt x="0" y="0"/>
                  </a:cubicBezTo>
                  <a:cubicBezTo>
                    <a:pt x="21" y="15"/>
                    <a:pt x="41" y="33"/>
                    <a:pt x="59" y="53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29" y="35"/>
                    <a:pt x="129" y="35"/>
                    <a:pt x="129" y="35"/>
                  </a:cubicBezTo>
                  <a:lnTo>
                    <a:pt x="85" y="35"/>
                  </a:lnTo>
                  <a:close/>
                </a:path>
              </a:pathLst>
            </a:custGeom>
            <a:solidFill>
              <a:srgbClr val="1c2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6c2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361D-C94C-49E5-9B8F-487756A1EED8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7ED4-88B7-4B85-91E1-0ED71B567959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5"/>
          <p:cNvSpPr/>
          <p:nvPr/>
        </p:nvSpPr>
        <p:spPr>
          <a:xfrm>
            <a:off x="0" y="2170080"/>
            <a:ext cx="9144000" cy="251784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ctr">
            <a:noAutofit/>
          </a:bodyPr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6c2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28560" y="1330200"/>
            <a:ext cx="788688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fc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6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c6c2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8EA1-4435-49A9-8A07-5DF04EF5F510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B76F-C5A4-46BC-BF75-C3FB0942DFBF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b2"/>
          <p:cNvPicPr/>
          <p:nvPr/>
        </p:nvPicPr>
        <p:blipFill>
          <a:blip r:embed="rId2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b3"/>
          <p:cNvPicPr/>
          <p:nvPr/>
        </p:nvPicPr>
        <p:blipFill>
          <a:blip r:embed="rId3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b4"/>
          <p:cNvPicPr/>
          <p:nvPr/>
        </p:nvPicPr>
        <p:blipFill>
          <a:blip r:embed="rId4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b5"/>
          <p:cNvPicPr/>
          <p:nvPr/>
        </p:nvPicPr>
        <p:blipFill>
          <a:blip r:embed="rId5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b6"/>
          <p:cNvPicPr/>
          <p:nvPr/>
        </p:nvPicPr>
        <p:blipFill>
          <a:blip r:embed="rId6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  <p:sp>
        <p:nvSpPr>
          <p:cNvPr id="204" name="WordArt 10"/>
          <p:cNvSpPr txBox="1"/>
          <p:nvPr/>
        </p:nvSpPr>
        <p:spPr>
          <a:xfrm>
            <a:off x="1403280" y="2060640"/>
            <a:ext cx="612144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*3 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我画什么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900000" y="836640"/>
            <a:ext cx="72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116000" y="226224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假如我有一支神笔</a:t>
            </a:r>
            <a:r>
              <a:rPr b="1" lang="en-US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……”</a:t>
            </a:r>
            <a:r>
              <a:rPr b="1" lang="zh-CN" sz="4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为开头，写一段连贯的话。</a:t>
            </a:r>
            <a:endParaRPr b="0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900000" y="836640"/>
            <a:ext cx="72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353840" y="1469880"/>
            <a:ext cx="1029600" cy="33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、抄写生字词语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、有感情的朗读课文，读出人物的不同语气。 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5"/>
          <p:cNvSpPr/>
          <p:nvPr/>
        </p:nvSpPr>
        <p:spPr>
          <a:xfrm>
            <a:off x="395280" y="404640"/>
            <a:ext cx="2232000" cy="280836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6084720" y="404640"/>
            <a:ext cx="2651400" cy="273708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1332000" y="1778040"/>
            <a:ext cx="63370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一个叫马良的孩子得到一支神笔，用它画什么，什么就变成真的了。画的公鸡会啼叫，画的犁头能耕地</a:t>
            </a:r>
            <a:r>
              <a:rPr b="1" lang="en-US" sz="3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……</a:t>
            </a:r>
            <a:r>
              <a:rPr b="1" lang="zh-CN" sz="34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多带劲啊！</a:t>
            </a:r>
            <a:endParaRPr b="0" lang="en-US" sz="3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2"/>
          <p:cNvSpPr/>
          <p:nvPr/>
        </p:nvSpPr>
        <p:spPr>
          <a:xfrm>
            <a:off x="1044720" y="1947960"/>
            <a:ext cx="792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611280" y="1125360"/>
            <a:ext cx="764388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自学要求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、轻声读课文，读准字音，读通句子，标上小节号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、想想课文主要写了一件什么事，请用几句话介绍一下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五个小学生羡慕 </a:t>
            </a:r>
            <a:r>
              <a:rPr b="1" lang="zh-CN" sz="2800" spc="-1" strike="noStrike" u="sng">
                <a:solidFill>
                  <a:srgbClr val="5f5f5f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，都希望自己 </a:t>
            </a:r>
            <a:r>
              <a:rPr b="1" lang="zh-CN" sz="2800" spc="-1" strike="noStrike" u="sng">
                <a:solidFill>
                  <a:srgbClr val="5f5f5f"/>
                </a:solidFill>
                <a:uFillTx/>
                <a:latin typeface="楷体_GB2312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，用它</a:t>
            </a:r>
            <a:r>
              <a:rPr b="1" lang="zh-CN" sz="2800" spc="-1" strike="noStrike" u="sng">
                <a:solidFill>
                  <a:srgbClr val="5f5f5f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826920" y="2201760"/>
            <a:ext cx="753300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读课文第</a:t>
            </a: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节，思考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五个小朋友分别想用神笔画什么？用直线划出有关的句子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1908000" y="1125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听我说，我要给我们足球队画一个大球场，像世界杯赛那样的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050920" y="263700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我呀，要画一个凉棚，给大街上的民警叔叔遮风挡雨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124000" y="414972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我要画好多好多双眼睛，送给爸爸、妈妈和他们的工友们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0"/>
          <p:cNvSpPr/>
          <p:nvPr/>
        </p:nvSpPr>
        <p:spPr>
          <a:xfrm>
            <a:off x="1763640" y="2766960"/>
            <a:ext cx="604836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周明：俨然是个大人似的说、慢条斯理地说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王斌：认真的提议   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元元：抢着说道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张小丽：欲言又止   深情地说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476360" y="98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快速读课文，圈出文中描写不同人物怎样说的词语，读一读，读好人物的语言</a:t>
            </a:r>
            <a:r>
              <a:rPr b="0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7"/>
          <p:cNvSpPr/>
          <p:nvPr/>
        </p:nvSpPr>
        <p:spPr>
          <a:xfrm>
            <a:off x="1440000" y="1989000"/>
            <a:ext cx="73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403280" y="14929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听我说，我要给我们足球队画一个大球场，像世界杯赛那样的。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元元抢着说道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403280" y="31298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我呀，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周明慢条斯理地说，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要画一个凉棚，给大街上的民警叔叔遮风挡雨。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547640" y="450072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我要画好多好多双眼睛，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张小丽深情地接着说，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送给爸爸、妈妈和他们的工友。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1692360" y="1628640"/>
            <a:ext cx="597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小朋友都想假如有一支神笔，又只能画一次，大家一定先让张小丽画，是因为</a:t>
            </a:r>
            <a:r>
              <a:rPr b="1" lang="zh-CN" sz="3200" spc="-1" strike="noStrike" u="sng">
                <a:solidFill>
                  <a:srgbClr val="5f5f5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1187280" y="1547640"/>
            <a:ext cx="655344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黑体"/>
              </a:rPr>
              <a:t>读词语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和煦     连环画     耕地      俨然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七嘴八舌      慢条斯理      凉棚      盲人</a:t>
            </a:r>
            <a:r>
              <a:rPr b="0" lang="zh-CN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9:52:43Z</dcterms:created>
  <dc:creator/>
  <dc:description/>
  <dc:language>en-US</dc:language>
  <cp:lastModifiedBy>Administrator</cp:lastModifiedBy>
  <dcterms:modified xsi:type="dcterms:W3CDTF">2017-02-16T09:53:02Z</dcterms:modified>
  <cp:revision>1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