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C45-98DA-4432-B8C7-1FF861CF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27C-5678-40B9-B6C1-585827F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1BA-EEFC-450E-9494-2DD039ED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3BE-05F1-4BCD-9245-03A40E1B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451-1542-4629-AACB-B06D909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A83-353E-482E-AD87-BE751138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209-B6FE-45F7-9DC9-CB573D65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455-4288-45F6-AFB3-BCAEC8F3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88A-AA7A-4768-9107-A09878B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106-9DC3-4F8C-8D3E-2154D14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B6E-7E76-4273-AAAD-20847596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0D9-6455-49B5-8A6E-8313566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C0BE-CE76-4FAE-9FF5-6DA6AD010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58,54,&#24187;&#28783;&#29255; 54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教室里读书，在操场上游戏；去科技馆参观，去少年宫演出；到小河边钓鱼摸虾，到树林里采集标本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5573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我们的生活像七彩的图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414972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在快乐的生活里，我们一天天长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让我们走近课文，去感受生活的             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4653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丰富多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1701720"/>
            <a:ext cx="67975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时候，窗外十分安静，树枝不摇了，鸟儿不叫了，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蝴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停在花朵上，好像在听同学们读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3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8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91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4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12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蝶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16360" y="333360"/>
            <a:ext cx="53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你学会读新词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1557360"/>
            <a:ext cx="67327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坪坝      傣族      摔跤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松鼠      山狸      摇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铜钟       粗壮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/>
              </a:rPr>
              <a:t>凤尾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绒球花      打招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孔雀舞  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绚丽多彩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高高飘扬    穿戴     蝴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260280"/>
            <a:ext cx="833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早晨，从山坡上，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坝里，从一条条开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球花和太阳花的小路上，走来了许多小学生，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的，有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的，有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和德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的，还有汉族的。大家穿戴不同、语言不同，来到学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成了好朋友。那鲜艳的民族服装，把学校打扮的更加绚丽多彩。同学们向在校园里欢唱的小鸟打招呼，向敬爱的老师问好，向高高飘扬的国旗敬礼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6021360"/>
            <a:ext cx="79200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3737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你仿佛看到了什么，听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31071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，当当！当，当当！”大青树上钟声敲响了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上课了，不同民族的小学生，在同一间教室里学习。大家一起读课文，那声音真好听！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这时候，窗外十分安静，树枝不摇了，鸟儿不叫了，蝴蝶停在花朵上，好像都在听同学们读课文。最有趣的是跑来了几只猴子。这些山林里的朋友是那样好奇地听着同学们读课文。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6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默读课文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比一比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781360"/>
            <a:ext cx="812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家一起读课文，那声音真好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家一起读课文，那声音真好听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364500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5200" y="5000760"/>
            <a:ext cx="6645240" cy="1692360"/>
          </a:xfrm>
          <a:prstGeom prst="wedgeEllipseCallout">
            <a:avLst>
              <a:gd name="adj1" fmla="val -43754"/>
              <a:gd name="adj2" fmla="val 667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※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通过这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感叹号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     你感受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2761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，当当！当，当当！”大青树上钟声敲响了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上课了，不同民族的小学生，在同一间教室里学习。大家一起读课文，那声音真好听！这时候，窗外十分安静，树枝不摇了，鸟儿不叫了，蝴蝶停在花朵上，好像都在听同学们读课文。最有趣的是跑来了几只猴子。这些山林里的朋友是那样好奇地听着同学们读课文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6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默读课文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填一填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213372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时候，窗外十分安静，树枝（       ）了，鸟儿（      ）了，蝴蝶（                  ），好像都在听同学们读课文。最有趣的是跑来了几只猴子。这些山林里的朋友，（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读一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213372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时候，窗外十分安静，树枝不摇了，鸟儿不叫了，蝴蝶停在花朵上，好像都在听同学们读课文。最有趣的是跑来了几只猴子。这些山林里的朋友是那样好奇地听着同学们读课文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7640" y="2060640"/>
            <a:ext cx="676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我们的民族小学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6308640"/>
            <a:ext cx="792000" cy="358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7481" t="12636" r="129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79792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下课了，大家在大青树下跳孔雀舞、摔跤、做游戏，招引来许多小鸟，连松鼠、山狸也赶来看热闹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联系课堂作业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第五题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《小练笔》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写一写下课时的情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97000" y="2349360"/>
            <a:ext cx="79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一所边疆的民族小学，这是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美丽的学校，更是一所团结的学校；大家虽然来自不同的家庭，不同的民族，但都是好朋友，共同生活在社会主义的大家庭里，紧密团结在五星红旗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16920" y="228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  <a:ea typeface="幼圆"/>
              </a:rPr>
              <a:t>综合性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52640"/>
            <a:ext cx="78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在学校过着快乐的学习生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余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又是怎么安排的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我们开展一次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自己的课余生活记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lù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用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叙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shù)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填表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画图画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记录边整理资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准备和同学交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57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0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7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78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27816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雀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1" name="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99" name=""/>
          <p:cNvGraphicFramePr/>
          <p:nvPr/>
        </p:nvGraphicFramePr>
        <p:xfrm>
          <a:off x="1828800" y="914400"/>
          <a:ext cx="5334120" cy="49276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</a:tblGrid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3125880" y="7621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舞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836640"/>
            <a:ext cx="4498920" cy="339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53038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景颇族，民风纯朴、直爽，是一个骁勇的民族，他们从小就和大人一起上山打猎，肩背挎包、腰挂长刀、肩扛铜枪炮，十分威武。景颇族妇女善编织，能够织出数百种彩色图案花纹，其中大多数是动植物的图形，精美艳丽。在改革开放的今天，贫穷落后的景颇山已经出现了繁荣兴旺的景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746600"/>
            <a:ext cx="3809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景颇族</a:t>
            </a:r>
            <a:r>
              <a:rPr b="0" lang="en-US" sz="1800" spc="-1" strike="noStrike">
                <a:solidFill>
                  <a:srgbClr val="333333"/>
                </a:solidFill>
                <a:latin typeface="Tahoma"/>
                <a:ea typeface="Tahoma"/>
              </a:rPr>
              <a:t> 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  <a:ea typeface="Tahoma"/>
              </a:rPr>
              <a:t>     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要分布在云南德宏傣族景颇族自治州的潞西、陇川、 盈江、瑞丽、梁河五县，少部分散居于其他州县。景颇族的来源与青藏高原上古代氐羌人有关先后出现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峨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遮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等名称。新中国成立后，经民族识别确认为景颇族。语言属汉藏语系藏缅语族 。过去没有自己的文字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纪末叶创制了以拉丁字 母为基础的拼音文字。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000" spc="-1" strike="noStrike">
                <a:solidFill>
                  <a:srgbClr val="333333"/>
                </a:solidFill>
                <a:latin typeface="Tahoma"/>
                <a:ea typeface="Tahoma"/>
              </a:rPr>
              <a:t>         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16720" y="3805200"/>
            <a:ext cx="2535120" cy="28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4120" y="111816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                               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傣  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51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主要聚居在云南省西部靠边境的弧形地带， 西双版纳傣族治州德宏傣族景颇族自治州以及耿马、孟连、元江、新平等自治县。傣族历史悠久。在汉代，傣族先民称为“滇越”，清代多称“摆夷”，新中国成立后，根据傣族人民的意愿，正式定名为傣族 。 　　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傣语属于汉藏语系壮侗语族壮傣语支。傣文都从印度字母脱化而来。长期以来，聪明智慧的傣家人用这些文字，记载着傣族深渊的文化和历史。傣族有“旱傣”、“水傣”、“花腰傣”之分，不同的装饰代表着其支系的服饰文化。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616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8616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4167360" cy="567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4952880"/>
            <a:ext cx="419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  <a:ea typeface="Tahoma"/>
              </a:rPr>
              <a:t>阿 昌 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主要居住在云南省德宏傣族景颇族自治州的陇川和梁河县。 阿昌族自古以擅种水 稻而闻名。阿昌族是中国云南境内最早的世居民族之一。古代汉文史籍曾记载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峨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娥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莪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阿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萼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都是对阿昌族不同时期的称谓。 新中国成立后，根据本民族的意愿，统称为阿昌族。 阿昌族有自己的语言，属汉藏语系藏缅语族。由于长期和汉、傣等民族交错杂居 ，所以阿昌人一般又能讲汉语、傣语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59360" y="5562000"/>
            <a:ext cx="122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333333"/>
                </a:solidFill>
                <a:latin typeface="Tahoma"/>
                <a:ea typeface="Tahoma"/>
              </a:rPr>
              <a:t>                             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1145800">
            <a:off x="5105520" y="-228240"/>
            <a:ext cx="3582720" cy="556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4093200"/>
            <a:ext cx="40384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333333"/>
                </a:solidFill>
                <a:latin typeface="Tahoma"/>
                <a:ea typeface="Tahoma"/>
              </a:rPr>
              <a:t>                               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  <a:ea typeface="Tahoma"/>
              </a:rPr>
              <a:t>纳 西 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有人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800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。主要聚居在云南丽江纳西族自治县，其余散布于维西、中甸、德钦、宁蒗、永胜等县。曾经被称为“摩沙”、“磨些”、“么些”、“摩梭”。“纳”有大或尊贵之意，“西”意为人。新中国成立后，统一定名为纳西族。纳西族有自己的语言和文字。其语言属汉藏语系藏缅语族彝语支。由于与汉族来往密切，自元、明以后，纳西族主要使用汉语文。至于古老的象形文字，主要由巫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来书写经典，故又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巴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另有一种音节文字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哥巴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使用范围很小，写成的经书也不多。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9792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幼圆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2280" y="28954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坝 傣 昌 昂 跤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438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à      dǎi    chāng   áng    jiā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50840" y="1311120"/>
            <a:ext cx="71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些生字你有印象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9480" y="2378160"/>
            <a:ext cx="676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940f4"/>
                </a:solidFill>
                <a:latin typeface="楷体_GB2312"/>
                <a:ea typeface="楷体_GB2312"/>
              </a:rPr>
              <a:t>傣  跤 颇</a:t>
            </a:r>
            <a:r>
              <a:rPr b="0" lang="en-US" sz="7200" spc="-1" strike="noStrike">
                <a:solidFill>
                  <a:srgbClr val="68a004"/>
                </a:solidFill>
                <a:latin typeface="楷体_GB2312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4940f4"/>
                </a:solidFill>
                <a:latin typeface="楷体_GB2312"/>
                <a:ea typeface="楷体_GB2312"/>
              </a:rPr>
              <a:t>昌</a:t>
            </a:r>
            <a:r>
              <a:rPr b="0" lang="en-US" sz="7200" spc="-1" strike="noStrike">
                <a:solidFill>
                  <a:srgbClr val="68a004"/>
                </a:solidFill>
                <a:latin typeface="楷体_GB2312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4940f4"/>
                </a:solidFill>
                <a:latin typeface="楷体_GB2312"/>
                <a:ea typeface="楷体_GB2312"/>
              </a:rPr>
              <a:t>昂</a:t>
            </a:r>
            <a:r>
              <a:rPr b="0" lang="en-US" sz="7200" spc="-1" strike="noStrike">
                <a:solidFill>
                  <a:srgbClr val="68a004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2425f"/>
                </a:solidFill>
                <a:latin typeface="楷体_GB2312"/>
                <a:ea typeface="楷体_GB2312"/>
              </a:rPr>
              <a:t>铜</a:t>
            </a:r>
            <a:r>
              <a:rPr b="0" lang="en-US" sz="7200" spc="-1" strike="noStrike">
                <a:solidFill>
                  <a:srgbClr val="68a004"/>
                </a:solidFill>
                <a:latin typeface="楷体_GB2312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f2425f"/>
                </a:solidFill>
                <a:latin typeface="楷体_GB2312"/>
                <a:ea typeface="楷体_GB2312"/>
              </a:rPr>
              <a:t>粗 尾 招 坪 坝</a:t>
            </a:r>
            <a:r>
              <a:rPr b="0" lang="en-US" sz="7200" spc="-1" strike="noStrike">
                <a:solidFill>
                  <a:srgbClr val="68a004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2425f"/>
                </a:solidFill>
                <a:latin typeface="楷体_GB2312"/>
                <a:ea typeface="楷体_GB2312"/>
              </a:rPr>
              <a:t>孔 雀 舞 戴 蝴 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68360" y="1197000"/>
            <a:ext cx="63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425f"/>
                </a:solidFill>
                <a:latin typeface="Times New Roman"/>
              </a:rPr>
              <a:t>绚 丽 多 彩</a:t>
            </a:r>
            <a:r>
              <a:rPr b="1" lang="zh-CN" sz="2800" spc="-1" strike="noStrike">
                <a:solidFill>
                  <a:srgbClr val="f2425f"/>
                </a:solidFill>
                <a:latin typeface="Times New Roman"/>
              </a:rPr>
              <a:t>（近义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4560" y="2971800"/>
            <a:ext cx="57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8a004"/>
                </a:solidFill>
                <a:latin typeface="Times New Roman"/>
              </a:rPr>
              <a:t>五彩斑斓    五彩缤纷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8a004"/>
                </a:solidFill>
                <a:latin typeface="Times New Roman"/>
              </a:rPr>
              <a:t>五光十色    五颜六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8000" y="1341360"/>
            <a:ext cx="80262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早晨，从山坡上，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坝里，从一条条开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球花和太阳花的小路上，走来了许多小学生，有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族的，有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族的，有阿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族和德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族的，还有汉族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02:06:22Z</dcterms:created>
  <dc:creator>Administrator</dc:creator>
  <dc:description/>
  <dc:language>en-US</dc:language>
  <cp:lastModifiedBy/>
  <dcterms:modified xsi:type="dcterms:W3CDTF">2015-08-20T03:21:10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