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BA36-FB16-4550-9CA7-BF935923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395-FE61-43F1-8322-745802A2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3A2-7AE9-4C5E-A1B5-7483F114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BB9-ACDB-43E1-AD43-D3E2BB3F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3C0-494B-4BAE-8972-E43C0B7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0BF-2712-4AE2-8A85-C20C3876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29E-C021-449D-870E-E5C8562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D81-29D8-41FF-AB36-AAAA7ED4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E1F-010F-450B-9AD7-42F269CA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9EC-EA49-4DE4-BB51-D7383735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B0C-8CDF-4AC1-BAD7-2281F44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259-8917-4E9C-B48D-50E289D7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987-9990-45E1-8282-447C93F2F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会读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93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朗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传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说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相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注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意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浅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     变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幻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脸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圈圈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五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颜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六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1160930718"/>
          <p:cNvPicPr/>
          <p:nvPr/>
        </p:nvPicPr>
        <p:blipFill>
          <a:blip r:embed="rId1"/>
          <a:srcRect l="0" t="0" r="1261" b="5795"/>
          <a:stretch/>
        </p:blipFill>
        <p:spPr>
          <a:xfrm>
            <a:off x="4289400" y="3198960"/>
            <a:ext cx="4473720" cy="320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6960089_092653985000_2"/>
          <p:cNvPicPr/>
          <p:nvPr/>
        </p:nvPicPr>
        <p:blipFill>
          <a:blip r:embed="rId2"/>
          <a:srcRect l="0" t="0" r="-155" b="11575"/>
          <a:stretch/>
        </p:blipFill>
        <p:spPr>
          <a:xfrm>
            <a:off x="322200" y="333360"/>
            <a:ext cx="70693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些五彩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大小小，玲珑多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144160" y="234936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积不足七十平方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深不到三米；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小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呢，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菜碟大不了多少，水浅得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指就可以碰到它的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有的像葫芦，有的像镰刀，有的像脸盆，有的恰似盛开的莲花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葫芦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镰刀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脸盆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恰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盛开的莲花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78136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葫芦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镰刀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脸盆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恰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盛开的莲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6434518_154807555120_2"/>
          <p:cNvPicPr/>
          <p:nvPr/>
        </p:nvPicPr>
        <p:blipFill>
          <a:blip r:embed="rId1"/>
          <a:srcRect l="0" t="0" r="0" b="9240"/>
          <a:stretch/>
        </p:blipFill>
        <p:spPr>
          <a:xfrm>
            <a:off x="0" y="1531800"/>
            <a:ext cx="9144000" cy="4335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些五彩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大小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玲珑多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池子的边沿金黄色，像一圈圈金色的带子把池子围成各种好看的形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915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葫芦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镰刀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脸盆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有的恰似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盛开的莲花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对这一派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奇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自然风光，作者也不禁深深赞叹：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美呀，藏龙山上的五彩池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6960089_091815213000_2"/>
          <p:cNvPicPr/>
          <p:nvPr/>
        </p:nvPicPr>
        <p:blipFill>
          <a:blip r:embed="rId1"/>
          <a:srcRect l="0" t="0" r="2599" b="16279"/>
          <a:stretch/>
        </p:blipFill>
        <p:spPr>
          <a:xfrm>
            <a:off x="-252360" y="2754360"/>
            <a:ext cx="93963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858680" y="333360"/>
            <a:ext cx="549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最美丽的是那五颜六色的池水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课后练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祖国还有很多美得像仙境一样的地方。比如：天山的“瑶池”、我们的家乡、日月潭等。课后，运用课文中学到的写法，把我们家乡的美景写一写，写出家乡景物的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个晴朗的日子，我来到四川的藏龙山，一下子就被五彩池奇异的景象迷住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对这一派奇异的自然风光，我不禁深深赞叹：“多美呀，藏龙山上的五彩池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面对这一派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奇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自然风光，我不禁深深赞叹：“多美呀，藏龙山上的五彩池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默读课文第二段，想像五彩池的样子，哪些地方让你感受到它的奇异？划出有关的语句，多读几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神话传说中的五彩池在天上，而且只有一个。而这里满山坡都是五彩池，多得数不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神话传说中的五彩池在天上，而且只有一个。而这里满山坡都是五彩池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多得数不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些五彩池大大小小，玲珑多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些五彩池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大小小，玲珑多姿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4160" y="2349360"/>
            <a:ext cx="4569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大的面积不足七十平方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深不到三米；小的呢，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菜碟大不了多少，水浅得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指就可以碰到它的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nny</cp:lastModifiedBy>
  <dcterms:modified xsi:type="dcterms:W3CDTF">2015-11-13T18:30:21Z</dcterms:modified>
  <cp:revision>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