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5F88-4146-47F2-8302-5FD10EC6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466640"/>
            <a:ext cx="788688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926880"/>
            <a:ext cx="788688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50F3-F925-4205-AB76-3C767212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466640"/>
            <a:ext cx="384876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466640"/>
            <a:ext cx="384876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926880"/>
            <a:ext cx="384876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926880"/>
            <a:ext cx="384876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3386-B857-44A7-B1F9-EEAB28A91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466640"/>
            <a:ext cx="253944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466640"/>
            <a:ext cx="253944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466640"/>
            <a:ext cx="253944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926880"/>
            <a:ext cx="253944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926880"/>
            <a:ext cx="253944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926880"/>
            <a:ext cx="253944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1295-F283-4EE5-8B15-3937541F4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DB5D-E5E7-443F-AC72-0D687724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466640"/>
            <a:ext cx="78868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758B-53E4-4178-9D18-37C72323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466640"/>
            <a:ext cx="788688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F268-F529-44FE-BFC5-94E475B8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466640"/>
            <a:ext cx="384876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466640"/>
            <a:ext cx="384876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149A-C5AB-4A39-B2C7-F2B336CD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A40D-C8AF-4B52-A47E-C7864F97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8034-63D3-44D5-A5CB-9B9A929C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466640"/>
            <a:ext cx="384876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466640"/>
            <a:ext cx="384876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3926880"/>
            <a:ext cx="384876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33AA-BD99-4FE6-9355-EFCC2F90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466640"/>
            <a:ext cx="78868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7FEE-569D-4721-B7A5-436F4021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466640"/>
            <a:ext cx="384876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466640"/>
            <a:ext cx="384876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926880"/>
            <a:ext cx="384876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BD77-47A3-43A5-A9A9-3615A37D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466640"/>
            <a:ext cx="384876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466640"/>
            <a:ext cx="384876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3926880"/>
            <a:ext cx="788688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45C2-3FFA-425B-BF31-AAD130AD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466640"/>
            <a:ext cx="788688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3926880"/>
            <a:ext cx="788688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8840-9E90-488C-A883-AB682600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466640"/>
            <a:ext cx="384876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466640"/>
            <a:ext cx="384876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3926880"/>
            <a:ext cx="384876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926880"/>
            <a:ext cx="384876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B3B6-3CAA-4A9F-84BD-D47B35507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466640"/>
            <a:ext cx="253944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466640"/>
            <a:ext cx="253944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466640"/>
            <a:ext cx="253944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3926880"/>
            <a:ext cx="253944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3926880"/>
            <a:ext cx="253944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3926880"/>
            <a:ext cx="253944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4477-CB87-4A99-83A9-40241F42C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A5B82-5688-47EA-8678-7DF558A9D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466640"/>
            <a:ext cx="78868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F1BF7-92D1-474B-B674-684BA7AB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466640"/>
            <a:ext cx="788688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AD9AF-09C3-4B46-8589-411B5617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466640"/>
            <a:ext cx="384876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466640"/>
            <a:ext cx="384876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9E496-DA6F-44F5-9CD1-E7E6D74B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74703-7FE9-4167-A2BA-B3B2AFE7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466640"/>
            <a:ext cx="788688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BBD5-A09E-422D-803A-5F6CEA82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EA9C5-BB43-47B8-9209-1C7E05BB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466640"/>
            <a:ext cx="384876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466640"/>
            <a:ext cx="384876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3926880"/>
            <a:ext cx="384876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9D9A2-0FA2-4E29-9451-B8AB94A4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466640"/>
            <a:ext cx="384876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466640"/>
            <a:ext cx="384876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3926880"/>
            <a:ext cx="384876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15309-4D44-4492-A4B1-8DBA7BA5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466640"/>
            <a:ext cx="384876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466640"/>
            <a:ext cx="384876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3926880"/>
            <a:ext cx="788688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F28A7-29E8-44BD-B159-C97597FD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466640"/>
            <a:ext cx="788688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3926880"/>
            <a:ext cx="788688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F81CA-0ADA-456C-9592-B067E578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466640"/>
            <a:ext cx="384876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466640"/>
            <a:ext cx="384876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3926880"/>
            <a:ext cx="384876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3926880"/>
            <a:ext cx="384876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0597B-D853-48F7-A036-7A422A5C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466640"/>
            <a:ext cx="253944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466640"/>
            <a:ext cx="253944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466640"/>
            <a:ext cx="253944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3926880"/>
            <a:ext cx="253944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3926880"/>
            <a:ext cx="253944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3926880"/>
            <a:ext cx="253944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C82BB-007C-4200-A6FC-9894B1FAB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466640"/>
            <a:ext cx="384876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466640"/>
            <a:ext cx="384876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8BF7-829E-4958-9C8E-54EA6FFF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C54C-2D0A-4749-95FD-3346CD48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283F-CFEC-466C-A9BC-82801BD0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466640"/>
            <a:ext cx="384876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466640"/>
            <a:ext cx="384876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926880"/>
            <a:ext cx="384876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6A1D-347A-4F0F-9CF4-70F0B110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466640"/>
            <a:ext cx="384876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466640"/>
            <a:ext cx="384876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926880"/>
            <a:ext cx="384876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BDCC-FC90-4805-8DEF-DCBE8073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466640"/>
            <a:ext cx="384876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466640"/>
            <a:ext cx="384876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926880"/>
            <a:ext cx="788688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BB7D-0976-4405-A64B-8F55D5FA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466640"/>
            <a:ext cx="788688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B57E-7688-4AF6-B4A5-D4F0F578EBD0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D8A1-1581-49FF-9109-D28D8F9E6B0C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466640"/>
            <a:ext cx="788688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9A4C-7057-47CE-848D-83EE3CB06C58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5837-4126-4E00-B6F0-E2C9EC1229CA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466640"/>
            <a:ext cx="788688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3427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858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6858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6858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6858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AFE1-0524-4128-ACAF-C57AFFB1CA7C}" type="datetime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8F02-A2B7-407C-94DC-0CF5BF552D74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b1"/>
          <p:cNvPicPr/>
          <p:nvPr/>
        </p:nvPicPr>
        <p:blipFill>
          <a:blip r:embed="rId1"/>
          <a:stretch/>
        </p:blipFill>
        <p:spPr>
          <a:xfrm>
            <a:off x="156996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b2"/>
          <p:cNvPicPr/>
          <p:nvPr/>
        </p:nvPicPr>
        <p:blipFill>
          <a:blip r:embed="rId2"/>
          <a:stretch/>
        </p:blipFill>
        <p:spPr>
          <a:xfrm>
            <a:off x="5724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b3"/>
          <p:cNvPicPr/>
          <p:nvPr/>
        </p:nvPicPr>
        <p:blipFill>
          <a:blip r:embed="rId3"/>
          <a:stretch/>
        </p:blipFill>
        <p:spPr>
          <a:xfrm>
            <a:off x="3035160" y="6213600"/>
            <a:ext cx="1562400" cy="635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b4"/>
          <p:cNvPicPr/>
          <p:nvPr/>
        </p:nvPicPr>
        <p:blipFill>
          <a:blip r:embed="rId4"/>
          <a:stretch/>
        </p:blipFill>
        <p:spPr>
          <a:xfrm>
            <a:off x="454824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b5"/>
          <p:cNvPicPr/>
          <p:nvPr/>
        </p:nvPicPr>
        <p:blipFill>
          <a:blip r:embed="rId5"/>
          <a:stretch/>
        </p:blipFill>
        <p:spPr>
          <a:xfrm>
            <a:off x="6039000" y="6213600"/>
            <a:ext cx="1562040" cy="635040"/>
          </a:xfrm>
          <a:prstGeom prst="rect">
            <a:avLst/>
          </a:prstGeom>
          <a:ln w="0">
            <a:noFill/>
          </a:ln>
        </p:spPr>
      </p:pic>
      <p:sp>
        <p:nvSpPr>
          <p:cNvPr id="128" name="WordArt 10"/>
          <p:cNvSpPr txBox="1"/>
          <p:nvPr/>
        </p:nvSpPr>
        <p:spPr>
          <a:xfrm>
            <a:off x="1042920" y="2133720"/>
            <a:ext cx="691380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22 </a:t>
            </a:r>
            <a:r>
              <a:rPr b="0" lang="zh-CN" sz="24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悉尼歌剧院</a:t>
            </a:r>
            <a:endParaRPr b="0" lang="en-US" sz="24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29" name="Picture 11" descr="b6"/>
          <p:cNvPicPr/>
          <p:nvPr/>
        </p:nvPicPr>
        <p:blipFill>
          <a:blip r:embed="rId6"/>
          <a:stretch/>
        </p:blipFill>
        <p:spPr>
          <a:xfrm>
            <a:off x="7564320" y="6197760"/>
            <a:ext cx="1562040" cy="634680"/>
          </a:xfrm>
          <a:prstGeom prst="rect">
            <a:avLst/>
          </a:prstGeom>
          <a:ln w="0">
            <a:noFill/>
          </a:ln>
        </p:spPr>
      </p:pic>
      <p:sp>
        <p:nvSpPr>
          <p:cNvPr id="130" name="WordArt 8"/>
          <p:cNvSpPr txBox="1"/>
          <p:nvPr/>
        </p:nvSpPr>
        <p:spPr>
          <a:xfrm>
            <a:off x="3414600" y="4437000"/>
            <a:ext cx="24577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第二课时</a:t>
            </a:r>
            <a:endParaRPr b="0" lang="en-US" sz="32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395280" y="1844640"/>
            <a:ext cx="8532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读读词语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滨海   监控   标志   独特   雄伟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洁白晶莹  巧夺天工  澳大利亚  丹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6"/>
          <p:cNvSpPr/>
          <p:nvPr/>
        </p:nvSpPr>
        <p:spPr>
          <a:xfrm>
            <a:off x="1187280" y="2278080"/>
            <a:ext cx="705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读读划划：读读第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小节，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——”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划出具体描写悉尼歌剧院外形独特、美丽的句子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读读想想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巧夺天工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是什么意思？为什么说悉尼歌剧院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巧夺天工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826920" y="1197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自学建议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4"/>
          <p:cNvSpPr/>
          <p:nvPr/>
        </p:nvSpPr>
        <p:spPr>
          <a:xfrm>
            <a:off x="539640" y="162864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整座建筑洁白晶莹，像一瓣一瓣盛开的白莲，又像几叶张开的扇贝，再仔细一看，更像一组要出海远航而扬起的白帆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611280" y="359424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这座造型别致的歌剧院，三面临海，与远处雄伟的悉尼大桥互相衬托，简直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巧夺天工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悉尼歌剧院6"/>
          <p:cNvPicPr/>
          <p:nvPr/>
        </p:nvPicPr>
        <p:blipFill>
          <a:blip r:embed="rId4"/>
          <a:stretch/>
        </p:blipFill>
        <p:spPr>
          <a:xfrm>
            <a:off x="900000" y="692280"/>
            <a:ext cx="7201080" cy="345744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9" name="Text Box 12"/>
          <p:cNvSpPr/>
          <p:nvPr/>
        </p:nvSpPr>
        <p:spPr>
          <a:xfrm>
            <a:off x="879480" y="4384800"/>
            <a:ext cx="76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澳大利亚的悉尼歌剧院有着独特、美丽的外形：整座建筑洁白晶莹，像（       ），又像（      ），再仔细一看，更像（       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2"/>
          <p:cNvSpPr/>
          <p:nvPr/>
        </p:nvSpPr>
        <p:spPr>
          <a:xfrm>
            <a:off x="900000" y="1770120"/>
            <a:ext cx="756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悉尼歌剧院不仅外观漂亮，而且它的内部结构科学，设备讲究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808200" y="3213000"/>
            <a:ext cx="758016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读读想想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从哪些地方可以看出悉尼歌剧院内部结构科学，设备讲究？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9"/>
          <p:cNvSpPr/>
          <p:nvPr/>
        </p:nvSpPr>
        <p:spPr>
          <a:xfrm>
            <a:off x="576360" y="1044720"/>
            <a:ext cx="85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任选下列词语，用自己的话介绍悉尼歌剧院。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　　　　　　　　　　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1116000" y="1916280"/>
            <a:ext cx="7056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独特  洁白晶莹  雄伟  巧夺天工  讲究   不仅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而且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……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684360" y="1628640"/>
            <a:ext cx="784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拓展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收集你喜欢的建筑物的图片，选一幅配上文字，向同学们作介绍。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back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up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nex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324000" y="836640"/>
            <a:ext cx="84960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作业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１、默写词语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２、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根据课文内容填空，请你背一背这小节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悉尼歌剧院有着独特、美丽的外形：整座建筑洁白晶莹，像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又像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再仔细一看，更像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        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这座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与远处雄伟的悉尼大桥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简直是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正确、流利地朗读全文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6T09:41:38Z</dcterms:created>
  <dc:creator/>
  <dc:description/>
  <dc:language>en-US</dc:language>
  <cp:lastModifiedBy>Administrator</cp:lastModifiedBy>
  <dcterms:modified xsi:type="dcterms:W3CDTF">2017-02-16T09:42:34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06</vt:lpwstr>
  </property>
</Properties>
</file>