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12.jpeg" ContentType="image/jpeg"/>
  <Override PartName="/ppt/media/image9.png" ContentType="image/png"/>
  <Override PartName="/ppt/media/chimes.wav" ContentType="audio/x-wav"/>
  <Override PartName="/ppt/media/image17.png" ContentType="image/png"/>
  <Override PartName="/ppt/media/image16.gif" ContentType="image/gif"/>
  <Override PartName="/ppt/media/image14.jpeg" ContentType="image/jpeg"/>
  <Override PartName="/ppt/media/image2.png" ContentType="image/png"/>
  <Override PartName="/ppt/media/image15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image3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0A8-7AA7-4ABE-AADF-742C3B46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729-EF5C-44DE-B22C-FCF7B891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4A1-634B-4237-876E-A607B80D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E19-6157-4A0E-9AD4-C4C67D98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52C3-4620-4C49-B121-3D65F895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A34F-3496-4C8A-8CE5-E0C1FCEF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294E-83AC-4087-8D69-F2EC2983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E5DF-B495-4174-AF58-BA91B59F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74DA-507F-4643-B0AD-9C2FDA7F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CA98-B24C-4454-80DA-DB863271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AC4C-AAF8-4FE5-8CF3-8C5DD45B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9A6-962D-4B71-A46F-6197FB71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B006-B253-46F9-90F5-8CFC78AD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CD15-D6D8-45F0-8110-AAA156A2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8DB0-DFB9-4762-A42A-154A9E3D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7E82-B8ED-4FBC-BA85-D11CD8C2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CAD2-2576-4922-8864-0285EDFE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EEF-4BF8-4F33-B808-802CCB0A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21B-5DF1-4D12-95F7-7D817754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955-BB34-4F90-AA61-6CD05D94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DAD-DF4F-48C0-B8FF-169EF2A3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32B-BDD7-4861-853A-DC71EB61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949-F6BF-4B7F-BD04-4DE40A10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FE6-CEB8-4D07-BCE2-32D19AE1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Picture 3" descr="框a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框a2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框a3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框a4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A977-8832-4CC5-9F7D-E1DA5670E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Picture 3" descr="框a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4" descr="框a2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5" descr="框a3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6" descr="框a4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7" descr="麒靈"/>
          <p:cNvPicPr/>
          <p:nvPr/>
        </p:nvPicPr>
        <p:blipFill>
          <a:blip r:embed="rId7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267E-FE8F-4227-9380-B084BAE0A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9.png"/><Relationship Id="rId3" Type="http://schemas.openxmlformats.org/officeDocument/2006/relationships/slide" Target="slide11.xml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alou2"/>
          <p:cNvPicPr/>
          <p:nvPr/>
        </p:nvPicPr>
        <p:blipFill>
          <a:blip r:embed="rId1"/>
          <a:stretch/>
        </p:blipFill>
        <p:spPr>
          <a:xfrm>
            <a:off x="428760" y="214200"/>
            <a:ext cx="8381880" cy="6248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3520" y="4762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可是，白鲸却一动不动地挤在一起，它们害怕这艘高大的破冰船。一个船员大声喊：“白鲸喜欢唱歌，是海上的百灵鸟。放放音乐试试，把它们引出去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!”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于是，船上响起了优雅的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蓝色多瑙河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乐曲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海豚"/>
          <p:cNvPicPr/>
          <p:nvPr/>
        </p:nvPicPr>
        <p:blipFill>
          <a:blip r:embed="rId1"/>
          <a:stretch/>
        </p:blipFill>
        <p:spPr>
          <a:xfrm>
            <a:off x="7543800" y="609588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468360" y="228600"/>
            <a:ext cx="76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白鲸一边欣赏音乐，一边随着破冰船慢慢游出冰区，进出深海。白鲸终于得救了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blueriver.mid" descr=""/>
          <p:cNvPicPr/>
          <p:nvPr/>
        </p:nvPicPr>
        <p:blipFill>
          <a:blip r:embed="rId1"/>
          <a:stretch/>
        </p:blipFill>
        <p:spPr>
          <a:xfrm>
            <a:off x="738036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33933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76520" y="1905120"/>
            <a:ext cx="6095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喜爱音乐的白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5" name="Picture 4" descr="d_0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6019920"/>
            <a:ext cx="533520" cy="466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三只海豚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38680" y="4572000"/>
            <a:ext cx="2541600" cy="177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黄鱼"/>
          <p:cNvPicPr/>
          <p:nvPr/>
        </p:nvPicPr>
        <p:blipFill>
          <a:blip r:embed="rId5"/>
          <a:stretch/>
        </p:blipFill>
        <p:spPr>
          <a:xfrm>
            <a:off x="1371600" y="60199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男孩"/>
          <p:cNvPicPr/>
          <p:nvPr/>
        </p:nvPicPr>
        <p:blipFill>
          <a:blip r:embed="rId6"/>
          <a:stretch/>
        </p:blipFill>
        <p:spPr>
          <a:xfrm>
            <a:off x="457200" y="6048360"/>
            <a:ext cx="685800" cy="43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自行车"/>
          <p:cNvPicPr/>
          <p:nvPr/>
        </p:nvPicPr>
        <p:blipFill>
          <a:blip r:embed="rId7"/>
          <a:stretch/>
        </p:blipFill>
        <p:spPr>
          <a:xfrm>
            <a:off x="2286000" y="6019920"/>
            <a:ext cx="533520" cy="422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80880" y="304920"/>
            <a:ext cx="8458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鲸 </a:t>
            </a:r>
            <a:r>
              <a:rPr b="1" lang="zh-CN" sz="8000" spc="-1" strike="noStrike">
                <a:solidFill>
                  <a:srgbClr val="ff3300"/>
                </a:solidFill>
                <a:latin typeface="华文楷体"/>
                <a:ea typeface="华文楷体"/>
              </a:rPr>
              <a:t>召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唤  </a:t>
            </a:r>
            <a:r>
              <a:rPr b="1" lang="zh-CN" sz="8000" spc="-1" strike="noStrike">
                <a:solidFill>
                  <a:srgbClr val="ff3300"/>
                </a:solidFill>
                <a:latin typeface="华文楷体"/>
                <a:ea typeface="华文楷体"/>
              </a:rPr>
              <a:t>顽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皮   </a:t>
            </a:r>
            <a:r>
              <a:rPr b="1" lang="zh-CN" sz="8000" spc="-1" strike="noStrike">
                <a:solidFill>
                  <a:srgbClr val="ff3300"/>
                </a:solidFill>
                <a:latin typeface="华文楷体"/>
                <a:ea typeface="华文楷体"/>
              </a:rPr>
              <a:t>寒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流 </a:t>
            </a:r>
            <a:r>
              <a:rPr b="1" lang="zh-CN" sz="8000" spc="-1" strike="noStrike">
                <a:solidFill>
                  <a:srgbClr val="ff3300"/>
                </a:solidFill>
                <a:latin typeface="华文楷体"/>
                <a:ea typeface="华文楷体"/>
              </a:rPr>
              <a:t>优雅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政府   奇</a:t>
            </a:r>
            <a:r>
              <a:rPr b="1" lang="zh-CN" sz="8000" spc="-1" strike="noStrike">
                <a:solidFill>
                  <a:srgbClr val="ff3300"/>
                </a:solidFill>
                <a:latin typeface="华文楷体"/>
                <a:ea typeface="华文楷体"/>
              </a:rPr>
              <a:t>迹 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脊背  猎人    援助 冰</a:t>
            </a:r>
            <a:r>
              <a:rPr b="1" lang="zh-CN" sz="8000" spc="-1" strike="noStrike">
                <a:solidFill>
                  <a:srgbClr val="ff3300"/>
                </a:solidFill>
                <a:latin typeface="华文楷体"/>
                <a:ea typeface="华文楷体"/>
              </a:rPr>
              <a:t>区 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欣赏    凿冰 鳕鱼   瑙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np713"/>
          <p:cNvPicPr/>
          <p:nvPr/>
        </p:nvPicPr>
        <p:blipFill>
          <a:blip r:embed="rId1"/>
          <a:stretch/>
        </p:blipFill>
        <p:spPr>
          <a:xfrm>
            <a:off x="121932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beiji011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0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海豚"/>
          <p:cNvPicPr/>
          <p:nvPr/>
        </p:nvPicPr>
        <p:blipFill>
          <a:blip r:embed="rId2"/>
          <a:stretch/>
        </p:blipFill>
        <p:spPr>
          <a:xfrm>
            <a:off x="7620120" y="609588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533520" y="3808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两天以后，突然来了一股寒流，海面转眼变成了冰雪的世界，白鲸回去的路被冰层堵住了。白鲸们着了慌，拼命用脊背撞冰层，但是冰层太坚硬了，它们绝望地叫起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海豚"/>
          <p:cNvPicPr/>
          <p:nvPr/>
        </p:nvPicPr>
        <p:blipFill>
          <a:blip r:embed="rId1"/>
          <a:stretch/>
        </p:blipFill>
        <p:spPr>
          <a:xfrm>
            <a:off x="7467480" y="586728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106" name="Line 4"/>
          <p:cNvSpPr/>
          <p:nvPr/>
        </p:nvSpPr>
        <p:spPr>
          <a:xfrm>
            <a:off x="4140360" y="4508640"/>
            <a:ext cx="12189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3203640" y="6308640"/>
            <a:ext cx="1371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04920" y="3049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正巧一个猎人发现了这群遇险的白鲸，马上向附近的村庄报了信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4724280" y="4038480"/>
            <a:ext cx="17528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海豚"/>
          <p:cNvPicPr/>
          <p:nvPr/>
        </p:nvPicPr>
        <p:blipFill>
          <a:blip r:embed="rId1"/>
          <a:stretch/>
        </p:blipFill>
        <p:spPr>
          <a:xfrm>
            <a:off x="7467480" y="586728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白鲸是珍奇的动物，人们一听到这个消息，纷纷赶来凿冰抢救白鲸，还给它们带来好吃的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4716360" y="414972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海豚"/>
          <p:cNvPicPr/>
          <p:nvPr/>
        </p:nvPicPr>
        <p:blipFill>
          <a:blip r:embed="rId1"/>
          <a:stretch/>
        </p:blipFill>
        <p:spPr>
          <a:xfrm>
            <a:off x="7467480" y="586728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57200" y="30492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直升飞机和破冰船来了。在飞机的指挥下，破冰船开出了一条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多千米长的通道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海豚"/>
          <p:cNvPicPr/>
          <p:nvPr/>
        </p:nvPicPr>
        <p:blipFill>
          <a:blip r:embed="rId1"/>
          <a:stretch/>
        </p:blipFill>
        <p:spPr>
          <a:xfrm>
            <a:off x="7467480" y="586728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5:39:47Z</dcterms:created>
  <dc:creator/>
  <dc:description/>
  <dc:language>en-US</dc:language>
  <cp:lastModifiedBy>Microsoft</cp:lastModifiedBy>
  <dcterms:modified xsi:type="dcterms:W3CDTF">2015-01-21T03:42:41Z</dcterms:modified>
  <cp:revision>19</cp:revision>
  <dc:subject/>
  <dc:title/>
</cp:coreProperties>
</file>