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670-35A3-4242-9529-3ABEC5B8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240" y="390636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9B8-BC99-4832-82E9-18904C82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32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978-6ADF-45B4-89CE-7B8DA9BC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68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748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4424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68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748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2073-7C7F-42B6-B55B-4B5B20F3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7EA7-3017-467E-865E-ED249F58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4E03-2BF0-42A3-B743-1F3ECBD8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0149-61A3-42FD-94CD-93A4934A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34ED-D060-42C7-96E9-9D9FBE79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04FA-339B-466B-BCA7-5E1BF77B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44240" y="258840"/>
            <a:ext cx="666108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D0C5-D45B-46DC-B0E2-D1F8777B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12BC-9ACB-4455-8DBC-71D72FBD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D9BA-3ECD-408E-8AD9-B844BB0C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532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9A88-5C42-4201-A014-91EE915B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6D46-6B29-4C6A-876A-6A28E650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4240" y="390636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D007-5DB1-490C-AA10-2F79BBA7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532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2AE7-8F2B-4412-B5F5-4D5B364C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568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748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424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568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748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8463-7EAD-46CD-8449-F29837AA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CE0C4-98E9-47AB-817B-7290D9A0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81A88-BE10-4EFD-8203-E066A63B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88C14-4213-4234-AF7B-17774561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776AA-E15B-4C07-ADBE-85EDA860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5A607-587E-49AD-90D1-F5B16343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D8DE-73F7-4E0B-BAC3-4B6EBB50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44240" y="258840"/>
            <a:ext cx="666108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023D6-03FA-477B-9EB8-7A8DB317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D52A1-5019-4144-AD53-96A85765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532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90B47-3A6D-4FB2-9610-FA3CE6A1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68AF3-4113-49C6-B259-BA44213F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4240" y="390636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F9695-0C51-41EC-A06C-04868B21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532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B2DE8-52E3-45B2-9E04-801C0932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568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748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4424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568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748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E5456-7203-44AA-8F4C-86658B5A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B3555-B210-4712-9230-6BC8F7D6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8AB14-6892-49DB-897F-56C24FAA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16FAB-CB89-499C-94DC-1837F076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741-6E08-47CA-949F-CE7C4921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0A788-8D9E-411E-B6F4-9E1116C2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BA597-4855-40E7-9E41-074A5F9E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44240" y="258840"/>
            <a:ext cx="666108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683B6-C1DE-410A-B1B8-82363977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E9DF6-5A6F-4592-8F09-C2FF7E84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532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B158A-39D0-4E83-8DFB-BFA3310A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4F27F-0C98-477E-8EF6-DC5240D3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44240" y="390636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529BC-9AB2-4EAA-80E0-A3FE7DA0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532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A91EE-52EE-455F-8F19-A69C8B27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568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748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4424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568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748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CFAFC-1535-42FF-87E7-826B431B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BDD56-3F43-4AA9-96A2-A7F433E0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2DE-65FF-4239-89CE-E9068712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BDA46-059B-4B0B-83F2-3CE7BDE7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BEB3F-4397-4DE1-8D27-3F736F38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6650B-266B-4FEF-B152-6BCF3BEC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5493A-EB56-476C-B741-2BCEFFD1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44240" y="258840"/>
            <a:ext cx="666108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C8E28-2DBA-47B3-A484-56B41A04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94959-F09E-4BB2-B6BF-5B2B11B2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532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9EB52-66E5-447B-92A7-068B50DB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F54BF-31AF-4230-B8D6-62BD4FA8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4240" y="390636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CB6D1-F7ED-46A4-9C34-926B3A7F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532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BD687-67CB-4A66-A1C8-CC29CA95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44240" y="258840"/>
            <a:ext cx="666108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DAF-2EC1-447E-8028-BA2D3C2B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568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748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4424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568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748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6D12A-9B49-46E8-B023-988F6573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A71FA-44EC-4190-B477-5C5AD4FE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AEB4A-B51B-4AAB-AA10-29162709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2648D-FA53-46E0-AABA-1592A6AC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23BB1-2891-48A7-B65E-8ECA42DE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AD251-D6B0-4262-9840-ECB7B225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44240" y="258840"/>
            <a:ext cx="666108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F44F4-78FC-40C8-8143-9A267E90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D5CF8-0233-4EBA-BBB2-4970D660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532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18281-5D8C-4A40-A927-BF2B826F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42CCF-2270-474D-BA43-DCCE7C75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DD3C-649F-4EE6-A7E6-7A784BD9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4240" y="390636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243E7-6675-4254-9F49-2EEB754A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532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60B9D-DC08-46EF-BACF-8476E2ED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568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748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4424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568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748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5F490-D6D8-4BF7-88CB-B7E996A0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AAE63-76A0-40AB-B82F-E65CA569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700A0-A1BE-49A9-B6EC-21EA2360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06ABD-D734-40C7-994A-CAD30F5F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4ADF7-9664-4047-A1B8-B066F737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B5F5E-4D1C-421C-B244-BECA5B48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44240" y="258840"/>
            <a:ext cx="666108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9473A-BC47-46DF-ABEF-A51AB14C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3D2B9-07DE-46CB-B349-C098AAD0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32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E173-2604-4421-B777-638E4626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532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3B73B-57D9-41B2-ACDE-2D42FD04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040F2-B34D-4740-9502-C61EA339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44240" y="390636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CA017-7036-47EA-8D1D-D018CA2B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532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0AA53-5775-42FD-9C27-8A15FF33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568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748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4424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568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748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3AFDF-8270-47CA-94DB-9B8E7707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F45D4-3219-4961-9C17-7C42F5D8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4B482-0B7C-4721-A59F-BC3D18DF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60497-F3BB-4297-909F-50ACDFA0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881D1-F778-488F-8485-69997598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02722-06B1-48B6-9DC4-DAE86F6D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CE6-7597-4406-9F3E-1546E80E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44240" y="258840"/>
            <a:ext cx="666108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0AFDD-EB24-4B78-AB82-39F08647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D182D-7DF2-472B-B608-CAB931B6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532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6BD63-D558-48EE-9CD6-42F38286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D693A-5611-4974-9559-13B7560E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4240" y="3906360"/>
            <a:ext cx="8256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6EF2A-E4DE-4E17-ACFD-D9208C3B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5320" y="137628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4424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5320" y="3906360"/>
            <a:ext cx="402912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B5C35-0473-4714-B9BB-C71339A0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4424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568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7480" y="137628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4424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568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7480" y="3906360"/>
            <a:ext cx="265824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B4F7A-245A-4DF3-BB58-5FD5A76D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0" r="380" b="1679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15f8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528199"/>
              </a:buClr>
              <a:buFont typeface="Web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1" marL="576360" indent="-357120" algn="just">
              <a:lnSpc>
                <a:spcPct val="110000"/>
              </a:lnSpc>
              <a:spcBef>
                <a:spcPts val="1800"/>
              </a:spcBef>
              <a:buClr>
                <a:srgbClr val="b2cad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" name="矩形 7"/>
          <p:cNvSpPr/>
          <p:nvPr/>
        </p:nvSpPr>
        <p:spPr>
          <a:xfrm>
            <a:off x="0" y="487440"/>
            <a:ext cx="104760" cy="409320"/>
          </a:xfrm>
          <a:prstGeom prst="rect">
            <a:avLst/>
          </a:prstGeom>
          <a:solidFill>
            <a:srgbClr val="5d8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b0b2b5"/>
                </a:solidFill>
                <a:latin typeface="Times New Roman"/>
              </a:defRPr>
            </a:lvl1pPr>
          </a:lstStyle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B0CC-C7CD-40D0-9B35-C4872D823F0B}" type="datetime">
              <a:rPr b="0" lang="zh-CN" sz="2400" spc="-1" strike="noStrike">
                <a:solidFill>
                  <a:srgbClr val="b0b2b5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b0b2b5"/>
                </a:solidFill>
                <a:latin typeface="Times New Roman"/>
              </a:defRPr>
            </a:lvl1pPr>
          </a:lstStyle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A1AC-05A7-4C81-9B1E-0FBA2EDF7C39}" type="slidenum">
              <a:rPr b="0" lang="zh-CN" sz="2400" spc="-1" strike="noStrike">
                <a:solidFill>
                  <a:srgbClr val="b0b2b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8" descr=""/>
          <p:cNvPicPr/>
          <p:nvPr/>
        </p:nvPicPr>
        <p:blipFill>
          <a:blip r:embed="rId2"/>
          <a:srcRect l="0" t="3322" r="0" b="0"/>
          <a:stretch/>
        </p:blipFill>
        <p:spPr>
          <a:xfrm>
            <a:off x="0" y="0"/>
            <a:ext cx="9144000" cy="666576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/>
          <p:nvPr/>
        </p:nvSpPr>
        <p:spPr>
          <a:xfrm>
            <a:off x="0" y="4989600"/>
            <a:ext cx="9144000" cy="1868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15f8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528199"/>
              </a:buClr>
              <a:buFont typeface="Web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1" marL="576360" indent="-357120" algn="just">
              <a:lnSpc>
                <a:spcPct val="110000"/>
              </a:lnSpc>
              <a:spcBef>
                <a:spcPts val="1800"/>
              </a:spcBef>
              <a:buClr>
                <a:srgbClr val="b2cad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b0b2b5"/>
                </a:solidFill>
                <a:latin typeface="Times New Roman"/>
              </a:defRPr>
            </a:lvl1pPr>
          </a:lstStyle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FD9E-5F65-4DE2-B276-93E3B8C2CE3B}" type="datetime">
              <a:rPr b="0" lang="zh-CN" sz="2400" spc="-1" strike="noStrike">
                <a:solidFill>
                  <a:srgbClr val="b0b2b5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b0b2b5"/>
                </a:solidFill>
                <a:latin typeface="Times New Roman"/>
              </a:defRPr>
            </a:lvl1pPr>
          </a:lstStyle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F5B1-CEB7-4EE1-975D-482984A7CCD8}" type="slidenum">
              <a:rPr b="0" lang="zh-CN" sz="2400" spc="-1" strike="noStrike">
                <a:solidFill>
                  <a:srgbClr val="b0b2b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8" descr=""/>
          <p:cNvPicPr/>
          <p:nvPr/>
        </p:nvPicPr>
        <p:blipFill>
          <a:blip r:embed="rId2"/>
          <a:srcRect l="0" t="0" r="380" b="1679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15f8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528199"/>
              </a:buClr>
              <a:buFont typeface="Web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1" marL="576360" indent="-357120" algn="just">
              <a:lnSpc>
                <a:spcPct val="110000"/>
              </a:lnSpc>
              <a:spcBef>
                <a:spcPts val="1800"/>
              </a:spcBef>
              <a:buClr>
                <a:srgbClr val="b2cad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b0b2b5"/>
                </a:solidFill>
                <a:latin typeface="Times New Roman"/>
              </a:defRPr>
            </a:lvl1pPr>
          </a:lstStyle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A0D4-6903-43FA-9709-6F051DA68373}" type="datetime">
              <a:rPr b="0" lang="zh-CN" sz="2400" spc="-1" strike="noStrike">
                <a:solidFill>
                  <a:srgbClr val="b0b2b5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b0b2b5"/>
                </a:solidFill>
                <a:latin typeface="Times New Roman"/>
              </a:defRPr>
            </a:lvl1pPr>
          </a:lstStyle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631B-9C45-42A0-AAC5-D5DD0A7285B8}" type="slidenum">
              <a:rPr b="0" lang="zh-CN" sz="2400" spc="-1" strike="noStrike">
                <a:solidFill>
                  <a:srgbClr val="b0b2b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平行四边形 3"/>
          <p:cNvSpPr/>
          <p:nvPr/>
        </p:nvSpPr>
        <p:spPr>
          <a:xfrm>
            <a:off x="2741760" y="3689280"/>
            <a:ext cx="6402240" cy="336600"/>
          </a:xfrm>
          <a:prstGeom prst="parallelogram">
            <a:avLst>
              <a:gd name="adj" fmla="val 0"/>
            </a:avLst>
          </a:prstGeom>
          <a:solidFill>
            <a:srgbClr val="92a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15f8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528199"/>
              </a:buClr>
              <a:buFont typeface="Web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1" marL="576360" indent="-357120" algn="just">
              <a:lnSpc>
                <a:spcPct val="110000"/>
              </a:lnSpc>
              <a:spcBef>
                <a:spcPts val="1800"/>
              </a:spcBef>
              <a:buClr>
                <a:srgbClr val="b2cad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b0b2b5"/>
                </a:solidFill>
                <a:latin typeface="Times New Roman"/>
              </a:defRPr>
            </a:lvl1pPr>
          </a:lstStyle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8EAE-1F40-4376-82D5-CDAAA81B199A}" type="datetime">
              <a:rPr b="0" lang="zh-CN" sz="2400" spc="-1" strike="noStrike">
                <a:solidFill>
                  <a:srgbClr val="b0b2b5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b0b2b5"/>
                </a:solidFill>
                <a:latin typeface="Times New Roman"/>
              </a:defRPr>
            </a:lvl1pPr>
          </a:lstStyle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09D3-AAA9-4E32-B703-CBA7204F039A}" type="slidenum">
              <a:rPr b="0" lang="zh-CN" sz="2400" spc="-1" strike="noStrike">
                <a:solidFill>
                  <a:srgbClr val="b0b2b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15f8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528199"/>
              </a:buClr>
              <a:buFont typeface="Web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1" marL="576360" indent="-357120" algn="just">
              <a:lnSpc>
                <a:spcPct val="110000"/>
              </a:lnSpc>
              <a:spcBef>
                <a:spcPts val="1800"/>
              </a:spcBef>
              <a:buClr>
                <a:srgbClr val="b2cad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b0b2b5"/>
                </a:solidFill>
                <a:latin typeface="Times New Roman"/>
              </a:defRPr>
            </a:lvl1pPr>
          </a:lstStyle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9983-8F7B-4922-BA5F-359DA7379DA9}" type="datetime">
              <a:rPr b="0" lang="zh-CN" sz="2400" spc="-1" strike="noStrike">
                <a:solidFill>
                  <a:srgbClr val="b0b2b5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b0b2b5"/>
                </a:solidFill>
                <a:latin typeface="Times New Roman"/>
              </a:defRPr>
            </a:lvl1pPr>
          </a:lstStyle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BD12-4AA9-45CB-BD0C-C8E3C96AA556}" type="slidenum">
              <a:rPr b="0" lang="zh-CN" sz="2400" spc="-1" strike="noStrike">
                <a:solidFill>
                  <a:srgbClr val="b0b2b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2"/>
          <p:cNvSpPr/>
          <p:nvPr/>
        </p:nvSpPr>
        <p:spPr>
          <a:xfrm>
            <a:off x="-19080" y="1449360"/>
            <a:ext cx="9163080" cy="176400"/>
          </a:xfrm>
          <a:prstGeom prst="rect">
            <a:avLst/>
          </a:prstGeom>
          <a:solidFill>
            <a:srgbClr val="dfe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46800" bIns="46800" anchor="ctr">
            <a:noAutofit/>
          </a:bodyPr>
          <a:p>
            <a:pPr algn="just">
              <a:lnSpc>
                <a:spcPct val="110000"/>
              </a:lnSpc>
              <a:spcBef>
                <a:spcPts val="476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-19080" y="6068880"/>
            <a:ext cx="9163080" cy="806760"/>
          </a:xfrm>
          <a:prstGeom prst="rect">
            <a:avLst/>
          </a:prstGeom>
          <a:solidFill>
            <a:srgbClr val="9eb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46800" bIns="46800" anchor="ctr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15f8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528199"/>
              </a:buClr>
              <a:buFont typeface="Web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1" marL="576360" indent="-357120" algn="just">
              <a:lnSpc>
                <a:spcPct val="110000"/>
              </a:lnSpc>
              <a:spcBef>
                <a:spcPts val="1800"/>
              </a:spcBef>
              <a:buClr>
                <a:srgbClr val="b2cad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426A-812E-4096-AC1C-326A3C19B672}" type="datetime">
              <a:rPr b="0" lang="zh-CN" sz="2400" spc="-1" strike="noStrike">
                <a:solidFill>
                  <a:srgbClr val="7f7f7f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5E64-3B84-4D74-BA68-EA1BAD1E358D}" type="slidenum">
              <a:rPr b="0" lang="zh-CN" sz="24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15f8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528199"/>
              </a:buClr>
              <a:buFont typeface="Web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1" marL="576360" indent="-357120" algn="just">
              <a:lnSpc>
                <a:spcPct val="110000"/>
              </a:lnSpc>
              <a:spcBef>
                <a:spcPts val="1800"/>
              </a:spcBef>
              <a:buClr>
                <a:srgbClr val="b2cad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b0b2b5"/>
                </a:solidFill>
                <a:latin typeface="Times New Roman"/>
              </a:defRPr>
            </a:lvl1pPr>
          </a:lstStyle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6CC5-C04F-4FED-83D3-82A96CAF5875}" type="datetime">
              <a:rPr b="0" lang="zh-CN" sz="2400" spc="-1" strike="noStrike">
                <a:solidFill>
                  <a:srgbClr val="b0b2b5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b0b2b5"/>
                </a:solidFill>
                <a:latin typeface="Times New Roman"/>
              </a:defRPr>
            </a:lvl1pPr>
          </a:lstStyle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3E8A-787D-4FD4-B48F-56DC9F549E04}" type="slidenum">
              <a:rPr b="0" lang="zh-CN" sz="2400" spc="-1" strike="noStrike">
                <a:solidFill>
                  <a:srgbClr val="b0b2b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15f8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15f8b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44240" y="1376280"/>
            <a:ext cx="8256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528199"/>
              </a:buClr>
              <a:buFont typeface="Web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1" marL="576360" indent="-357120" algn="just">
              <a:lnSpc>
                <a:spcPct val="110000"/>
              </a:lnSpc>
              <a:spcBef>
                <a:spcPts val="1800"/>
              </a:spcBef>
              <a:buClr>
                <a:srgbClr val="b2cad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7d7d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80b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b0b2b5"/>
                </a:solidFill>
                <a:latin typeface="Times New Roman"/>
              </a:defRPr>
            </a:lvl1pPr>
          </a:lstStyle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A439-752A-4659-BF46-0536361FB3BB}" type="datetime">
              <a:rPr b="0" lang="zh-CN" sz="2400" spc="-1" strike="noStrike">
                <a:solidFill>
                  <a:srgbClr val="b0b2b5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b0b2b5"/>
                </a:solidFill>
                <a:latin typeface="Times New Roman"/>
              </a:defRPr>
            </a:lvl1pPr>
          </a:lstStyle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F5D6-D93B-4310-A392-E1B2B77685BB}" type="slidenum">
              <a:rPr b="0" lang="zh-CN" sz="2400" spc="-1" strike="noStrike">
                <a:solidFill>
                  <a:srgbClr val="b0b2b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b1"/>
          <p:cNvPicPr/>
          <p:nvPr/>
        </p:nvPicPr>
        <p:blipFill>
          <a:blip r:embed="rId1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b6"/>
          <p:cNvPicPr/>
          <p:nvPr/>
        </p:nvPicPr>
        <p:blipFill>
          <a:blip r:embed="rId2"/>
          <a:stretch/>
        </p:blipFill>
        <p:spPr>
          <a:xfrm>
            <a:off x="753588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b2"/>
          <p:cNvPicPr/>
          <p:nvPr/>
        </p:nvPicPr>
        <p:blipFill>
          <a:blip r:embed="rId3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b3"/>
          <p:cNvPicPr/>
          <p:nvPr/>
        </p:nvPicPr>
        <p:blipFill>
          <a:blip r:embed="rId4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b4"/>
          <p:cNvPicPr/>
          <p:nvPr/>
        </p:nvPicPr>
        <p:blipFill>
          <a:blip r:embed="rId5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b5"/>
          <p:cNvPicPr/>
          <p:nvPr/>
        </p:nvPicPr>
        <p:blipFill>
          <a:blip r:embed="rId6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sp>
        <p:nvSpPr>
          <p:cNvPr id="342" name="WordArt 10"/>
          <p:cNvSpPr txBox="1"/>
          <p:nvPr/>
        </p:nvSpPr>
        <p:spPr>
          <a:xfrm>
            <a:off x="1116000" y="2133720"/>
            <a:ext cx="6912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30 </a:t>
            </a:r>
            <a:r>
              <a:rPr b="0" lang="zh-CN" sz="4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想别人没想到的</a:t>
            </a:r>
            <a:endParaRPr b="0" lang="en-US" sz="44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43" name="WordArt 8"/>
          <p:cNvSpPr txBox="1"/>
          <p:nvPr/>
        </p:nvSpPr>
        <p:spPr>
          <a:xfrm>
            <a:off x="3414600" y="4437000"/>
            <a:ext cx="24577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第一课时</a:t>
            </a:r>
            <a:endParaRPr b="0" lang="en-US" sz="32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611280" y="1058760"/>
            <a:ext cx="806436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学习要求：</a:t>
            </a:r>
            <a:endParaRPr b="0" lang="en-US" sz="3000" spc="-1" strike="noStrike">
              <a:solidFill>
                <a:srgbClr val="3d3f41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3d3f41"/>
                </a:solidFill>
                <a:latin typeface="楷体_GB2312"/>
              </a:rPr>
              <a:t>1</a:t>
            </a:r>
            <a:r>
              <a:rPr b="1" lang="zh-CN" sz="30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3d3f41"/>
                </a:solidFill>
                <a:latin typeface="Arial"/>
                <a:ea typeface="楷体_GB2312"/>
              </a:rPr>
              <a:t>     </a:t>
            </a:r>
            <a:r>
              <a:rPr b="1" lang="zh-CN" sz="30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 自由读课文，读准字音。</a:t>
            </a:r>
            <a:endParaRPr b="0" lang="en-US" sz="3000" spc="-1" strike="noStrike">
              <a:solidFill>
                <a:srgbClr val="3d3f41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3d3f41"/>
                </a:solidFill>
                <a:latin typeface="楷体_GB2312"/>
              </a:rPr>
              <a:t>2</a:t>
            </a:r>
            <a:r>
              <a:rPr b="1" lang="zh-CN" sz="30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3d3f41"/>
                </a:solidFill>
                <a:latin typeface="Arial"/>
                <a:ea typeface="楷体_GB2312"/>
              </a:rPr>
              <a:t>     </a:t>
            </a:r>
            <a:r>
              <a:rPr b="1" lang="zh-CN" sz="30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 画出生字词，同桌合作，识记字形，  </a:t>
            </a:r>
            <a:endParaRPr b="0" lang="en-US" sz="3000" spc="-1" strike="noStrike">
              <a:solidFill>
                <a:srgbClr val="3d3f41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         </a:t>
            </a:r>
            <a:r>
              <a:rPr b="1" lang="zh-CN" sz="30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理解词意。</a:t>
            </a:r>
            <a:endParaRPr b="0" lang="en-US" sz="3000" spc="-1" strike="noStrike">
              <a:solidFill>
                <a:srgbClr val="3d3f41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3d3f41"/>
                </a:solidFill>
                <a:latin typeface="楷体_GB2312"/>
              </a:rPr>
              <a:t>3</a:t>
            </a:r>
            <a:r>
              <a:rPr b="1" lang="zh-CN" sz="30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3d3f41"/>
                </a:solidFill>
                <a:latin typeface="Arial"/>
                <a:ea typeface="楷体_GB2312"/>
              </a:rPr>
              <a:t>     </a:t>
            </a:r>
            <a:r>
              <a:rPr b="1" lang="zh-CN" sz="30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 思考课文讲了一件什么事。</a:t>
            </a:r>
            <a:endParaRPr b="0" lang="en-US" sz="3000" spc="-1" strike="noStrike">
              <a:solidFill>
                <a:srgbClr val="3d3f41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3d3f41"/>
                </a:solidFill>
                <a:latin typeface="楷体_GB2312"/>
              </a:rPr>
              <a:t>4</a:t>
            </a:r>
            <a:r>
              <a:rPr b="1" lang="zh-CN" sz="30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3d3f41"/>
                </a:solidFill>
                <a:latin typeface="Arial"/>
                <a:ea typeface="楷体_GB2312"/>
              </a:rPr>
              <a:t>     </a:t>
            </a:r>
            <a:r>
              <a:rPr b="1" lang="zh-CN" sz="30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 不理解的地方作上记号，与同桌讨论。</a:t>
            </a:r>
            <a:endParaRPr b="0" lang="en-US" sz="3000" spc="-1" strike="noStrike">
              <a:solidFill>
                <a:srgbClr val="3d3f41"/>
              </a:solidFill>
              <a:latin typeface="楷体_GB2312"/>
            </a:endParaRPr>
          </a:p>
        </p:txBody>
      </p:sp>
      <p:pic>
        <p:nvPicPr>
          <p:cNvPr id="345" name="Picture 5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6"/>
          <p:cNvSpPr/>
          <p:nvPr/>
        </p:nvSpPr>
        <p:spPr>
          <a:xfrm>
            <a:off x="1332000" y="884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zhào</a:t>
            </a:r>
            <a:endParaRPr b="0" lang="en-US" sz="2400" spc="-1" strike="noStrike">
              <a:solidFill>
                <a:srgbClr val="3d3f41"/>
              </a:solidFill>
              <a:latin typeface="楷体_GB2312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1332000" y="1341360"/>
            <a:ext cx="6480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黑体"/>
              </a:rPr>
              <a:t>召集   果然   他俩     半截</a:t>
            </a: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黑体"/>
              </a:rPr>
              <a:t>连绵起伏      若隐若现</a:t>
            </a: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黑体"/>
              </a:rPr>
              <a:t>恰好              恍然大悟</a:t>
            </a: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04624E-007 L -0.28333 -0.00185 E">
                                      <p:cBhvr>
                                        <p:cTn id="6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7"/>
          <p:cNvSpPr/>
          <p:nvPr/>
        </p:nvSpPr>
        <p:spPr>
          <a:xfrm>
            <a:off x="2627280" y="90792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d3f41"/>
                </a:solidFill>
                <a:latin typeface="Arial"/>
              </a:rPr>
              <a:t>：通知人们聚集起来。</a:t>
            </a: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1258920" y="54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zhào</a:t>
            </a:r>
            <a:endParaRPr b="0" lang="en-US" sz="2400" spc="-1" strike="noStrike">
              <a:solidFill>
                <a:srgbClr val="3d3f41"/>
              </a:solidFill>
              <a:latin typeface="楷体_GB2312"/>
            </a:endParaRPr>
          </a:p>
        </p:txBody>
      </p:sp>
      <p:sp>
        <p:nvSpPr>
          <p:cNvPr id="358" name="Text Box 21"/>
          <p:cNvSpPr/>
          <p:nvPr/>
        </p:nvSpPr>
        <p:spPr>
          <a:xfrm>
            <a:off x="1332000" y="90792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Times New Roman"/>
              </a:rPr>
              <a:t>召集</a:t>
            </a: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</p:txBody>
      </p:sp>
      <p:sp>
        <p:nvSpPr>
          <p:cNvPr id="359" name="Text Box 22"/>
          <p:cNvSpPr/>
          <p:nvPr/>
        </p:nvSpPr>
        <p:spPr>
          <a:xfrm>
            <a:off x="1332000" y="2025720"/>
            <a:ext cx="5400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楷体_GB2312"/>
              </a:rPr>
              <a:t>连绵起伏      </a:t>
            </a: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楷体_GB2312"/>
              </a:rPr>
              <a:t>若隐若现</a:t>
            </a: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楷体_GB2312"/>
              </a:rPr>
              <a:t>恍然大悟</a:t>
            </a: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04624E-007 L -0.28333 -0.00185 E">
                                      <p:cBhvr>
                                        <p:cTn id="18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4"/>
          <p:cNvSpPr/>
          <p:nvPr/>
        </p:nvSpPr>
        <p:spPr>
          <a:xfrm>
            <a:off x="395280" y="141300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3f41"/>
                </a:solidFill>
                <a:latin typeface="楷体_GB2312"/>
              </a:rPr>
              <a:t>    </a:t>
            </a:r>
            <a:r>
              <a:rPr b="1" lang="zh-CN" sz="44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画师让三个徒弟画骆驼，看谁画的骆驼多。大徒弟</a:t>
            </a:r>
            <a:r>
              <a:rPr b="1" lang="zh-CN" sz="44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，二徒弟</a:t>
            </a:r>
            <a:r>
              <a:rPr b="1" lang="zh-CN" sz="44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44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，而三徒弟</a:t>
            </a:r>
            <a:r>
              <a:rPr b="1" lang="zh-CN" sz="44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44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，却得到画师的高度称赞。</a:t>
            </a: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</p:txBody>
      </p:sp>
      <p:pic>
        <p:nvPicPr>
          <p:cNvPr id="361" name="Picture 5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next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截2"/>
          <p:cNvPicPr/>
          <p:nvPr/>
        </p:nvPicPr>
        <p:blipFill>
          <a:blip r:embed="rId4"/>
          <a:stretch/>
        </p:blipFill>
        <p:spPr>
          <a:xfrm>
            <a:off x="1692360" y="333360"/>
            <a:ext cx="5727600" cy="55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4"/>
          <p:cNvSpPr/>
          <p:nvPr/>
        </p:nvSpPr>
        <p:spPr>
          <a:xfrm>
            <a:off x="971640" y="1341360"/>
            <a:ext cx="7056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召集   果然   他俩  半截</a:t>
            </a: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连绵起伏      若隐若现</a:t>
            </a: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恰好          恍然大悟</a:t>
            </a:r>
            <a:endParaRPr b="0" lang="en-US" sz="4400" spc="-1" strike="noStrike">
              <a:solidFill>
                <a:srgbClr val="3d3f41"/>
              </a:solidFill>
              <a:latin typeface="楷体_GB2312"/>
            </a:endParaRPr>
          </a:p>
        </p:txBody>
      </p:sp>
      <p:pic>
        <p:nvPicPr>
          <p:cNvPr id="369" name="Picture 5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971640" y="1146240"/>
            <a:ext cx="712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作业：</a:t>
            </a:r>
            <a:endParaRPr b="0" lang="en-US" sz="3200" spc="-1" strike="noStrike">
              <a:solidFill>
                <a:srgbClr val="3d3f41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3f41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、抄写词语：</a:t>
            </a:r>
            <a:endParaRPr b="0" lang="en-US" sz="3200" spc="-1" strike="noStrike">
              <a:solidFill>
                <a:srgbClr val="3d3f41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召集   果然  他俩   半截    恰好 </a:t>
            </a:r>
            <a:endParaRPr b="0" lang="en-US" sz="3200" spc="-1" strike="noStrike">
              <a:solidFill>
                <a:srgbClr val="3d3f41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连绵起伏     若隐若现    恍然大悟</a:t>
            </a:r>
            <a:endParaRPr b="0" lang="en-US" sz="3200" spc="-1" strike="noStrike">
              <a:solidFill>
                <a:srgbClr val="3d3f41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3f41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、正确、流利地朗读课文。</a:t>
            </a:r>
            <a:r>
              <a:rPr b="0" lang="zh-CN" sz="32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3d3f41"/>
              </a:solidFill>
              <a:latin typeface="楷体_GB2312"/>
            </a:endParaRPr>
          </a:p>
        </p:txBody>
      </p:sp>
      <p:pic>
        <p:nvPicPr>
          <p:cNvPr id="373" name="Picture 3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6T09:39:24Z</dcterms:created>
  <dc:creator/>
  <dc:description/>
  <dc:language>en-US</dc:language>
  <cp:lastModifiedBy>Administrator</cp:lastModifiedBy>
  <dcterms:modified xsi:type="dcterms:W3CDTF">2017-02-16T09:39:43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