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1E4-2ADF-4936-AA02-02C8EA00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21E-735C-4DB2-87C1-6BCD39E2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8B6-4E4B-4E52-A237-0E0459AC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FE1-E0F1-40A7-97BF-80B5DED0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7593-5A33-444F-9CAA-0A0CB7C9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A1E2-7382-4559-B424-38467A3F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B16F-1E59-4994-A4DB-ACA8F3C6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F08B-8C76-43E2-8FFB-ED7811BF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2A74-CC5B-4634-982D-1FBD466C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67F5-1FA3-489E-865E-21EE3F16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F0D1-9A3D-47BE-BC4B-E6DC051F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982-9F0D-4840-83D1-06D8BDE0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2621-FA58-4DCF-82C9-B8EDFECB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6B07-F362-4FA6-90DD-93E85D7F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ABD1-4E90-4C0A-AC47-9F7F091C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DF8F-C3B8-4E79-A128-11FD501D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D4C4-6785-445A-A745-2E82DCF0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73F7A-514E-4987-AAD6-F22431B2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95CF5-ED4E-4E60-8BB8-AE860F25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42761-5575-4F5D-B2BF-A71E3A89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153C6-4358-47BB-80BE-E50F4FB9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8C343-7B73-4AD3-8E14-0E2380DD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D31-0504-47C8-9CA9-4044BB33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F4C45-9554-422A-833B-4014E5CF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79929-10C8-432E-8DDE-76D0EC37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F4BC3-10AD-42D7-9ED4-3B63838E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D4E4E-583D-4F62-8C33-E7631258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65CC4-302F-41FB-943D-B31888DF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9453F-C77E-4C63-AF77-ABCB4B8D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1CE70-C01D-43DD-B43F-6FE42728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A4B4-639F-4A39-8DEA-7B16D55B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91A-20C4-4041-9F62-2E5883AE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3920-B458-487F-87C6-59D845E8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336-5919-41A9-876D-3223D8F7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C59C-18F5-4D43-A65C-58931A18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FEB-7F7D-4FD0-8291-71FE8730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8006-09EC-4657-9426-8391CEAD6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42" name="矩形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组合 9"/>
            <p:cNvGrpSpPr/>
            <p:nvPr/>
          </p:nvGrpSpPr>
          <p:grpSpPr>
            <a:xfrm>
              <a:off x="0" y="6676920"/>
              <a:ext cx="9144000" cy="193680"/>
              <a:chOff x="0" y="6676920"/>
              <a:chExt cx="9144000" cy="193680"/>
            </a:xfrm>
          </p:grpSpPr>
          <p:sp>
            <p:nvSpPr>
              <p:cNvPr id="44" name="矩形 10"/>
              <p:cNvSpPr/>
              <p:nvPr/>
            </p:nvSpPr>
            <p:spPr>
              <a:xfrm>
                <a:off x="0" y="6676920"/>
                <a:ext cx="229716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矩形 11"/>
              <p:cNvSpPr/>
              <p:nvPr/>
            </p:nvSpPr>
            <p:spPr>
              <a:xfrm>
                <a:off x="2288160" y="6676920"/>
                <a:ext cx="22791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矩形 12"/>
              <p:cNvSpPr/>
              <p:nvPr/>
            </p:nvSpPr>
            <p:spPr>
              <a:xfrm>
                <a:off x="4558680" y="6676920"/>
                <a:ext cx="229716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矩形 13"/>
              <p:cNvSpPr/>
              <p:nvPr/>
            </p:nvSpPr>
            <p:spPr>
              <a:xfrm>
                <a:off x="6846840" y="6676920"/>
                <a:ext cx="229716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029040" y="646740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4F37-C1A4-4103-8B1C-8F29B68FE001}" type="slidenum"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a6a1e0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5"/>
          <p:cNvGrpSpPr/>
          <p:nvPr/>
        </p:nvGrpSpPr>
        <p:grpSpPr>
          <a:xfrm>
            <a:off x="3203640" y="-12600"/>
            <a:ext cx="2606760" cy="1428480"/>
            <a:chOff x="3203640" y="-12600"/>
            <a:chExt cx="2606760" cy="1428480"/>
          </a:xfrm>
        </p:grpSpPr>
        <p:sp>
          <p:nvSpPr>
            <p:cNvPr id="91" name="椭圆 16"/>
            <p:cNvSpPr/>
            <p:nvPr/>
          </p:nvSpPr>
          <p:spPr>
            <a:xfrm>
              <a:off x="3203640" y="764640"/>
              <a:ext cx="651600" cy="651240"/>
            </a:xfrm>
            <a:prstGeom prst="ellipse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7"/>
            <p:cNvSpPr/>
            <p:nvPr/>
          </p:nvSpPr>
          <p:spPr>
            <a:xfrm>
              <a:off x="3203640" y="-12600"/>
              <a:ext cx="651600" cy="110304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18"/>
            <p:cNvSpPr/>
            <p:nvPr/>
          </p:nvSpPr>
          <p:spPr>
            <a:xfrm>
              <a:off x="3855240" y="764640"/>
              <a:ext cx="651600" cy="651240"/>
            </a:xfrm>
            <a:prstGeom prst="ellipse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9"/>
            <p:cNvSpPr/>
            <p:nvPr/>
          </p:nvSpPr>
          <p:spPr>
            <a:xfrm>
              <a:off x="3855240" y="-12600"/>
              <a:ext cx="651600" cy="1103040"/>
            </a:xfrm>
            <a:prstGeom prst="rect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20"/>
            <p:cNvSpPr/>
            <p:nvPr/>
          </p:nvSpPr>
          <p:spPr>
            <a:xfrm>
              <a:off x="4507200" y="764640"/>
              <a:ext cx="651600" cy="651240"/>
            </a:xfrm>
            <a:prstGeom prst="ellipse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21"/>
            <p:cNvSpPr/>
            <p:nvPr/>
          </p:nvSpPr>
          <p:spPr>
            <a:xfrm>
              <a:off x="4507200" y="-12600"/>
              <a:ext cx="651600" cy="110304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22"/>
            <p:cNvSpPr/>
            <p:nvPr/>
          </p:nvSpPr>
          <p:spPr>
            <a:xfrm>
              <a:off x="5158800" y="764640"/>
              <a:ext cx="651600" cy="651240"/>
            </a:xfrm>
            <a:prstGeom prst="ellipse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23"/>
            <p:cNvSpPr/>
            <p:nvPr/>
          </p:nvSpPr>
          <p:spPr>
            <a:xfrm>
              <a:off x="5158800" y="-12600"/>
              <a:ext cx="651600" cy="1103040"/>
            </a:xfrm>
            <a:prstGeom prst="rect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24"/>
          <p:cNvGrpSpPr/>
          <p:nvPr/>
        </p:nvGrpSpPr>
        <p:grpSpPr>
          <a:xfrm>
            <a:off x="0" y="6676920"/>
            <a:ext cx="9144000" cy="193680"/>
            <a:chOff x="0" y="6676920"/>
            <a:chExt cx="9144000" cy="193680"/>
          </a:xfrm>
        </p:grpSpPr>
        <p:sp>
          <p:nvSpPr>
            <p:cNvPr id="100" name="矩形 25"/>
            <p:cNvSpPr/>
            <p:nvPr/>
          </p:nvSpPr>
          <p:spPr>
            <a:xfrm>
              <a:off x="0" y="6676920"/>
              <a:ext cx="2297160" cy="19368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26"/>
            <p:cNvSpPr/>
            <p:nvPr/>
          </p:nvSpPr>
          <p:spPr>
            <a:xfrm>
              <a:off x="2288160" y="6676920"/>
              <a:ext cx="2279160" cy="193680"/>
            </a:xfrm>
            <a:prstGeom prst="rect">
              <a:avLst/>
            </a:prstGeom>
            <a:solidFill>
              <a:srgbClr val="087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27"/>
            <p:cNvSpPr/>
            <p:nvPr/>
          </p:nvSpPr>
          <p:spPr>
            <a:xfrm>
              <a:off x="4558680" y="6676920"/>
              <a:ext cx="2297160" cy="19368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28"/>
            <p:cNvSpPr/>
            <p:nvPr/>
          </p:nvSpPr>
          <p:spPr>
            <a:xfrm>
              <a:off x="6846840" y="6676920"/>
              <a:ext cx="2297160" cy="193680"/>
            </a:xfrm>
            <a:prstGeom prst="rect">
              <a:avLst/>
            </a:prstGeom>
            <a:solidFill>
              <a:srgbClr val="2a3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9916-44CE-40A6-9AC5-66832C9683EC}" type="slidenum"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title"/>
          </p:nvPr>
        </p:nvSpPr>
        <p:spPr>
          <a:xfrm>
            <a:off x="1130040" y="2282760"/>
            <a:ext cx="7010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8" name="副标题 6"/>
          <p:cNvSpPr/>
          <p:nvPr/>
        </p:nvSpPr>
        <p:spPr>
          <a:xfrm>
            <a:off x="2287440" y="3282840"/>
            <a:ext cx="4581720" cy="384120"/>
          </a:xfrm>
          <a:prstGeom prst="roundRect">
            <a:avLst>
              <a:gd name="adj" fmla="val 50000"/>
            </a:avLst>
          </a:prstGeom>
          <a:solidFill>
            <a:srgbClr val="adb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3d3f41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3d3f41"/>
              </a:solidFill>
              <a:latin typeface="幼圆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3d3f41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3d3f41"/>
              </a:solidFill>
              <a:latin typeface="Calibri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5" marL="1371600">
              <a:spcBef>
                <a:spcPts val="326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6" marL="1371600">
              <a:spcBef>
                <a:spcPts val="326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-1,11,&#24187;&#28783;&#29255; 11" TargetMode="External"/><Relationship Id="rId2" Type="http://schemas.openxmlformats.org/officeDocument/2006/relationships/hyperlink" Target="-1,12,&#24187;&#28783;&#29255; 12" TargetMode="External"/><Relationship Id="rId3" Type="http://schemas.openxmlformats.org/officeDocument/2006/relationships/hyperlink" Target="-1,13,&#24187;&#28783;&#29255; 13" TargetMode="External"/><Relationship Id="rId4" Type="http://schemas.openxmlformats.org/officeDocument/2006/relationships/hyperlink" Target="-1,14,&#24187;&#28783;&#29255; 14" TargetMode="External"/><Relationship Id="rId5" Type="http://schemas.openxmlformats.org/officeDocument/2006/relationships/hyperlink" Target="-1,14,&#24187;&#28783;&#29255; 14" TargetMode="External"/><Relationship Id="rId6" Type="http://schemas.openxmlformats.org/officeDocument/2006/relationships/hyperlink" Target="-1,15,&#24187;&#28783;&#29255; 15" TargetMode="External"/><Relationship Id="rId7" Type="http://schemas.openxmlformats.org/officeDocument/2006/relationships/hyperlink" Target="-1,16,&#24187;&#28783;&#29255; 16" TargetMode="External"/><Relationship Id="rId8" Type="http://schemas.openxmlformats.org/officeDocument/2006/relationships/hyperlink" Target="-1,16,&#24187;&#28783;&#29255; 16" TargetMode="Externa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449080" y="1120680"/>
            <a:ext cx="635796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  <a:ea typeface="楷体_GB2312"/>
              </a:rPr>
              <a:t>理想，能给天下不幸者以快乐！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  <a:ea typeface="楷体_GB2312"/>
              </a:rPr>
              <a:t>聪明在于学习，智慧在于积累。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  <a:ea typeface="楷体_GB2312"/>
              </a:rPr>
              <a:t>书籍是人类进步的阶梯。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  <a:ea typeface="楷体_GB2312"/>
              </a:rPr>
              <a:t>一切伟大的事业，或者是说一切大事，都是由小事组成的。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  <a:ea typeface="楷体_GB2312"/>
              </a:rPr>
              <a:t>人不是因为美丽而可爱，而是因为可爱而美丽。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7" name=""/>
          <p:cNvSpPr/>
          <p:nvPr/>
        </p:nvSpPr>
        <p:spPr>
          <a:xfrm>
            <a:off x="6711480" y="5805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高尔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30520" y="620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名人名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d3f41"/>
                </a:solidFill>
                <a:latin typeface="宋体"/>
              </a:rPr>
              <a:t>zh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ǔ</a:t>
            </a:r>
            <a:r>
              <a:rPr b="1" lang="en-US" sz="9600" spc="-1" strike="noStrike">
                <a:solidFill>
                  <a:srgbClr val="3d3f41"/>
                </a:solidFill>
                <a:latin typeface="宋体"/>
              </a:rPr>
              <a:t>n   b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è</a:t>
            </a:r>
            <a:r>
              <a:rPr b="1" lang="en-US" sz="9600" spc="-1" strike="noStrike">
                <a:solidFill>
                  <a:srgbClr val="3d3f41"/>
                </a:solidFill>
                <a:latin typeface="宋体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186" name="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189" name="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3528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Arial"/>
                <a:ea typeface="楷体_GB2312"/>
              </a:rPr>
              <a:t>准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Arial"/>
                <a:ea typeface="楷体_GB2312"/>
              </a:rPr>
              <a:t>备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d3f41"/>
                </a:solidFill>
                <a:latin typeface="宋体"/>
              </a:rPr>
              <a:t>ji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ā</a:t>
            </a:r>
            <a:r>
              <a:rPr b="1" lang="en-US" sz="9600" spc="-1" strike="noStrike">
                <a:solidFill>
                  <a:srgbClr val="3d3f41"/>
                </a:solidFill>
                <a:latin typeface="宋体"/>
              </a:rPr>
              <a:t>o  ju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ǎ</a:t>
            </a:r>
            <a:r>
              <a:rPr b="1" lang="en-US" sz="9600" spc="-1" strike="noStrike">
                <a:solidFill>
                  <a:srgbClr val="3d3f41"/>
                </a:solidFill>
                <a:latin typeface="宋体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197" name="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200" name="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63640" y="164772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Arial"/>
                <a:ea typeface="楷体_GB2312"/>
              </a:rPr>
              <a:t>胶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51640" y="1700280"/>
            <a:ext cx="3492360" cy="10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Arial"/>
                <a:ea typeface="楷体_GB2312"/>
              </a:rPr>
              <a:t>卷     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d3f41"/>
                </a:solidFill>
                <a:latin typeface="宋体"/>
              </a:rPr>
              <a:t>     </a:t>
            </a:r>
            <a:r>
              <a:rPr b="1" lang="en-US" sz="9600" spc="-1" strike="noStrike">
                <a:solidFill>
                  <a:srgbClr val="3d3f41"/>
                </a:solidFill>
                <a:latin typeface="宋体"/>
              </a:rPr>
              <a:t>li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à</a:t>
            </a:r>
            <a:r>
              <a:rPr b="1" lang="en-US" sz="9600" spc="-1" strike="noStrike">
                <a:solidFill>
                  <a:srgbClr val="3d3f41"/>
                </a:solidFill>
                <a:latin typeface="宋体"/>
              </a:rPr>
              <a:t>n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208" name="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211" name="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3528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Arial"/>
                <a:ea typeface="楷体_GB2312"/>
              </a:rPr>
              <a:t>车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Arial"/>
                <a:ea typeface="楷体_GB2312"/>
              </a:rPr>
              <a:t>辆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d3f41"/>
                </a:solidFill>
                <a:latin typeface="宋体"/>
              </a:rPr>
              <a:t> </a:t>
            </a:r>
            <a:r>
              <a:rPr b="1" lang="en-US" sz="9600" spc="-1" strike="noStrike">
                <a:solidFill>
                  <a:srgbClr val="3d3f41"/>
                </a:solidFill>
                <a:latin typeface="宋体"/>
              </a:rPr>
              <a:t>m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219" name="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222" name="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3528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Arial"/>
                <a:ea typeface="楷体_GB2312"/>
              </a:rPr>
              <a:t>秘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Arial"/>
                <a:ea typeface="楷体_GB2312"/>
              </a:rPr>
              <a:t>书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16000" y="404640"/>
            <a:ext cx="76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d3f41"/>
                </a:solidFill>
                <a:latin typeface="宋体"/>
              </a:rPr>
              <a:t>z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á</a:t>
            </a:r>
            <a:r>
              <a:rPr b="1" lang="en-US" sz="9600" spc="-1" strike="noStrike">
                <a:solidFill>
                  <a:srgbClr val="3d3f41"/>
                </a:solidFill>
                <a:latin typeface="宋体"/>
              </a:rPr>
              <a:t>      sh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00000" y="1844280"/>
            <a:ext cx="3527280" cy="3816720"/>
            <a:chOff x="900000" y="1844280"/>
            <a:chExt cx="3527280" cy="3816720"/>
          </a:xfrm>
        </p:grpSpPr>
        <p:sp>
          <p:nvSpPr>
            <p:cNvPr id="230" name=""/>
            <p:cNvSpPr/>
            <p:nvPr/>
          </p:nvSpPr>
          <p:spPr>
            <a:xfrm>
              <a:off x="900000" y="191592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627280" y="184428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233" name="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900000" y="3645000"/>
            <a:ext cx="352764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2920" y="1916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Arial"/>
                <a:ea typeface="楷体_GB2312"/>
              </a:rPr>
              <a:t>杂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Arial"/>
                <a:ea typeface="楷体_GB2312"/>
              </a:rPr>
              <a:t>社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70840" y="31417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ff"/>
                </a:solidFill>
                <a:latin typeface="Arial"/>
              </a:rPr>
              <a:t>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d3f41"/>
                </a:solidFill>
                <a:latin typeface="宋体"/>
              </a:rPr>
              <a:t>c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242" name="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245" name="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6364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Arial"/>
                <a:ea typeface="楷体_GB2312"/>
              </a:rPr>
              <a:t>侧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Arial"/>
                <a:ea typeface="楷体_GB2312"/>
              </a:rPr>
              <a:t>面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d3f41"/>
                </a:solidFill>
                <a:latin typeface="宋体"/>
              </a:rPr>
              <a:t>b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ǎ</a:t>
            </a:r>
            <a:r>
              <a:rPr b="1" lang="en-US" sz="9600" spc="-1" strike="noStrike">
                <a:solidFill>
                  <a:srgbClr val="3d3f41"/>
                </a:solidFill>
                <a:latin typeface="宋体"/>
              </a:rPr>
              <a:t>i   n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ò</a:t>
            </a:r>
            <a:r>
              <a:rPr b="1" lang="en-US" sz="9600" spc="-1" strike="noStrike">
                <a:solidFill>
                  <a:srgbClr val="3d3f41"/>
                </a:solidFill>
                <a:latin typeface="宋体"/>
              </a:rPr>
              <a:t>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253" name="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256" name="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3528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Arial"/>
                <a:ea typeface="楷体_GB2312"/>
              </a:rPr>
              <a:t>摆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Arial"/>
                <a:ea typeface="楷体_GB2312"/>
              </a:rPr>
              <a:t>弄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d3f41"/>
                </a:solidFill>
                <a:latin typeface="宋体"/>
              </a:rPr>
              <a:t> </a:t>
            </a:r>
            <a:r>
              <a:rPr b="1" lang="en-US" sz="9600" spc="-1" strike="noStrike">
                <a:solidFill>
                  <a:srgbClr val="3d3f41"/>
                </a:solidFill>
                <a:latin typeface="宋体"/>
              </a:rPr>
              <a:t>t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264" name="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267" name="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6364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Arial"/>
                <a:ea typeface="楷体_GB2312"/>
              </a:rPr>
              <a:t>突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Arial"/>
                <a:ea typeface="楷体_GB2312"/>
              </a:rPr>
              <a:t>然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d3f41"/>
                </a:solidFill>
                <a:latin typeface="宋体"/>
              </a:rPr>
              <a:t> 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à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275" name="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278" name="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6364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Arial"/>
                <a:ea typeface="楷体_GB2312"/>
              </a:rPr>
              <a:t>按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Arial"/>
                <a:ea typeface="楷体_GB2312"/>
              </a:rPr>
              <a:t>照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d3f41"/>
                </a:solidFill>
                <a:latin typeface="宋体"/>
              </a:rPr>
              <a:t> 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j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286" name="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289" name="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6364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Arial"/>
                <a:ea typeface="楷体_GB2312"/>
              </a:rPr>
              <a:t>基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Arial"/>
                <a:ea typeface="楷体_GB2312"/>
              </a:rPr>
              <a:t>本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00720" y="177336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1197000"/>
            <a:ext cx="4456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幼圆"/>
                <a:ea typeface="幼圆"/>
              </a:rPr>
              <a:t> </a:t>
            </a:r>
            <a:r>
              <a:rPr b="0" lang="zh-CN" sz="240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1"/>
              </a:rPr>
              <a:t>高尔基</a:t>
            </a:r>
            <a:r>
              <a:rPr b="1" lang="zh-CN" sz="2400" spc="-1" strike="noStrike">
                <a:solidFill>
                  <a:srgbClr val="3333ff"/>
                </a:solidFill>
                <a:latin typeface="幼圆"/>
                <a:ea typeface="幼圆"/>
              </a:rPr>
              <a:t>：（</a:t>
            </a:r>
            <a:r>
              <a:rPr b="1" lang="en-US" sz="2400" spc="-1" strike="noStrike">
                <a:solidFill>
                  <a:srgbClr val="3333ff"/>
                </a:solidFill>
                <a:latin typeface="幼圆"/>
                <a:ea typeface="幼圆"/>
              </a:rPr>
              <a:t>1868—1936</a:t>
            </a:r>
            <a:r>
              <a:rPr b="1" lang="zh-CN" sz="2400" spc="-1" strike="noStrike">
                <a:solidFill>
                  <a:srgbClr val="3333ff"/>
                </a:solidFill>
                <a:latin typeface="幼圆"/>
                <a:ea typeface="幼圆"/>
              </a:rPr>
              <a:t>）前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幼圆"/>
                <a:ea typeface="幼圆"/>
              </a:rPr>
              <a:t>联伟大的无产阶级文学家，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幼圆"/>
                <a:ea typeface="幼圆"/>
              </a:rPr>
              <a:t>联文学的创始人。他的主要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幼圆"/>
                <a:ea typeface="幼圆"/>
              </a:rPr>
              <a:t>品有散文诗《</a:t>
            </a:r>
            <a:r>
              <a:rPr b="0" lang="zh-CN" sz="240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2"/>
              </a:rPr>
              <a:t>海燕</a:t>
            </a:r>
            <a:r>
              <a:rPr b="1" lang="zh-CN" sz="2400" spc="-1" strike="noStrike">
                <a:solidFill>
                  <a:srgbClr val="3333ff"/>
                </a:solidFill>
                <a:latin typeface="幼圆"/>
                <a:ea typeface="幼圆"/>
              </a:rPr>
              <a:t>》，小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幼圆"/>
                <a:ea typeface="幼圆"/>
              </a:rPr>
              <a:t>《</a:t>
            </a:r>
            <a:r>
              <a:rPr b="0" lang="zh-CN" sz="240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3"/>
              </a:rPr>
              <a:t>母亲</a:t>
            </a:r>
            <a:r>
              <a:rPr b="1" lang="zh-CN" sz="2400" spc="-1" strike="noStrike">
                <a:solidFill>
                  <a:srgbClr val="3333ff"/>
                </a:solidFill>
                <a:latin typeface="幼圆"/>
                <a:ea typeface="幼圆"/>
              </a:rPr>
              <a:t>》</a:t>
            </a:r>
            <a:r>
              <a:rPr b="1" lang="en-US" sz="2400" spc="-1" strike="noStrike">
                <a:solidFill>
                  <a:srgbClr val="3333ff"/>
                </a:solidFill>
                <a:latin typeface="幼圆"/>
                <a:ea typeface="幼圆"/>
              </a:rPr>
              <a:t>, </a:t>
            </a:r>
            <a:r>
              <a:rPr b="1" lang="zh-CN" sz="2400" spc="-1" strike="noStrike">
                <a:solidFill>
                  <a:srgbClr val="3333ff"/>
                </a:solidFill>
                <a:latin typeface="幼圆"/>
                <a:ea typeface="幼圆"/>
              </a:rPr>
              <a:t>自传体三部曲《</a:t>
            </a:r>
            <a:r>
              <a:rPr b="0" lang="zh-CN" sz="240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4"/>
              </a:rPr>
              <a:t>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5"/>
              </a:rPr>
              <a:t>年</a:t>
            </a:r>
            <a:r>
              <a:rPr b="1" lang="zh-CN" sz="2400" spc="-1" strike="noStrike">
                <a:solidFill>
                  <a:srgbClr val="3333ff"/>
                </a:solidFill>
                <a:latin typeface="幼圆"/>
                <a:ea typeface="幼圆"/>
              </a:rPr>
              <a:t>》、《</a:t>
            </a:r>
            <a:r>
              <a:rPr b="0" lang="zh-CN" sz="240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6"/>
              </a:rPr>
              <a:t>在人间</a:t>
            </a:r>
            <a:r>
              <a:rPr b="1" lang="zh-CN" sz="2400" spc="-1" strike="noStrike">
                <a:solidFill>
                  <a:srgbClr val="3333ff"/>
                </a:solidFill>
                <a:latin typeface="幼圆"/>
                <a:ea typeface="幼圆"/>
              </a:rPr>
              <a:t>》、《</a:t>
            </a:r>
            <a:r>
              <a:rPr b="0" lang="zh-CN" sz="240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7"/>
              </a:rPr>
              <a:t>我的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8"/>
              </a:rPr>
              <a:t>学</a:t>
            </a:r>
            <a:r>
              <a:rPr b="1" lang="zh-CN" sz="2400" spc="-1" strike="noStrike">
                <a:solidFill>
                  <a:srgbClr val="3333ff"/>
                </a:solidFill>
                <a:latin typeface="幼圆"/>
                <a:ea typeface="幼圆"/>
              </a:rPr>
              <a:t>》，以及一系列剧本。列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幼圆"/>
                <a:ea typeface="幼圆"/>
              </a:rPr>
              <a:t>称他是“无产阶级艺术的最杰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幼圆"/>
                <a:ea typeface="幼圆"/>
              </a:rPr>
              <a:t>代表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幼圆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幼圆"/>
                <a:ea typeface="幼圆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KSO_BC1" descr=""/>
          <p:cNvPicPr/>
          <p:nvPr/>
        </p:nvPicPr>
        <p:blipFill>
          <a:blip r:embed="rId9"/>
          <a:stretch/>
        </p:blipFill>
        <p:spPr>
          <a:xfrm>
            <a:off x="828720" y="1197000"/>
            <a:ext cx="30225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260000" y="620640"/>
            <a:ext cx="620100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70c0"/>
                </a:solidFill>
                <a:latin typeface="幼圆"/>
                <a:ea typeface="楷体_GB2312"/>
              </a:rPr>
              <a:t>基础   基本   按照   按时</a:t>
            </a:r>
            <a:endParaRPr b="1" lang="en-US" sz="40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幼圆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幼圆"/>
                <a:ea typeface="楷体_GB2312"/>
              </a:rPr>
              <a:t>摆弄   准备   侧面   胶卷</a:t>
            </a:r>
            <a:endParaRPr b="1" lang="en-US" sz="40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幼圆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幼圆"/>
                <a:ea typeface="楷体_GB2312"/>
              </a:rPr>
              <a:t>车辆   秘书   秘密   杂志</a:t>
            </a:r>
            <a:endParaRPr b="1" lang="en-US" sz="40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幼圆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幼圆"/>
                <a:ea typeface="楷体_GB2312"/>
              </a:rPr>
              <a:t>复杂    社会     社区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  <a:ea typeface="楷体_GB2312"/>
              </a:rPr>
              <a:t>   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303360" y="1676520"/>
            <a:ext cx="241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突　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4000" y="1413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d3f41"/>
                </a:solidFill>
                <a:latin typeface="Arial"/>
              </a:rPr>
              <a:t>　　</a:t>
            </a:r>
            <a:r>
              <a:rPr b="1" lang="zh-CN" sz="5400" spc="-1" strike="noStrike">
                <a:solidFill>
                  <a:srgbClr val="3d3f41"/>
                </a:solidFill>
                <a:latin typeface="Arial"/>
                <a:ea typeface="楷体_GB2312"/>
              </a:rPr>
              <a:t>一个阳光明媚的早晨，高尔基正在读书，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突然，</a:t>
            </a:r>
            <a:r>
              <a:rPr b="1" lang="zh-CN" sz="5400" spc="-1" strike="noStrike">
                <a:solidFill>
                  <a:srgbClr val="3d3f41"/>
                </a:solidFill>
                <a:latin typeface="Arial"/>
                <a:ea typeface="楷体_GB2312"/>
              </a:rPr>
              <a:t>一个小纸团从窗外飞到了桌子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28600" y="11430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d3f41"/>
                </a:solidFill>
                <a:latin typeface="Arial"/>
              </a:rPr>
              <a:t>　　</a:t>
            </a:r>
            <a:r>
              <a:rPr b="1" lang="zh-CN" sz="5400" spc="-1" strike="noStrike">
                <a:solidFill>
                  <a:srgbClr val="ff9900"/>
                </a:solidFill>
                <a:latin typeface="Arial"/>
                <a:ea typeface="楷体_GB2312"/>
              </a:rPr>
              <a:t>一个阳光明媚的早晨，高尔基正在读书，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突然，</a:t>
            </a:r>
            <a:r>
              <a:rPr b="1" lang="zh-CN" sz="5400" spc="-1" strike="noStrike">
                <a:solidFill>
                  <a:srgbClr val="3d3f41"/>
                </a:solidFill>
                <a:latin typeface="Arial"/>
                <a:ea typeface="楷体_GB2312"/>
              </a:rPr>
              <a:t>一个小纸团从窗外飞到了桌子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80880" y="31240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d3f41"/>
                </a:solidFill>
                <a:latin typeface="Arial"/>
                <a:ea typeface="黑体"/>
              </a:rPr>
              <a:t>　　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突然，</a:t>
            </a:r>
            <a:r>
              <a:rPr b="1" lang="zh-CN" sz="4800" spc="-1" strike="noStrike">
                <a:solidFill>
                  <a:srgbClr val="3d3f41"/>
                </a:solidFill>
                <a:latin typeface="Arial"/>
                <a:ea typeface="楷体_GB2312"/>
              </a:rPr>
              <a:t>小男孩往地上一坐，哭了起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4800600"/>
            <a:ext cx="82105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楷体_GB2312"/>
              </a:rPr>
              <a:t>小男孩哭着说：“我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楷体_GB2312"/>
              </a:rPr>
              <a:t>胶卷忘在家里了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914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楷体_GB2312"/>
              </a:rPr>
              <a:t>小男孩摆弄了很久很久，说：“一切准备停当。”高尔基侧过脸，对着他微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36440" y="1219320"/>
            <a:ext cx="90075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d3f41"/>
                </a:solidFill>
                <a:latin typeface="Arial"/>
                <a:ea typeface="黑体"/>
              </a:rPr>
              <a:t>　　</a:t>
            </a:r>
            <a:r>
              <a:rPr b="1" lang="zh-CN" sz="4800" spc="-1" strike="noStrike">
                <a:solidFill>
                  <a:srgbClr val="ff9900"/>
                </a:solidFill>
                <a:latin typeface="宋体"/>
                <a:ea typeface="楷体_GB2312"/>
              </a:rPr>
              <a:t>小男孩摆弄了很久很久，说：“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楷体_GB2312"/>
              </a:rPr>
              <a:t>一切准备</a:t>
            </a:r>
            <a:r>
              <a:rPr b="1" lang="zh-CN" sz="4800" spc="-1" strike="noStrike">
                <a:solidFill>
                  <a:srgbClr val="ff9900"/>
                </a:solidFill>
                <a:latin typeface="宋体"/>
                <a:ea typeface="楷体_GB2312"/>
              </a:rPr>
              <a:t>停当。”高尔基侧过脸，对着他微笑。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突然，</a:t>
            </a:r>
            <a:r>
              <a:rPr b="1" lang="zh-CN" sz="5400" spc="-1" strike="noStrike">
                <a:solidFill>
                  <a:srgbClr val="3d3f41"/>
                </a:solidFill>
                <a:latin typeface="Arial"/>
                <a:ea typeface="楷体_GB2312"/>
              </a:rPr>
              <a:t>小男孩往地上一坐，哭了起来</a:t>
            </a:r>
            <a:r>
              <a:rPr b="1" lang="zh-CN" sz="5400" spc="-1" strike="noStrike">
                <a:solidFill>
                  <a:srgbClr val="3d3f41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9907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d3f41"/>
                </a:solidFill>
                <a:latin typeface="Arial"/>
                <a:ea typeface="楷体_GB2312"/>
              </a:rPr>
              <a:t>亲爱的高尔基同志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d3f41"/>
                </a:solidFill>
                <a:latin typeface="Arial"/>
                <a:ea typeface="楷体_GB2312"/>
              </a:rPr>
              <a:t>　　我是一名少先队员。我想给您照一张相，贴在我的墙报上。请您让他们放我进去。我照完相，立刻就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3,99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3,99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33520" y="9907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d3f41"/>
                </a:solidFill>
                <a:latin typeface="Arial"/>
                <a:ea typeface="楷体_GB2312"/>
              </a:rPr>
              <a:t>亲爱的高尔基同志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d3f41"/>
                </a:solidFill>
                <a:latin typeface="Arial"/>
                <a:ea typeface="楷体_GB2312"/>
              </a:rPr>
              <a:t>　　我是一名少先队员。我想给您照一张相，贴在我的墙报上。请您让他们放我进去。我照完相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立刻</a:t>
            </a:r>
            <a:r>
              <a:rPr b="1" lang="zh-CN" sz="4800" spc="-1" strike="noStrike">
                <a:solidFill>
                  <a:srgbClr val="3d3f41"/>
                </a:solidFill>
                <a:latin typeface="Arial"/>
                <a:ea typeface="楷体_GB2312"/>
              </a:rPr>
              <a:t>就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3,99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3,99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5800" y="12952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d3f41"/>
                </a:solidFill>
                <a:latin typeface="Arial"/>
              </a:rPr>
              <a:t>　　</a:t>
            </a:r>
            <a:r>
              <a:rPr b="1" lang="en-US" sz="4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“是的。”小男孩站起来，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鞠了个躬</a:t>
            </a:r>
            <a:r>
              <a:rPr b="1" lang="zh-CN" sz="4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，“请让我进去吧！”</a:t>
            </a:r>
            <a:r>
              <a:rPr b="1" lang="en-US" sz="54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12760" y="1143000"/>
            <a:ext cx="870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d3f41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3d3f41"/>
                </a:solidFill>
                <a:latin typeface="Arial"/>
                <a:ea typeface="楷体_GB2312"/>
              </a:rPr>
              <a:t>过了一会儿，小男孩站在高尔基面前了。他仔细打量着高尔基，咧开嘴笑了，然后用手指了指沙发，说：“请您坐在这儿看报纸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68360" y="1989000"/>
            <a:ext cx="439128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小摄影师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12760" y="1143000"/>
            <a:ext cx="870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d3f41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3d3f41"/>
                </a:solidFill>
                <a:latin typeface="Arial"/>
                <a:ea typeface="楷体_GB2312"/>
              </a:rPr>
              <a:t>过了一会儿，小男孩站在高尔基面前了。他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仔细打量</a:t>
            </a:r>
            <a:r>
              <a:rPr b="1" lang="zh-CN" sz="4800" spc="-1" strike="noStrike">
                <a:solidFill>
                  <a:srgbClr val="3d3f41"/>
                </a:solidFill>
                <a:latin typeface="Arial"/>
                <a:ea typeface="楷体_GB2312"/>
              </a:rPr>
              <a:t>着高尔基，咧开嘴笑了，然后用手指了指沙发，说：“请您坐在这儿看报纸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12760" y="1143000"/>
            <a:ext cx="870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d3f41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3d3f41"/>
                </a:solidFill>
                <a:latin typeface="Arial"/>
                <a:ea typeface="楷体_GB2312"/>
              </a:rPr>
              <a:t>过了一会儿，小男孩站在高尔基面前了。他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仔细打量</a:t>
            </a:r>
            <a:r>
              <a:rPr b="1" lang="zh-CN" sz="4800" spc="-1" strike="noStrike">
                <a:solidFill>
                  <a:srgbClr val="3d3f41"/>
                </a:solidFill>
                <a:latin typeface="Arial"/>
                <a:ea typeface="楷体_GB2312"/>
              </a:rPr>
              <a:t>着高尔基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咧开嘴笑了</a:t>
            </a:r>
            <a:r>
              <a:rPr b="1" lang="zh-CN" sz="4800" spc="-1" strike="noStrike">
                <a:solidFill>
                  <a:srgbClr val="3d3f41"/>
                </a:solidFill>
                <a:latin typeface="Arial"/>
                <a:ea typeface="楷体_GB2312"/>
              </a:rPr>
              <a:t>，然后用手指了指沙发，说：“请您坐在这儿看报纸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508840" y="1828800"/>
            <a:ext cx="436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d3f41"/>
                </a:solidFill>
                <a:latin typeface="Arial"/>
                <a:ea typeface="楷体_GB2312"/>
              </a:rPr>
              <a:t>小男孩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摆弄</a:t>
            </a:r>
            <a:r>
              <a:rPr b="1" lang="zh-CN" sz="4800" spc="-1" strike="noStrike">
                <a:solidFill>
                  <a:srgbClr val="3d3f41"/>
                </a:solidFill>
                <a:latin typeface="Arial"/>
                <a:ea typeface="楷体_GB2312"/>
              </a:rPr>
              <a:t>了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很久很久</a:t>
            </a:r>
            <a:r>
              <a:rPr b="1" lang="zh-CN" sz="4800" spc="-1" strike="noStrike">
                <a:solidFill>
                  <a:srgbClr val="3d3f41"/>
                </a:solidFill>
                <a:latin typeface="Arial"/>
                <a:ea typeface="楷体_GB2312"/>
              </a:rPr>
              <a:t>。</a:t>
            </a:r>
            <a:r>
              <a:rPr b="1" lang="en-US" sz="4800" spc="-1" strike="noStrike">
                <a:solidFill>
                  <a:srgbClr val="3d3f41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36440" y="1219320"/>
            <a:ext cx="900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d3f41"/>
                </a:solidFill>
                <a:latin typeface="Arial"/>
                <a:ea typeface="黑体"/>
              </a:rPr>
              <a:t>　　</a:t>
            </a:r>
            <a:r>
              <a:rPr b="1" lang="zh-CN" sz="4800" spc="-1" strike="noStrike">
                <a:solidFill>
                  <a:srgbClr val="ff9900"/>
                </a:solidFill>
                <a:latin typeface="宋体"/>
                <a:ea typeface="楷体_GB2312"/>
              </a:rPr>
              <a:t>小男孩摆弄了很久很久，说：“一切准备停当。”高尔基侧过脸，对着他微笑。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突然，</a:t>
            </a:r>
            <a:r>
              <a:rPr b="1" lang="zh-CN" sz="5400" spc="-1" strike="noStrike">
                <a:solidFill>
                  <a:srgbClr val="3d3f41"/>
                </a:solidFill>
                <a:latin typeface="Arial"/>
                <a:ea typeface="楷体_GB2312"/>
              </a:rPr>
              <a:t>小男孩往地上一坐，哭了起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3276720"/>
            <a:ext cx="961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楷体_GB2312"/>
              </a:rPr>
              <a:t>高尔基侧过脸，对着他微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219320"/>
            <a:ext cx="76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d3f41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3d3f41"/>
                </a:solidFill>
                <a:latin typeface="Arial"/>
                <a:ea typeface="楷体_GB2312"/>
              </a:rPr>
              <a:t>高尔基拿了张报纸，按小男孩的吩咐坐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04920" y="144792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d3f41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3d3f41"/>
                </a:solidFill>
                <a:latin typeface="Arial"/>
                <a:ea typeface="楷体_GB2312"/>
              </a:rPr>
              <a:t>高尔基走到窗口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大声喊道</a:t>
            </a:r>
            <a:r>
              <a:rPr b="1" lang="zh-CN" sz="4800" spc="-1" strike="noStrike">
                <a:solidFill>
                  <a:srgbClr val="3d3f41"/>
                </a:solidFill>
                <a:latin typeface="Arial"/>
                <a:ea typeface="楷体_GB2312"/>
              </a:rPr>
              <a:t>：“孩子，回来！我给你胶卷，我这儿有很多胶卷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09480" y="83808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作业小超市（二选一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　　１、小男孩哭着离开高尔基的办公室，他还会再来吗？再次见面时他们会说些什么？做些什么呢？请你展开想象，接着往下编写这个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　　２、课外阅读有关高尔基的其他故事或高尔基的作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997080" y="304560"/>
            <a:ext cx="453708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幼圆"/>
              </a:rPr>
              <a:t>        </a:t>
            </a:r>
            <a:r>
              <a:rPr b="1" lang="zh-CN" sz="2000" spc="-1" strike="noStrike">
                <a:solidFill>
                  <a:srgbClr val="3333ff"/>
                </a:solidFill>
                <a:latin typeface="幼圆"/>
              </a:rPr>
              <a:t>一个阳光明媚的早晨，高尔基正读书，突然，一个小纸团从窗外飞到了桌子上。</a:t>
            </a:r>
            <a:endParaRPr b="1" lang="en-US" sz="20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16" name=""/>
          <p:cNvSpPr/>
          <p:nvPr/>
        </p:nvSpPr>
        <p:spPr>
          <a:xfrm>
            <a:off x="4716360" y="364500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03640" y="364500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4000" y="5013360"/>
            <a:ext cx="62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说说，突然发生了什么事？</a:t>
            </a: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03280" y="5373720"/>
            <a:ext cx="67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　　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读课文，思考：小男孩为什么来？用“——”画出有关句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1557360"/>
            <a:ext cx="6492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亲爱的高尔基同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　　我是一名少先队员。我想给您照张相，贴在我们的墙报上。请您让他们放我进去。我照完相，立刻就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92360" y="3933720"/>
            <a:ext cx="65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你觉得这名少先队员怎么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835280" y="4437000"/>
            <a:ext cx="57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他真会想办法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03280" y="76500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3d3f41"/>
                </a:solidFill>
                <a:latin typeface="Arial"/>
              </a:rPr>
              <a:t>读句子，思考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24360" y="1052280"/>
            <a:ext cx="468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微软雅黑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微软雅黑"/>
              </a:rPr>
              <a:t>高尔基是怎样听从小男孩吩咐的？用“</a:t>
            </a:r>
            <a:r>
              <a:rPr b="1" lang="en-US" sz="2400" spc="-1" strike="noStrike">
                <a:solidFill>
                  <a:srgbClr val="ff3300"/>
                </a:solidFill>
                <a:latin typeface="微软雅黑"/>
              </a:rPr>
              <a:t>-----”</a:t>
            </a:r>
            <a:r>
              <a:rPr b="1" lang="zh-CN" sz="2400" spc="-1" strike="noStrike">
                <a:solidFill>
                  <a:srgbClr val="ff3300"/>
                </a:solidFill>
                <a:latin typeface="微软雅黑"/>
              </a:rPr>
              <a:t>画出有关句子。</a:t>
            </a: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81080" y="1125360"/>
            <a:ext cx="3259080" cy="52293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3851280" y="2276640"/>
            <a:ext cx="504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过了一会，小男孩站在高尔基面前了。他仔细打量着高尔基，咧开嘴笑了，然后用手指了指沙发，说：“请您坐这儿看报纸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高尔基拿了张报纸，按小男孩的吩咐坐下。小男孩摆弄了很久很久，说：“一切准备停当。”高尔基侧过脸，对着他微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573408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读了课文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你认为高尔基是怎么样的人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692360" y="1197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突然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又发生了什么事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高尔基是怎样说的？请找出句子读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35280" y="213372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 “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你怎么了？”高尔基不知出了什么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63640" y="299736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高尔基走到窗口，大声喊道：“孩子，回来！我给你胶卷，我这儿有很多胶卷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835280" y="41497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讨论：你认为高尔基对小男孩如何？从哪儿看出？说明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79640" y="4870440"/>
            <a:ext cx="66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3f41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高尔基多么想留住小男孩，帮助孩子拍成这张照片，实现他美好的愿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35280" y="227628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微软雅黑"/>
              </a:rPr>
              <a:t>      </a:t>
            </a:r>
            <a:r>
              <a:rPr b="1" lang="zh-CN" sz="3200" spc="-1" strike="noStrike">
                <a:solidFill>
                  <a:srgbClr val="6600cc"/>
                </a:solidFill>
                <a:latin typeface="微软雅黑"/>
              </a:rPr>
              <a:t>听听课文朗读，看看课文讲了一件什么事。</a:t>
            </a:r>
            <a:r>
              <a:rPr b="1" lang="en-US" sz="4000" spc="-1" strike="noStrike">
                <a:solidFill>
                  <a:srgbClr val="0070c0"/>
                </a:solidFill>
                <a:latin typeface="微软雅黑"/>
              </a:rPr>
              <a:t> </a:t>
            </a:r>
            <a:endParaRPr b="1" lang="en-US" sz="4000" spc="-1" strike="noStrike">
              <a:solidFill>
                <a:srgbClr val="0070c0"/>
              </a:solidFill>
              <a:latin typeface="微软雅黑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443640" y="4437000"/>
            <a:ext cx="13762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09480" y="533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高尔基拿了张报纸，按小男孩的吩咐坐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217476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这句话说明高尔基非常尊重“小摄影师”，并尽量使他满意。“吩咐”这个词本来的意思是口头指派或命令，一般是在上级让下级干什么或长辈让晚辈干什么的时候才使用它。这充分表露了高尔基作为长者对下一代的关爱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042920" y="36450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请转告他，我很忙。不过，来的如果是个小男孩，就一定让他进来。”</a:t>
            </a:r>
            <a:r>
              <a:rPr b="1" lang="en-US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09480" y="990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这是高尔基对秘书说的话。当秘书讲明来人是杂志社记者时，高尔基立刻婉言谢绝了，说自己“很忙”。说明高尔基对于宣传自己一点也不感兴趣，但对关心到下一代成长的事，却非常重视，所以表示“来的如果是个小男孩，就一定让他进来”。这“一定”说明高尔基一直惦记着小男孩，急切地希望小男孩的愿望能赶快实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620120" y="5638680"/>
            <a:ext cx="1104840" cy="828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140360" y="1052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高尔基希望孩子来吗？从哪儿看出？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95640" y="2133720"/>
            <a:ext cx="41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小男孩会回来吗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51280" y="314172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联系全文，找出自己的看法的依据，并发挥想象，续写故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308720" y="1628640"/>
            <a:ext cx="79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新魏"/>
              </a:rPr>
              <a:t>？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4920" y="692280"/>
            <a:ext cx="341964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92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6" dur="192" fill="hold"/>
                                        <p:tgtEl>
                                          <p:spTgt spid="3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8" dur="192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0" dur="192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续写《小摄影师》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9423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幼圆"/>
              </a:rPr>
              <a:t>           </a:t>
            </a:r>
            <a:r>
              <a:rPr b="1" lang="zh-CN" sz="2800" spc="-1" strike="noStrike">
                <a:solidFill>
                  <a:srgbClr val="0070c0"/>
                </a:solidFill>
                <a:latin typeface="幼圆"/>
                <a:ea typeface="楷体_GB2312"/>
              </a:rPr>
              <a:t>第二天早上，天气格外晴朗。高尔基还想念着昨天的小摄影师呢！你看他想得多入神啊！突然，门卫告诉高尔基：“外面来了一名记者。”“是小男孩吗？”高尔基问。门卫回答说：“是的。”高尔基说：“快，快让他进来！”小男孩说：“这次我记着带胶卷了，我吸取了教训，以后也不会那么马虎了。”高尔基听到小男孩所说的话高兴极了！小男孩首先举起了相机，仔细打量着高尔基咧开嘴笑了。然后用手指了指办公桌说：“请您坐在这儿工作。”高尔基按照小男孩的吩咐坐下。最后小男孩调整好相机，又摆弄了好久，说：“一切准备停当。”小男孩又换了几个角度，照了几张相，他终于心满意足了。</a:t>
            </a:r>
            <a:endParaRPr b="1" lang="en-US" sz="28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续写《小摄影师》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640" y="1270080"/>
            <a:ext cx="835344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幼圆"/>
              </a:rPr>
              <a:t>            </a:t>
            </a:r>
            <a:r>
              <a:rPr b="1" lang="zh-CN" sz="2800" spc="-1" strike="noStrike">
                <a:solidFill>
                  <a:srgbClr val="0070c0"/>
                </a:solidFill>
                <a:latin typeface="幼圆"/>
                <a:ea typeface="楷体_GB2312"/>
              </a:rPr>
              <a:t>第二天，小男孩来到列宁格勒，秘书马上请小男孩到高尔基的办公室。小男孩敲门进来。高尔基说：“快请进，我这儿有胶卷。”小男孩说：“你的胶卷不适合我的相机。”说着，小男孩已经吩咐高尔基坐在沙发上看报纸。忽然，小男孩又哭了起来。“你怎么呢？”高尔基关切地问。“我又忘了带胶卷了。”高尔基拿了一筒胶卷给小男孩。小男孩说：“没办法，只好用着吧！”小男孩吩咐高尔基坐在凳子上打电脑。高尔基按小男孩的吩咐去做。小男孩说：“我这次一定要多照些。”小男孩照了很久，觉得口渴了。高尔基叫秘书拿来一杯果汁。小男孩喝完向高尔基告别走了。</a:t>
            </a:r>
            <a:endParaRPr b="1" lang="en-US" sz="28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2320" y="320760"/>
            <a:ext cx="843588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           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续写《小摄影师》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99640" y="980640"/>
            <a:ext cx="79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           </a:t>
            </a:r>
            <a:r>
              <a:rPr b="1" lang="zh-CN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小男孩哭着回到了家，妈妈看见了说：“怎么了，孩子？” 小男孩哭着说：“我把胶卷忘带了，所以没拍成照片。” 妈妈笑着说：“你今天没有拍成明天可以去拍呀！” 　     到了第二天，小男孩又来到列宁格勒。门口的秘书看到了，赶紧去告诉高尔基，高尔基听了高兴地说：“快带小男孩到我这里来。”小男孩到了高尔基的面前对他说：“亲爱的高尔基同志，对不起！昨天我把胶卷忘在家里了，不过，这次请放心。我已经把东西都带来。” 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　　  开始拍照了，高尔基做了各种各样的姿势，耐心地配合小男孩。高尔基和小男孩在拍照的时候非常开心，因为高尔基帮助小男孩实现了愿望，小男孩也因为给高尔基拍了照片。 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小男孩要回家了，恭恭敬敬地对高尔基说：“谢谢您！再见。” 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14400" y="1828800"/>
            <a:ext cx="73152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摄</a:t>
            </a:r>
            <a:r>
              <a:rPr b="1" lang="en-US" sz="4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 影      方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格</a:t>
            </a:r>
            <a:r>
              <a:rPr b="1" lang="en-US" sz="4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      明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桌</a:t>
            </a:r>
            <a:r>
              <a:rPr b="1" lang="en-US" sz="4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 子      同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志</a:t>
            </a:r>
            <a:r>
              <a:rPr b="1" lang="en-US" sz="4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      粘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贴</a:t>
            </a:r>
            <a:r>
              <a:rPr b="1" lang="en-US" sz="4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12193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sh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121932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g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81680" y="121932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mè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33526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zh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33526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zh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33526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ti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14400" y="1828800"/>
            <a:ext cx="73152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鞠    躬      按</a:t>
            </a:r>
            <a:r>
              <a:rPr b="1" lang="en-US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侧 </a:t>
            </a:r>
            <a:r>
              <a:rPr b="1" lang="zh-CN" sz="4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面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胶</a:t>
            </a:r>
            <a:r>
              <a:rPr b="1" lang="en-US" sz="4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 卷      一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辆</a:t>
            </a:r>
            <a:r>
              <a:rPr b="1" lang="en-US" sz="4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12193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j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12193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gō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12193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33526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c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33526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jiā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00800" y="33526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lià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14400" y="29862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秘</a:t>
            </a:r>
            <a:r>
              <a:rPr b="1" lang="en-US" sz="4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  书 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杂</a:t>
            </a:r>
            <a:r>
              <a:rPr b="1" lang="en-US" sz="4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  志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22860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m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22860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z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2286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sh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620120" y="5638680"/>
            <a:ext cx="1104840" cy="828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781320" y="761760"/>
            <a:ext cx="49716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4000" spc="-1" strike="noStrike">
              <a:solidFill>
                <a:srgbClr val="3333ff"/>
              </a:solidFill>
              <a:latin typeface="幼圆"/>
            </a:endParaRPr>
          </a:p>
        </p:txBody>
      </p:sp>
      <p:sp>
        <p:nvSpPr>
          <p:cNvPr id="175" name=""/>
          <p:cNvSpPr/>
          <p:nvPr/>
        </p:nvSpPr>
        <p:spPr>
          <a:xfrm>
            <a:off x="4067280" y="1413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d3f41"/>
                </a:solidFill>
                <a:latin typeface="Arial"/>
              </a:rPr>
              <a:t>我会认</a:t>
            </a:r>
            <a:r>
              <a:rPr b="1" i="1" lang="en-US" sz="2400" spc="-1" strike="noStrike">
                <a:solidFill>
                  <a:srgbClr val="3d3f41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86000"/>
            <a:ext cx="2362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hè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摄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摄        摄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摄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摄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90920" y="4648320"/>
            <a:ext cx="369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jī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基本    基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基    基础    基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基数    墙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5181480"/>
            <a:ext cx="2544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mèi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妩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媚      春光明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213372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ū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  g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ō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鞠   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32767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jiāo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胶卷     橡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胶       胶泥     胶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胶鞋    万能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29600" y="1371600"/>
            <a:ext cx="2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685800" y="1905120"/>
            <a:ext cx="2286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35280" y="227628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微软雅黑"/>
              </a:rPr>
              <a:t>      </a:t>
            </a:r>
            <a:r>
              <a:rPr b="1" lang="zh-CN" sz="3200" spc="-1" strike="noStrike">
                <a:solidFill>
                  <a:srgbClr val="6600cc"/>
                </a:solidFill>
                <a:latin typeface="微软雅黑"/>
              </a:rPr>
              <a:t>说说课文讲了一件什么事。</a:t>
            </a:r>
            <a:r>
              <a:rPr b="1" lang="en-US" sz="4000" spc="-1" strike="noStrike">
                <a:solidFill>
                  <a:srgbClr val="0070c0"/>
                </a:solidFill>
                <a:latin typeface="微软雅黑"/>
              </a:rPr>
              <a:t> </a:t>
            </a:r>
            <a:endParaRPr b="1" lang="en-US" sz="4000" spc="-1" strike="noStrike">
              <a:solidFill>
                <a:srgbClr val="0070c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Administrator</dc:creator>
  <dc:description/>
  <dc:language>en-US</dc:language>
  <cp:lastModifiedBy/>
  <dcterms:modified xsi:type="dcterms:W3CDTF">2015-08-19T06:29:07Z</dcterms:modified>
  <cp:revision>4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