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C8F-5419-4A52-A493-18ED4B62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257-479B-4CD3-B920-5EFC968D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53B-DA37-42C9-9579-ADFC8D67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AF6-C4A7-4557-8637-4D851ACE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B19-C119-4E1F-95EC-B5B7A276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40C-9F0D-42E5-8BE2-57DBFB7C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C78-7F3A-4C66-9D38-4EDB47C6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55A7-143F-426E-88E1-C9E42925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11A-6BE6-4B10-9C5D-0CBED5BA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B0A-0211-4933-810E-88DC6D71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37B-FCBC-4A27-984C-9EDA2BB3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0AB-E112-4587-A572-92AC162C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59DC-7909-4CCE-91AB-17AE8173B0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6934320" cy="4446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7400" y="228600"/>
            <a:ext cx="44956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猪学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692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正想吃另一根香蕉时，大象伯伯走了过来，大象伯伯看着地上的香蕉皮，说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：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猪啊，你不应该乱扔香蕉皮呀。如果有人踩到香蕉皮，摔了一跤那怎么办？你快捡起来吧！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猪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满不在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说：“有谁那么笨，会去踩我扔的香蕉皮呢？我不捡就是不捡。”大象伯伯实在拿它没办法，只好用长鼻子把香蕉皮卷起来，扔入垃圾桶里。小猪看见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脸红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幅图提示：熊猫是怎么摔倒的？会说什么？什么表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0" y="2819520"/>
            <a:ext cx="556272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144792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给图配上语言、动作和表情就很生动啦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猪看见自己的好朋友熊猫走过来了，他跑过去想和它打招呼，没想到熊猫正踩在一块西瓜皮上，摔了一跤。小猪连忙跑过去，把熊猫扶起来。熊猫回家了，小猪把西瓜皮捡了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47242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朋友你觉得写得怎么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猪看见自己的好朋友熊猫走过来了，他跑过去想和它打招呼，没想到熊猫正踩在一块西瓜皮上，摔了一跤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痛得哇哇大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小猪想起来大象伯伯的话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羞得满脸通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连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跑过去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弯下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把熊猫扶起来。熊猫回家了，小猪把西瓜皮捡了起来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它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刚才应该听大象伯伯的话，以后再也不能乱扔垃圾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四幅图的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猪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周围的花儿草儿会说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猪的心情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66880" y="3949560"/>
            <a:ext cx="396252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83664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猪捡起地上的西瓜皮，把它们全部扔进了垃圾桶里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周围的小草、小花都连声表扬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小猪学好样了！小猪学好样了！”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小猪听了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心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美滋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这节课我们学习了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开头注意写清楚时间、地点和主人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给每一幅图配上语言、动作和表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0920" y="259920"/>
            <a:ext cx="424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写作与阅读 学习反馈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姓名：        日期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1484280"/>
          <a:ext cx="8496000" cy="5243400"/>
        </p:xfrm>
        <a:graphic>
          <a:graphicData uri="http://schemas.openxmlformats.org/drawingml/2006/table">
            <a:tbl>
              <a:tblPr/>
              <a:tblGrid>
                <a:gridCol w="1699920"/>
                <a:gridCol w="6796080"/>
              </a:tblGrid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教学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猪学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学习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给图配上语言、动作和表情，写话会更加生动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课堂表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家庭作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抄一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四幅图应该按照什么顺序看呢？是从左到右，还是从上到下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小朋友请擦亮眼睛一幅图一幅图的观察，看一看每一幅图讲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幅图讲的是有一只小猪随地扔香蕉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幅图讲的是大象伯伯把香蕉皮扔进了垃圾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幅图讲的是小猪看见熊猫被西瓜皮给滑到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四幅图小猪把西瓜皮扔进了垃圾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429000" y="114264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故事开头怎么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3200400" cy="2462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80800" y="50292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头注意写清楚时间、地点和主人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天早上，小猪走在路上吃香蕉，把香蕉皮扔在了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200400" cy="24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0574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天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风和日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小猪吃完午饭就去公园散步，还带了两根香蕉。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吃着香蕉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着周围美丽的风景。它吃完一根香蕉就把香蕉皮随手一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89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80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还可以写得更加优美些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2286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幅图的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到小猪扔香蕉皮，大象是怎么做的？会对小猪说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猪听了，会怎么想，怎么说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4267080" cy="2738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28954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请用上语言、动作和表情喔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692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正想吃另一个香蕉时，大象伯伯走了过来，叫小猪不要扔。小猪不捡。大象伯伯只好用长鼻子把香蕉皮卷起来，扔入垃圾桶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3526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朋友你觉得写得怎么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4267080" cy="273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8080" y="99072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给图配上语言、动作和表情就很生动啦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08-10T02:22:0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