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E62-1714-4809-A5FD-E846B596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579-2930-4023-97B6-43EE4B7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193-18DC-4108-A33A-7606C2FF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8DA-A9C1-4FFF-BB12-9697599A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EE4-64BF-40CE-9C8C-01CEB285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CEBA-27F9-4F6D-9A91-DBDBB332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2FD2-8BC9-42AD-ACA4-0102273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F0A-7FEB-495B-A7CD-0B75EB3D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15FB-B89B-49F0-AC84-11D8E4E9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AA5-E78D-41A1-A0FF-851E471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1613-D82D-4825-977B-A01859E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9D0-B11F-4CA0-989E-3B3F68EB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2D2-80B0-4967-8731-5C49D84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FC4-5EFB-43FF-8A27-2182114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F47-BD8B-4E85-9F61-52E7CACB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388-3BE3-4544-891A-020A3518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C76-9EEA-4E40-AFD5-1A81BFDE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DF87-BBCF-4A44-B13F-A1A4B031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81B2-8BF4-4DD6-BD44-5BE920F4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8DB2-1161-4CF0-B2BE-9CEE298A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DCF6-4D9F-4AE5-8A45-C9B3D81D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B655-D0AD-4E46-9411-C049075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161-9882-4906-8823-D4FF8F0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DA88-6103-4A75-87D4-9F38CC3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1910-7EEB-4C46-BDA7-D1E38D5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17FA-E21A-4DFE-BF83-F64E7EA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A7DB-6C8A-4F1C-A6C0-EC02C9A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9ABC-33E4-4D2E-914D-EB3C442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7249-C13C-40E3-9A57-9CAF5E8F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6611-AA03-41F2-B27C-D5D300D9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49C4-35A6-4B3C-A60E-BDF28EEC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459A-9630-4586-9D45-386CAEC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E247-6A70-405B-BE64-2D4E80C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68D-D04D-4078-A2BB-1D975FA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2CB6-2FED-45B3-BAF6-8F61099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169F-B4B4-4BC4-A7DA-3E009DB6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5CFD-8205-4DAE-8E45-14A6B99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DA01-AF63-4491-9264-C198105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1794-79FF-440E-891E-C55D35F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4EB0-311A-4B04-A357-D8EA1214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A5F0-BFE0-499A-BEC7-4EC779A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FA37-4A65-4CAB-81D3-20110F69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9544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6232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856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9544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6232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9863-31A5-4316-9B77-2442B3F9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02201-6F1E-4221-A525-19A4D16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E76-8FD5-4C68-A881-473D5FC4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DF8C-EC71-4AEB-952F-4E00746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85E1-3499-4F1D-AAC6-A8477924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69D1-5980-41B5-BDAF-ED424FC8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6E6F-855F-43CC-A281-D2962CC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BCC8-CE81-4ED5-A92E-1FA7D8F3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4739-B0AB-43FF-BB50-05B4BA5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3A53-8349-467D-ABD1-4390E6F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6EEC-14B6-411A-A556-D48CEC2A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84CD-5590-4D66-8315-4ED2E48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B6DA-6819-4AB9-B030-CBB9C57B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33E-2B97-4ABE-BC95-75ED596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44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62320" y="129204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856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44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62320" y="3900960"/>
            <a:ext cx="253944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F173-E8AD-4452-B71C-CC53A4E2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0E4-D942-4450-BEFE-BB02C79D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096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117-8EEA-4DEC-A0A8-3E233FE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292040"/>
            <a:ext cx="38487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00960"/>
            <a:ext cx="788688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EED-4E8B-44D5-AF6E-C7C13C45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5ba9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5ba968"/>
              </a:buClr>
              <a:buSzPct val="85000"/>
              <a:buFont typeface="Wingdings" charset="2"/>
              <a:buChar char="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2" marL="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3" marL="1028880" indent="-34308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4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5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6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682-E702-46EB-B190-417A31AE66E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2A1-5F8C-44FB-9CE2-C609524D51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8945640" y="298440"/>
            <a:ext cx="198360" cy="1314360"/>
          </a:xfrm>
          <a:prstGeom prst="rect">
            <a:avLst/>
          </a:pr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5ba9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5ba968"/>
              </a:buClr>
              <a:buSzPct val="85000"/>
              <a:buFont typeface="Wingdings" charset="2"/>
              <a:buChar char="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2" marL="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3" marL="1028880" indent="-34308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4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5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6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E64-C175-44C5-A0A4-12DC95D90DA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8A8F-2CD4-41A2-9917-31E2B54B20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15"/>
          <p:cNvSpPr/>
          <p:nvPr/>
        </p:nvSpPr>
        <p:spPr>
          <a:xfrm>
            <a:off x="3521160" y="2095560"/>
            <a:ext cx="5280120" cy="0"/>
          </a:xfrm>
          <a:prstGeom prst="line">
            <a:avLst/>
          </a:prstGeom>
          <a:ln w="6480">
            <a:solidFill>
              <a:srgbClr val="5ba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84" name="KSO_Shape"/>
          <p:cNvSpPr/>
          <p:nvPr/>
        </p:nvSpPr>
        <p:spPr>
          <a:xfrm>
            <a:off x="2222640" y="1459080"/>
            <a:ext cx="753840" cy="753840"/>
          </a:xfrm>
          <a:custGeom>
            <a:avLst/>
            <a:gdLst/>
            <a:ahLst/>
            <a:rect l="l" t="t" r="r" b="b"/>
            <a:pathLst>
              <a:path w="3526872" h="3526871">
                <a:moveTo>
                  <a:pt x="1710861" y="0"/>
                </a:moveTo>
                <a:lnTo>
                  <a:pt x="1768439" y="1648835"/>
                </a:lnTo>
                <a:lnTo>
                  <a:pt x="1969505" y="11293"/>
                </a:lnTo>
                <a:lnTo>
                  <a:pt x="1987371" y="13486"/>
                </a:lnTo>
                <a:lnTo>
                  <a:pt x="1786306" y="1651027"/>
                </a:lnTo>
                <a:lnTo>
                  <a:pt x="2241063" y="65100"/>
                </a:lnTo>
                <a:lnTo>
                  <a:pt x="2258366" y="70062"/>
                </a:lnTo>
                <a:lnTo>
                  <a:pt x="1803609" y="1655989"/>
                </a:lnTo>
                <a:lnTo>
                  <a:pt x="2500861" y="160728"/>
                </a:lnTo>
                <a:lnTo>
                  <a:pt x="2517174" y="168335"/>
                </a:lnTo>
                <a:lnTo>
                  <a:pt x="1819921" y="1663598"/>
                </a:lnTo>
                <a:lnTo>
                  <a:pt x="2742501" y="295818"/>
                </a:lnTo>
                <a:lnTo>
                  <a:pt x="2757424" y="305883"/>
                </a:lnTo>
                <a:lnTo>
                  <a:pt x="1834846" y="1673661"/>
                </a:lnTo>
                <a:lnTo>
                  <a:pt x="2960032" y="467046"/>
                </a:lnTo>
                <a:lnTo>
                  <a:pt x="2973198" y="479322"/>
                </a:lnTo>
                <a:lnTo>
                  <a:pt x="1848009" y="1685939"/>
                </a:lnTo>
                <a:lnTo>
                  <a:pt x="3148101" y="670196"/>
                </a:lnTo>
                <a:lnTo>
                  <a:pt x="3159183" y="684380"/>
                </a:lnTo>
                <a:lnTo>
                  <a:pt x="1859092" y="1700122"/>
                </a:lnTo>
                <a:lnTo>
                  <a:pt x="3302074" y="900264"/>
                </a:lnTo>
                <a:lnTo>
                  <a:pt x="3310800" y="916008"/>
                </a:lnTo>
                <a:lnTo>
                  <a:pt x="1867819" y="1715865"/>
                </a:lnTo>
                <a:lnTo>
                  <a:pt x="3418160" y="1151588"/>
                </a:lnTo>
                <a:lnTo>
                  <a:pt x="3424317" y="1168502"/>
                </a:lnTo>
                <a:lnTo>
                  <a:pt x="1873975" y="1732780"/>
                </a:lnTo>
                <a:lnTo>
                  <a:pt x="3493502" y="1417976"/>
                </a:lnTo>
                <a:lnTo>
                  <a:pt x="3496936" y="1435645"/>
                </a:lnTo>
                <a:lnTo>
                  <a:pt x="1877408" y="1750450"/>
                </a:lnTo>
                <a:lnTo>
                  <a:pt x="3526244" y="1692871"/>
                </a:lnTo>
                <a:lnTo>
                  <a:pt x="3526872" y="1710860"/>
                </a:lnTo>
                <a:lnTo>
                  <a:pt x="1878038" y="1768439"/>
                </a:lnTo>
                <a:lnTo>
                  <a:pt x="3515580" y="1969503"/>
                </a:lnTo>
                <a:lnTo>
                  <a:pt x="3513385" y="1987369"/>
                </a:lnTo>
                <a:lnTo>
                  <a:pt x="1875843" y="1786305"/>
                </a:lnTo>
                <a:lnTo>
                  <a:pt x="3461771" y="2241062"/>
                </a:lnTo>
                <a:lnTo>
                  <a:pt x="3456810" y="2258365"/>
                </a:lnTo>
                <a:lnTo>
                  <a:pt x="1870880" y="1803607"/>
                </a:lnTo>
                <a:lnTo>
                  <a:pt x="3366145" y="2500860"/>
                </a:lnTo>
                <a:lnTo>
                  <a:pt x="3358538" y="2517173"/>
                </a:lnTo>
                <a:lnTo>
                  <a:pt x="1863275" y="1819921"/>
                </a:lnTo>
                <a:lnTo>
                  <a:pt x="3231054" y="2742500"/>
                </a:lnTo>
                <a:lnTo>
                  <a:pt x="3220988" y="2757423"/>
                </a:lnTo>
                <a:lnTo>
                  <a:pt x="1853211" y="1834845"/>
                </a:lnTo>
                <a:lnTo>
                  <a:pt x="3059826" y="2960032"/>
                </a:lnTo>
                <a:lnTo>
                  <a:pt x="3047549" y="2973197"/>
                </a:lnTo>
                <a:lnTo>
                  <a:pt x="1840934" y="1848009"/>
                </a:lnTo>
                <a:lnTo>
                  <a:pt x="2856676" y="3148100"/>
                </a:lnTo>
                <a:lnTo>
                  <a:pt x="2842491" y="3159182"/>
                </a:lnTo>
                <a:lnTo>
                  <a:pt x="1826748" y="1859090"/>
                </a:lnTo>
                <a:lnTo>
                  <a:pt x="2626607" y="3302073"/>
                </a:lnTo>
                <a:lnTo>
                  <a:pt x="2610864" y="3310799"/>
                </a:lnTo>
                <a:lnTo>
                  <a:pt x="1811005" y="1867817"/>
                </a:lnTo>
                <a:lnTo>
                  <a:pt x="2375284" y="3418159"/>
                </a:lnTo>
                <a:lnTo>
                  <a:pt x="2358370" y="3424316"/>
                </a:lnTo>
                <a:lnTo>
                  <a:pt x="1794091" y="1873972"/>
                </a:lnTo>
                <a:lnTo>
                  <a:pt x="2108895" y="3493501"/>
                </a:lnTo>
                <a:lnTo>
                  <a:pt x="2091226" y="3496935"/>
                </a:lnTo>
                <a:lnTo>
                  <a:pt x="1776422" y="1877407"/>
                </a:lnTo>
                <a:lnTo>
                  <a:pt x="1834000" y="3526243"/>
                </a:lnTo>
                <a:lnTo>
                  <a:pt x="1816012" y="3526871"/>
                </a:lnTo>
                <a:lnTo>
                  <a:pt x="1758432" y="1878036"/>
                </a:lnTo>
                <a:lnTo>
                  <a:pt x="1557368" y="3515579"/>
                </a:lnTo>
                <a:lnTo>
                  <a:pt x="1539502" y="3513384"/>
                </a:lnTo>
                <a:lnTo>
                  <a:pt x="1740567" y="1875842"/>
                </a:lnTo>
                <a:lnTo>
                  <a:pt x="1285809" y="3461770"/>
                </a:lnTo>
                <a:lnTo>
                  <a:pt x="1268506" y="3456808"/>
                </a:lnTo>
                <a:lnTo>
                  <a:pt x="1723263" y="1870884"/>
                </a:lnTo>
                <a:lnTo>
                  <a:pt x="1026011" y="3366144"/>
                </a:lnTo>
                <a:lnTo>
                  <a:pt x="1009697" y="3358537"/>
                </a:lnTo>
                <a:lnTo>
                  <a:pt x="1706950" y="1863273"/>
                </a:lnTo>
                <a:lnTo>
                  <a:pt x="784371" y="3231053"/>
                </a:lnTo>
                <a:lnTo>
                  <a:pt x="769448" y="3220987"/>
                </a:lnTo>
                <a:lnTo>
                  <a:pt x="1692027" y="1853209"/>
                </a:lnTo>
                <a:lnTo>
                  <a:pt x="566840" y="3059825"/>
                </a:lnTo>
                <a:lnTo>
                  <a:pt x="553675" y="3047549"/>
                </a:lnTo>
                <a:lnTo>
                  <a:pt x="1678863" y="1840932"/>
                </a:lnTo>
                <a:lnTo>
                  <a:pt x="378771" y="2856675"/>
                </a:lnTo>
                <a:lnTo>
                  <a:pt x="367689" y="2842490"/>
                </a:lnTo>
                <a:lnTo>
                  <a:pt x="1667780" y="1826750"/>
                </a:lnTo>
                <a:lnTo>
                  <a:pt x="224798" y="2626606"/>
                </a:lnTo>
                <a:lnTo>
                  <a:pt x="216072" y="2610863"/>
                </a:lnTo>
                <a:lnTo>
                  <a:pt x="1659054" y="1811004"/>
                </a:lnTo>
                <a:lnTo>
                  <a:pt x="108712" y="2375284"/>
                </a:lnTo>
                <a:lnTo>
                  <a:pt x="102555" y="2358369"/>
                </a:lnTo>
                <a:lnTo>
                  <a:pt x="1652899" y="1794090"/>
                </a:lnTo>
                <a:lnTo>
                  <a:pt x="33370" y="2108894"/>
                </a:lnTo>
                <a:lnTo>
                  <a:pt x="29936" y="2091225"/>
                </a:lnTo>
                <a:lnTo>
                  <a:pt x="1649464" y="1776421"/>
                </a:lnTo>
                <a:lnTo>
                  <a:pt x="628" y="1833999"/>
                </a:lnTo>
                <a:lnTo>
                  <a:pt x="0" y="1816010"/>
                </a:lnTo>
                <a:lnTo>
                  <a:pt x="1648834" y="1758431"/>
                </a:lnTo>
                <a:lnTo>
                  <a:pt x="11293" y="1557367"/>
                </a:lnTo>
                <a:lnTo>
                  <a:pt x="13487" y="1539501"/>
                </a:lnTo>
                <a:lnTo>
                  <a:pt x="1651029" y="1740565"/>
                </a:lnTo>
                <a:lnTo>
                  <a:pt x="65101" y="1285808"/>
                </a:lnTo>
                <a:lnTo>
                  <a:pt x="70063" y="1268506"/>
                </a:lnTo>
                <a:lnTo>
                  <a:pt x="1655991" y="1723263"/>
                </a:lnTo>
                <a:lnTo>
                  <a:pt x="160727" y="1026011"/>
                </a:lnTo>
                <a:lnTo>
                  <a:pt x="168334" y="1009698"/>
                </a:lnTo>
                <a:lnTo>
                  <a:pt x="1663598" y="1706949"/>
                </a:lnTo>
                <a:lnTo>
                  <a:pt x="295818" y="784371"/>
                </a:lnTo>
                <a:lnTo>
                  <a:pt x="305884" y="769448"/>
                </a:lnTo>
                <a:lnTo>
                  <a:pt x="1673663" y="1692027"/>
                </a:lnTo>
                <a:lnTo>
                  <a:pt x="467046" y="566839"/>
                </a:lnTo>
                <a:lnTo>
                  <a:pt x="479323" y="553674"/>
                </a:lnTo>
                <a:lnTo>
                  <a:pt x="1685939" y="1678861"/>
                </a:lnTo>
                <a:lnTo>
                  <a:pt x="670196" y="378771"/>
                </a:lnTo>
                <a:lnTo>
                  <a:pt x="684381" y="367689"/>
                </a:lnTo>
                <a:lnTo>
                  <a:pt x="1700124" y="1667780"/>
                </a:lnTo>
                <a:lnTo>
                  <a:pt x="900265" y="224798"/>
                </a:lnTo>
                <a:lnTo>
                  <a:pt x="916008" y="216071"/>
                </a:lnTo>
                <a:lnTo>
                  <a:pt x="1715866" y="1659053"/>
                </a:lnTo>
                <a:lnTo>
                  <a:pt x="1151588" y="108711"/>
                </a:lnTo>
                <a:lnTo>
                  <a:pt x="1168502" y="102555"/>
                </a:lnTo>
                <a:lnTo>
                  <a:pt x="1732782" y="1652898"/>
                </a:lnTo>
                <a:lnTo>
                  <a:pt x="1417977" y="33370"/>
                </a:lnTo>
                <a:lnTo>
                  <a:pt x="1435646" y="29935"/>
                </a:lnTo>
                <a:lnTo>
                  <a:pt x="1750451" y="1649459"/>
                </a:lnTo>
                <a:lnTo>
                  <a:pt x="1692872" y="628"/>
                </a:lnTo>
                <a:close/>
              </a:path>
            </a:pathLst>
          </a:cu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85" name="KSO_Shape"/>
          <p:cNvSpPr/>
          <p:nvPr/>
        </p:nvSpPr>
        <p:spPr>
          <a:xfrm>
            <a:off x="336600" y="439560"/>
            <a:ext cx="1189080" cy="1189080"/>
          </a:xfrm>
          <a:custGeom>
            <a:avLst/>
            <a:gdLst/>
            <a:ahLst/>
            <a:rect l="l" t="t" r="r" b="b"/>
            <a:pathLst>
              <a:path w="3526872" h="3526871">
                <a:moveTo>
                  <a:pt x="1710861" y="0"/>
                </a:moveTo>
                <a:lnTo>
                  <a:pt x="1768439" y="1648835"/>
                </a:lnTo>
                <a:lnTo>
                  <a:pt x="1969505" y="11293"/>
                </a:lnTo>
                <a:lnTo>
                  <a:pt x="1987371" y="13486"/>
                </a:lnTo>
                <a:lnTo>
                  <a:pt x="1786306" y="1651027"/>
                </a:lnTo>
                <a:lnTo>
                  <a:pt x="2241063" y="65100"/>
                </a:lnTo>
                <a:lnTo>
                  <a:pt x="2258366" y="70062"/>
                </a:lnTo>
                <a:lnTo>
                  <a:pt x="1803609" y="1655989"/>
                </a:lnTo>
                <a:lnTo>
                  <a:pt x="2500861" y="160728"/>
                </a:lnTo>
                <a:lnTo>
                  <a:pt x="2517174" y="168335"/>
                </a:lnTo>
                <a:lnTo>
                  <a:pt x="1819921" y="1663598"/>
                </a:lnTo>
                <a:lnTo>
                  <a:pt x="2742501" y="295818"/>
                </a:lnTo>
                <a:lnTo>
                  <a:pt x="2757424" y="305883"/>
                </a:lnTo>
                <a:lnTo>
                  <a:pt x="1834846" y="1673661"/>
                </a:lnTo>
                <a:lnTo>
                  <a:pt x="2960032" y="467046"/>
                </a:lnTo>
                <a:lnTo>
                  <a:pt x="2973198" y="479322"/>
                </a:lnTo>
                <a:lnTo>
                  <a:pt x="1848009" y="1685939"/>
                </a:lnTo>
                <a:lnTo>
                  <a:pt x="3148101" y="670196"/>
                </a:lnTo>
                <a:lnTo>
                  <a:pt x="3159183" y="684380"/>
                </a:lnTo>
                <a:lnTo>
                  <a:pt x="1859092" y="1700122"/>
                </a:lnTo>
                <a:lnTo>
                  <a:pt x="3302074" y="900264"/>
                </a:lnTo>
                <a:lnTo>
                  <a:pt x="3310800" y="916008"/>
                </a:lnTo>
                <a:lnTo>
                  <a:pt x="1867819" y="1715865"/>
                </a:lnTo>
                <a:lnTo>
                  <a:pt x="3418160" y="1151588"/>
                </a:lnTo>
                <a:lnTo>
                  <a:pt x="3424317" y="1168502"/>
                </a:lnTo>
                <a:lnTo>
                  <a:pt x="1873975" y="1732780"/>
                </a:lnTo>
                <a:lnTo>
                  <a:pt x="3493502" y="1417976"/>
                </a:lnTo>
                <a:lnTo>
                  <a:pt x="3496936" y="1435645"/>
                </a:lnTo>
                <a:lnTo>
                  <a:pt x="1877408" y="1750450"/>
                </a:lnTo>
                <a:lnTo>
                  <a:pt x="3526244" y="1692871"/>
                </a:lnTo>
                <a:lnTo>
                  <a:pt x="3526872" y="1710860"/>
                </a:lnTo>
                <a:lnTo>
                  <a:pt x="1878038" y="1768439"/>
                </a:lnTo>
                <a:lnTo>
                  <a:pt x="3515580" y="1969503"/>
                </a:lnTo>
                <a:lnTo>
                  <a:pt x="3513385" y="1987369"/>
                </a:lnTo>
                <a:lnTo>
                  <a:pt x="1875843" y="1786305"/>
                </a:lnTo>
                <a:lnTo>
                  <a:pt x="3461771" y="2241062"/>
                </a:lnTo>
                <a:lnTo>
                  <a:pt x="3456810" y="2258365"/>
                </a:lnTo>
                <a:lnTo>
                  <a:pt x="1870880" y="1803607"/>
                </a:lnTo>
                <a:lnTo>
                  <a:pt x="3366145" y="2500860"/>
                </a:lnTo>
                <a:lnTo>
                  <a:pt x="3358538" y="2517173"/>
                </a:lnTo>
                <a:lnTo>
                  <a:pt x="1863275" y="1819921"/>
                </a:lnTo>
                <a:lnTo>
                  <a:pt x="3231054" y="2742500"/>
                </a:lnTo>
                <a:lnTo>
                  <a:pt x="3220988" y="2757423"/>
                </a:lnTo>
                <a:lnTo>
                  <a:pt x="1853211" y="1834845"/>
                </a:lnTo>
                <a:lnTo>
                  <a:pt x="3059826" y="2960032"/>
                </a:lnTo>
                <a:lnTo>
                  <a:pt x="3047549" y="2973197"/>
                </a:lnTo>
                <a:lnTo>
                  <a:pt x="1840934" y="1848009"/>
                </a:lnTo>
                <a:lnTo>
                  <a:pt x="2856676" y="3148100"/>
                </a:lnTo>
                <a:lnTo>
                  <a:pt x="2842491" y="3159182"/>
                </a:lnTo>
                <a:lnTo>
                  <a:pt x="1826748" y="1859090"/>
                </a:lnTo>
                <a:lnTo>
                  <a:pt x="2626607" y="3302073"/>
                </a:lnTo>
                <a:lnTo>
                  <a:pt x="2610864" y="3310799"/>
                </a:lnTo>
                <a:lnTo>
                  <a:pt x="1811005" y="1867817"/>
                </a:lnTo>
                <a:lnTo>
                  <a:pt x="2375284" y="3418159"/>
                </a:lnTo>
                <a:lnTo>
                  <a:pt x="2358370" y="3424316"/>
                </a:lnTo>
                <a:lnTo>
                  <a:pt x="1794091" y="1873972"/>
                </a:lnTo>
                <a:lnTo>
                  <a:pt x="2108895" y="3493501"/>
                </a:lnTo>
                <a:lnTo>
                  <a:pt x="2091226" y="3496935"/>
                </a:lnTo>
                <a:lnTo>
                  <a:pt x="1776422" y="1877407"/>
                </a:lnTo>
                <a:lnTo>
                  <a:pt x="1834000" y="3526243"/>
                </a:lnTo>
                <a:lnTo>
                  <a:pt x="1816012" y="3526871"/>
                </a:lnTo>
                <a:lnTo>
                  <a:pt x="1758432" y="1878036"/>
                </a:lnTo>
                <a:lnTo>
                  <a:pt x="1557368" y="3515579"/>
                </a:lnTo>
                <a:lnTo>
                  <a:pt x="1539502" y="3513384"/>
                </a:lnTo>
                <a:lnTo>
                  <a:pt x="1740567" y="1875842"/>
                </a:lnTo>
                <a:lnTo>
                  <a:pt x="1285809" y="3461770"/>
                </a:lnTo>
                <a:lnTo>
                  <a:pt x="1268506" y="3456808"/>
                </a:lnTo>
                <a:lnTo>
                  <a:pt x="1723263" y="1870884"/>
                </a:lnTo>
                <a:lnTo>
                  <a:pt x="1026011" y="3366144"/>
                </a:lnTo>
                <a:lnTo>
                  <a:pt x="1009697" y="3358537"/>
                </a:lnTo>
                <a:lnTo>
                  <a:pt x="1706950" y="1863273"/>
                </a:lnTo>
                <a:lnTo>
                  <a:pt x="784371" y="3231053"/>
                </a:lnTo>
                <a:lnTo>
                  <a:pt x="769448" y="3220987"/>
                </a:lnTo>
                <a:lnTo>
                  <a:pt x="1692027" y="1853209"/>
                </a:lnTo>
                <a:lnTo>
                  <a:pt x="566840" y="3059825"/>
                </a:lnTo>
                <a:lnTo>
                  <a:pt x="553675" y="3047549"/>
                </a:lnTo>
                <a:lnTo>
                  <a:pt x="1678863" y="1840932"/>
                </a:lnTo>
                <a:lnTo>
                  <a:pt x="378771" y="2856675"/>
                </a:lnTo>
                <a:lnTo>
                  <a:pt x="367689" y="2842490"/>
                </a:lnTo>
                <a:lnTo>
                  <a:pt x="1667780" y="1826750"/>
                </a:lnTo>
                <a:lnTo>
                  <a:pt x="224798" y="2626606"/>
                </a:lnTo>
                <a:lnTo>
                  <a:pt x="216072" y="2610863"/>
                </a:lnTo>
                <a:lnTo>
                  <a:pt x="1659054" y="1811004"/>
                </a:lnTo>
                <a:lnTo>
                  <a:pt x="108712" y="2375284"/>
                </a:lnTo>
                <a:lnTo>
                  <a:pt x="102555" y="2358369"/>
                </a:lnTo>
                <a:lnTo>
                  <a:pt x="1652899" y="1794090"/>
                </a:lnTo>
                <a:lnTo>
                  <a:pt x="33370" y="2108894"/>
                </a:lnTo>
                <a:lnTo>
                  <a:pt x="29936" y="2091225"/>
                </a:lnTo>
                <a:lnTo>
                  <a:pt x="1649464" y="1776421"/>
                </a:lnTo>
                <a:lnTo>
                  <a:pt x="628" y="1833999"/>
                </a:lnTo>
                <a:lnTo>
                  <a:pt x="0" y="1816010"/>
                </a:lnTo>
                <a:lnTo>
                  <a:pt x="1648834" y="1758431"/>
                </a:lnTo>
                <a:lnTo>
                  <a:pt x="11293" y="1557367"/>
                </a:lnTo>
                <a:lnTo>
                  <a:pt x="13487" y="1539501"/>
                </a:lnTo>
                <a:lnTo>
                  <a:pt x="1651029" y="1740565"/>
                </a:lnTo>
                <a:lnTo>
                  <a:pt x="65101" y="1285808"/>
                </a:lnTo>
                <a:lnTo>
                  <a:pt x="70063" y="1268506"/>
                </a:lnTo>
                <a:lnTo>
                  <a:pt x="1655991" y="1723263"/>
                </a:lnTo>
                <a:lnTo>
                  <a:pt x="160727" y="1026011"/>
                </a:lnTo>
                <a:lnTo>
                  <a:pt x="168334" y="1009698"/>
                </a:lnTo>
                <a:lnTo>
                  <a:pt x="1663598" y="1706949"/>
                </a:lnTo>
                <a:lnTo>
                  <a:pt x="295818" y="784371"/>
                </a:lnTo>
                <a:lnTo>
                  <a:pt x="305884" y="769448"/>
                </a:lnTo>
                <a:lnTo>
                  <a:pt x="1673663" y="1692027"/>
                </a:lnTo>
                <a:lnTo>
                  <a:pt x="467046" y="566839"/>
                </a:lnTo>
                <a:lnTo>
                  <a:pt x="479323" y="553674"/>
                </a:lnTo>
                <a:lnTo>
                  <a:pt x="1685939" y="1678861"/>
                </a:lnTo>
                <a:lnTo>
                  <a:pt x="670196" y="378771"/>
                </a:lnTo>
                <a:lnTo>
                  <a:pt x="684381" y="367689"/>
                </a:lnTo>
                <a:lnTo>
                  <a:pt x="1700124" y="1667780"/>
                </a:lnTo>
                <a:lnTo>
                  <a:pt x="900265" y="224798"/>
                </a:lnTo>
                <a:lnTo>
                  <a:pt x="916008" y="216071"/>
                </a:lnTo>
                <a:lnTo>
                  <a:pt x="1715866" y="1659053"/>
                </a:lnTo>
                <a:lnTo>
                  <a:pt x="1151588" y="108711"/>
                </a:lnTo>
                <a:lnTo>
                  <a:pt x="1168502" y="102555"/>
                </a:lnTo>
                <a:lnTo>
                  <a:pt x="1732782" y="1652898"/>
                </a:lnTo>
                <a:lnTo>
                  <a:pt x="1417977" y="33370"/>
                </a:lnTo>
                <a:lnTo>
                  <a:pt x="1435646" y="29935"/>
                </a:lnTo>
                <a:lnTo>
                  <a:pt x="1750451" y="1649459"/>
                </a:lnTo>
                <a:lnTo>
                  <a:pt x="1692872" y="628"/>
                </a:lnTo>
                <a:close/>
              </a:path>
            </a:pathLst>
          </a:cu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86" name="KSO_Shape"/>
          <p:cNvSpPr/>
          <p:nvPr/>
        </p:nvSpPr>
        <p:spPr>
          <a:xfrm>
            <a:off x="1249200" y="2052720"/>
            <a:ext cx="552600" cy="552240"/>
          </a:xfrm>
          <a:custGeom>
            <a:avLst/>
            <a:gdLst/>
            <a:ahLst/>
            <a:rect l="l" t="t" r="r" b="b"/>
            <a:pathLst>
              <a:path w="3526872" h="3526871">
                <a:moveTo>
                  <a:pt x="1710861" y="0"/>
                </a:moveTo>
                <a:lnTo>
                  <a:pt x="1768439" y="1648835"/>
                </a:lnTo>
                <a:lnTo>
                  <a:pt x="1969505" y="11293"/>
                </a:lnTo>
                <a:lnTo>
                  <a:pt x="1987371" y="13486"/>
                </a:lnTo>
                <a:lnTo>
                  <a:pt x="1786306" y="1651027"/>
                </a:lnTo>
                <a:lnTo>
                  <a:pt x="2241063" y="65100"/>
                </a:lnTo>
                <a:lnTo>
                  <a:pt x="2258366" y="70062"/>
                </a:lnTo>
                <a:lnTo>
                  <a:pt x="1803609" y="1655989"/>
                </a:lnTo>
                <a:lnTo>
                  <a:pt x="2500861" y="160728"/>
                </a:lnTo>
                <a:lnTo>
                  <a:pt x="2517174" y="168335"/>
                </a:lnTo>
                <a:lnTo>
                  <a:pt x="1819921" y="1663598"/>
                </a:lnTo>
                <a:lnTo>
                  <a:pt x="2742501" y="295818"/>
                </a:lnTo>
                <a:lnTo>
                  <a:pt x="2757424" y="305883"/>
                </a:lnTo>
                <a:lnTo>
                  <a:pt x="1834846" y="1673661"/>
                </a:lnTo>
                <a:lnTo>
                  <a:pt x="2960032" y="467046"/>
                </a:lnTo>
                <a:lnTo>
                  <a:pt x="2973198" y="479322"/>
                </a:lnTo>
                <a:lnTo>
                  <a:pt x="1848009" y="1685939"/>
                </a:lnTo>
                <a:lnTo>
                  <a:pt x="3148101" y="670196"/>
                </a:lnTo>
                <a:lnTo>
                  <a:pt x="3159183" y="684380"/>
                </a:lnTo>
                <a:lnTo>
                  <a:pt x="1859092" y="1700122"/>
                </a:lnTo>
                <a:lnTo>
                  <a:pt x="3302074" y="900264"/>
                </a:lnTo>
                <a:lnTo>
                  <a:pt x="3310800" y="916008"/>
                </a:lnTo>
                <a:lnTo>
                  <a:pt x="1867819" y="1715865"/>
                </a:lnTo>
                <a:lnTo>
                  <a:pt x="3418160" y="1151588"/>
                </a:lnTo>
                <a:lnTo>
                  <a:pt x="3424317" y="1168502"/>
                </a:lnTo>
                <a:lnTo>
                  <a:pt x="1873975" y="1732780"/>
                </a:lnTo>
                <a:lnTo>
                  <a:pt x="3493502" y="1417976"/>
                </a:lnTo>
                <a:lnTo>
                  <a:pt x="3496936" y="1435645"/>
                </a:lnTo>
                <a:lnTo>
                  <a:pt x="1877408" y="1750450"/>
                </a:lnTo>
                <a:lnTo>
                  <a:pt x="3526244" y="1692871"/>
                </a:lnTo>
                <a:lnTo>
                  <a:pt x="3526872" y="1710860"/>
                </a:lnTo>
                <a:lnTo>
                  <a:pt x="1878038" y="1768439"/>
                </a:lnTo>
                <a:lnTo>
                  <a:pt x="3515580" y="1969503"/>
                </a:lnTo>
                <a:lnTo>
                  <a:pt x="3513385" y="1987369"/>
                </a:lnTo>
                <a:lnTo>
                  <a:pt x="1875843" y="1786305"/>
                </a:lnTo>
                <a:lnTo>
                  <a:pt x="3461771" y="2241062"/>
                </a:lnTo>
                <a:lnTo>
                  <a:pt x="3456810" y="2258365"/>
                </a:lnTo>
                <a:lnTo>
                  <a:pt x="1870880" y="1803607"/>
                </a:lnTo>
                <a:lnTo>
                  <a:pt x="3366145" y="2500860"/>
                </a:lnTo>
                <a:lnTo>
                  <a:pt x="3358538" y="2517173"/>
                </a:lnTo>
                <a:lnTo>
                  <a:pt x="1863275" y="1819921"/>
                </a:lnTo>
                <a:lnTo>
                  <a:pt x="3231054" y="2742500"/>
                </a:lnTo>
                <a:lnTo>
                  <a:pt x="3220988" y="2757423"/>
                </a:lnTo>
                <a:lnTo>
                  <a:pt x="1853211" y="1834845"/>
                </a:lnTo>
                <a:lnTo>
                  <a:pt x="3059826" y="2960032"/>
                </a:lnTo>
                <a:lnTo>
                  <a:pt x="3047549" y="2973197"/>
                </a:lnTo>
                <a:lnTo>
                  <a:pt x="1840934" y="1848009"/>
                </a:lnTo>
                <a:lnTo>
                  <a:pt x="2856676" y="3148100"/>
                </a:lnTo>
                <a:lnTo>
                  <a:pt x="2842491" y="3159182"/>
                </a:lnTo>
                <a:lnTo>
                  <a:pt x="1826748" y="1859090"/>
                </a:lnTo>
                <a:lnTo>
                  <a:pt x="2626607" y="3302073"/>
                </a:lnTo>
                <a:lnTo>
                  <a:pt x="2610864" y="3310799"/>
                </a:lnTo>
                <a:lnTo>
                  <a:pt x="1811005" y="1867817"/>
                </a:lnTo>
                <a:lnTo>
                  <a:pt x="2375284" y="3418159"/>
                </a:lnTo>
                <a:lnTo>
                  <a:pt x="2358370" y="3424316"/>
                </a:lnTo>
                <a:lnTo>
                  <a:pt x="1794091" y="1873972"/>
                </a:lnTo>
                <a:lnTo>
                  <a:pt x="2108895" y="3493501"/>
                </a:lnTo>
                <a:lnTo>
                  <a:pt x="2091226" y="3496935"/>
                </a:lnTo>
                <a:lnTo>
                  <a:pt x="1776422" y="1877407"/>
                </a:lnTo>
                <a:lnTo>
                  <a:pt x="1834000" y="3526243"/>
                </a:lnTo>
                <a:lnTo>
                  <a:pt x="1816012" y="3526871"/>
                </a:lnTo>
                <a:lnTo>
                  <a:pt x="1758432" y="1878036"/>
                </a:lnTo>
                <a:lnTo>
                  <a:pt x="1557368" y="3515579"/>
                </a:lnTo>
                <a:lnTo>
                  <a:pt x="1539502" y="3513384"/>
                </a:lnTo>
                <a:lnTo>
                  <a:pt x="1740567" y="1875842"/>
                </a:lnTo>
                <a:lnTo>
                  <a:pt x="1285809" y="3461770"/>
                </a:lnTo>
                <a:lnTo>
                  <a:pt x="1268506" y="3456808"/>
                </a:lnTo>
                <a:lnTo>
                  <a:pt x="1723263" y="1870884"/>
                </a:lnTo>
                <a:lnTo>
                  <a:pt x="1026011" y="3366144"/>
                </a:lnTo>
                <a:lnTo>
                  <a:pt x="1009697" y="3358537"/>
                </a:lnTo>
                <a:lnTo>
                  <a:pt x="1706950" y="1863273"/>
                </a:lnTo>
                <a:lnTo>
                  <a:pt x="784371" y="3231053"/>
                </a:lnTo>
                <a:lnTo>
                  <a:pt x="769448" y="3220987"/>
                </a:lnTo>
                <a:lnTo>
                  <a:pt x="1692027" y="1853209"/>
                </a:lnTo>
                <a:lnTo>
                  <a:pt x="566840" y="3059825"/>
                </a:lnTo>
                <a:lnTo>
                  <a:pt x="553675" y="3047549"/>
                </a:lnTo>
                <a:lnTo>
                  <a:pt x="1678863" y="1840932"/>
                </a:lnTo>
                <a:lnTo>
                  <a:pt x="378771" y="2856675"/>
                </a:lnTo>
                <a:lnTo>
                  <a:pt x="367689" y="2842490"/>
                </a:lnTo>
                <a:lnTo>
                  <a:pt x="1667780" y="1826750"/>
                </a:lnTo>
                <a:lnTo>
                  <a:pt x="224798" y="2626606"/>
                </a:lnTo>
                <a:lnTo>
                  <a:pt x="216072" y="2610863"/>
                </a:lnTo>
                <a:lnTo>
                  <a:pt x="1659054" y="1811004"/>
                </a:lnTo>
                <a:lnTo>
                  <a:pt x="108712" y="2375284"/>
                </a:lnTo>
                <a:lnTo>
                  <a:pt x="102555" y="2358369"/>
                </a:lnTo>
                <a:lnTo>
                  <a:pt x="1652899" y="1794090"/>
                </a:lnTo>
                <a:lnTo>
                  <a:pt x="33370" y="2108894"/>
                </a:lnTo>
                <a:lnTo>
                  <a:pt x="29936" y="2091225"/>
                </a:lnTo>
                <a:lnTo>
                  <a:pt x="1649464" y="1776421"/>
                </a:lnTo>
                <a:lnTo>
                  <a:pt x="628" y="1833999"/>
                </a:lnTo>
                <a:lnTo>
                  <a:pt x="0" y="1816010"/>
                </a:lnTo>
                <a:lnTo>
                  <a:pt x="1648834" y="1758431"/>
                </a:lnTo>
                <a:lnTo>
                  <a:pt x="11293" y="1557367"/>
                </a:lnTo>
                <a:lnTo>
                  <a:pt x="13487" y="1539501"/>
                </a:lnTo>
                <a:lnTo>
                  <a:pt x="1651029" y="1740565"/>
                </a:lnTo>
                <a:lnTo>
                  <a:pt x="65101" y="1285808"/>
                </a:lnTo>
                <a:lnTo>
                  <a:pt x="70063" y="1268506"/>
                </a:lnTo>
                <a:lnTo>
                  <a:pt x="1655991" y="1723263"/>
                </a:lnTo>
                <a:lnTo>
                  <a:pt x="160727" y="1026011"/>
                </a:lnTo>
                <a:lnTo>
                  <a:pt x="168334" y="1009698"/>
                </a:lnTo>
                <a:lnTo>
                  <a:pt x="1663598" y="1706949"/>
                </a:lnTo>
                <a:lnTo>
                  <a:pt x="295818" y="784371"/>
                </a:lnTo>
                <a:lnTo>
                  <a:pt x="305884" y="769448"/>
                </a:lnTo>
                <a:lnTo>
                  <a:pt x="1673663" y="1692027"/>
                </a:lnTo>
                <a:lnTo>
                  <a:pt x="467046" y="566839"/>
                </a:lnTo>
                <a:lnTo>
                  <a:pt x="479323" y="553674"/>
                </a:lnTo>
                <a:lnTo>
                  <a:pt x="1685939" y="1678861"/>
                </a:lnTo>
                <a:lnTo>
                  <a:pt x="670196" y="378771"/>
                </a:lnTo>
                <a:lnTo>
                  <a:pt x="684381" y="367689"/>
                </a:lnTo>
                <a:lnTo>
                  <a:pt x="1700124" y="1667780"/>
                </a:lnTo>
                <a:lnTo>
                  <a:pt x="900265" y="224798"/>
                </a:lnTo>
                <a:lnTo>
                  <a:pt x="916008" y="216071"/>
                </a:lnTo>
                <a:lnTo>
                  <a:pt x="1715866" y="1659053"/>
                </a:lnTo>
                <a:lnTo>
                  <a:pt x="1151588" y="108711"/>
                </a:lnTo>
                <a:lnTo>
                  <a:pt x="1168502" y="102555"/>
                </a:lnTo>
                <a:lnTo>
                  <a:pt x="1732782" y="1652898"/>
                </a:lnTo>
                <a:lnTo>
                  <a:pt x="1417977" y="33370"/>
                </a:lnTo>
                <a:lnTo>
                  <a:pt x="1435646" y="29935"/>
                </a:lnTo>
                <a:lnTo>
                  <a:pt x="1750451" y="1649459"/>
                </a:lnTo>
                <a:lnTo>
                  <a:pt x="1692872" y="628"/>
                </a:lnTo>
                <a:close/>
              </a:path>
            </a:pathLst>
          </a:cu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87" name="KSO_Shape"/>
          <p:cNvSpPr/>
          <p:nvPr/>
        </p:nvSpPr>
        <p:spPr>
          <a:xfrm>
            <a:off x="2222640" y="3300480"/>
            <a:ext cx="385560" cy="385560"/>
          </a:xfrm>
          <a:custGeom>
            <a:avLst/>
            <a:gdLst/>
            <a:ahLst/>
            <a:rect l="l" t="t" r="r" b="b"/>
            <a:pathLst>
              <a:path w="3526872" h="3526871">
                <a:moveTo>
                  <a:pt x="1710861" y="0"/>
                </a:moveTo>
                <a:lnTo>
                  <a:pt x="1768439" y="1648835"/>
                </a:lnTo>
                <a:lnTo>
                  <a:pt x="1969505" y="11293"/>
                </a:lnTo>
                <a:lnTo>
                  <a:pt x="1987371" y="13486"/>
                </a:lnTo>
                <a:lnTo>
                  <a:pt x="1786306" y="1651027"/>
                </a:lnTo>
                <a:lnTo>
                  <a:pt x="2241063" y="65100"/>
                </a:lnTo>
                <a:lnTo>
                  <a:pt x="2258366" y="70062"/>
                </a:lnTo>
                <a:lnTo>
                  <a:pt x="1803609" y="1655989"/>
                </a:lnTo>
                <a:lnTo>
                  <a:pt x="2500861" y="160728"/>
                </a:lnTo>
                <a:lnTo>
                  <a:pt x="2517174" y="168335"/>
                </a:lnTo>
                <a:lnTo>
                  <a:pt x="1819921" y="1663598"/>
                </a:lnTo>
                <a:lnTo>
                  <a:pt x="2742501" y="295818"/>
                </a:lnTo>
                <a:lnTo>
                  <a:pt x="2757424" y="305883"/>
                </a:lnTo>
                <a:lnTo>
                  <a:pt x="1834846" y="1673661"/>
                </a:lnTo>
                <a:lnTo>
                  <a:pt x="2960032" y="467046"/>
                </a:lnTo>
                <a:lnTo>
                  <a:pt x="2973198" y="479322"/>
                </a:lnTo>
                <a:lnTo>
                  <a:pt x="1848009" y="1685939"/>
                </a:lnTo>
                <a:lnTo>
                  <a:pt x="3148101" y="670196"/>
                </a:lnTo>
                <a:lnTo>
                  <a:pt x="3159183" y="684380"/>
                </a:lnTo>
                <a:lnTo>
                  <a:pt x="1859092" y="1700122"/>
                </a:lnTo>
                <a:lnTo>
                  <a:pt x="3302074" y="900264"/>
                </a:lnTo>
                <a:lnTo>
                  <a:pt x="3310800" y="916008"/>
                </a:lnTo>
                <a:lnTo>
                  <a:pt x="1867819" y="1715865"/>
                </a:lnTo>
                <a:lnTo>
                  <a:pt x="3418160" y="1151588"/>
                </a:lnTo>
                <a:lnTo>
                  <a:pt x="3424317" y="1168502"/>
                </a:lnTo>
                <a:lnTo>
                  <a:pt x="1873975" y="1732780"/>
                </a:lnTo>
                <a:lnTo>
                  <a:pt x="3493502" y="1417976"/>
                </a:lnTo>
                <a:lnTo>
                  <a:pt x="3496936" y="1435645"/>
                </a:lnTo>
                <a:lnTo>
                  <a:pt x="1877408" y="1750450"/>
                </a:lnTo>
                <a:lnTo>
                  <a:pt x="3526244" y="1692871"/>
                </a:lnTo>
                <a:lnTo>
                  <a:pt x="3526872" y="1710860"/>
                </a:lnTo>
                <a:lnTo>
                  <a:pt x="1878038" y="1768439"/>
                </a:lnTo>
                <a:lnTo>
                  <a:pt x="3515580" y="1969503"/>
                </a:lnTo>
                <a:lnTo>
                  <a:pt x="3513385" y="1987369"/>
                </a:lnTo>
                <a:lnTo>
                  <a:pt x="1875843" y="1786305"/>
                </a:lnTo>
                <a:lnTo>
                  <a:pt x="3461771" y="2241062"/>
                </a:lnTo>
                <a:lnTo>
                  <a:pt x="3456810" y="2258365"/>
                </a:lnTo>
                <a:lnTo>
                  <a:pt x="1870880" y="1803607"/>
                </a:lnTo>
                <a:lnTo>
                  <a:pt x="3366145" y="2500860"/>
                </a:lnTo>
                <a:lnTo>
                  <a:pt x="3358538" y="2517173"/>
                </a:lnTo>
                <a:lnTo>
                  <a:pt x="1863275" y="1819921"/>
                </a:lnTo>
                <a:lnTo>
                  <a:pt x="3231054" y="2742500"/>
                </a:lnTo>
                <a:lnTo>
                  <a:pt x="3220988" y="2757423"/>
                </a:lnTo>
                <a:lnTo>
                  <a:pt x="1853211" y="1834845"/>
                </a:lnTo>
                <a:lnTo>
                  <a:pt x="3059826" y="2960032"/>
                </a:lnTo>
                <a:lnTo>
                  <a:pt x="3047549" y="2973197"/>
                </a:lnTo>
                <a:lnTo>
                  <a:pt x="1840934" y="1848009"/>
                </a:lnTo>
                <a:lnTo>
                  <a:pt x="2856676" y="3148100"/>
                </a:lnTo>
                <a:lnTo>
                  <a:pt x="2842491" y="3159182"/>
                </a:lnTo>
                <a:lnTo>
                  <a:pt x="1826748" y="1859090"/>
                </a:lnTo>
                <a:lnTo>
                  <a:pt x="2626607" y="3302073"/>
                </a:lnTo>
                <a:lnTo>
                  <a:pt x="2610864" y="3310799"/>
                </a:lnTo>
                <a:lnTo>
                  <a:pt x="1811005" y="1867817"/>
                </a:lnTo>
                <a:lnTo>
                  <a:pt x="2375284" y="3418159"/>
                </a:lnTo>
                <a:lnTo>
                  <a:pt x="2358370" y="3424316"/>
                </a:lnTo>
                <a:lnTo>
                  <a:pt x="1794091" y="1873972"/>
                </a:lnTo>
                <a:lnTo>
                  <a:pt x="2108895" y="3493501"/>
                </a:lnTo>
                <a:lnTo>
                  <a:pt x="2091226" y="3496935"/>
                </a:lnTo>
                <a:lnTo>
                  <a:pt x="1776422" y="1877407"/>
                </a:lnTo>
                <a:lnTo>
                  <a:pt x="1834000" y="3526243"/>
                </a:lnTo>
                <a:lnTo>
                  <a:pt x="1816012" y="3526871"/>
                </a:lnTo>
                <a:lnTo>
                  <a:pt x="1758432" y="1878036"/>
                </a:lnTo>
                <a:lnTo>
                  <a:pt x="1557368" y="3515579"/>
                </a:lnTo>
                <a:lnTo>
                  <a:pt x="1539502" y="3513384"/>
                </a:lnTo>
                <a:lnTo>
                  <a:pt x="1740567" y="1875842"/>
                </a:lnTo>
                <a:lnTo>
                  <a:pt x="1285809" y="3461770"/>
                </a:lnTo>
                <a:lnTo>
                  <a:pt x="1268506" y="3456808"/>
                </a:lnTo>
                <a:lnTo>
                  <a:pt x="1723263" y="1870884"/>
                </a:lnTo>
                <a:lnTo>
                  <a:pt x="1026011" y="3366144"/>
                </a:lnTo>
                <a:lnTo>
                  <a:pt x="1009697" y="3358537"/>
                </a:lnTo>
                <a:lnTo>
                  <a:pt x="1706950" y="1863273"/>
                </a:lnTo>
                <a:lnTo>
                  <a:pt x="784371" y="3231053"/>
                </a:lnTo>
                <a:lnTo>
                  <a:pt x="769448" y="3220987"/>
                </a:lnTo>
                <a:lnTo>
                  <a:pt x="1692027" y="1853209"/>
                </a:lnTo>
                <a:lnTo>
                  <a:pt x="566840" y="3059825"/>
                </a:lnTo>
                <a:lnTo>
                  <a:pt x="553675" y="3047549"/>
                </a:lnTo>
                <a:lnTo>
                  <a:pt x="1678863" y="1840932"/>
                </a:lnTo>
                <a:lnTo>
                  <a:pt x="378771" y="2856675"/>
                </a:lnTo>
                <a:lnTo>
                  <a:pt x="367689" y="2842490"/>
                </a:lnTo>
                <a:lnTo>
                  <a:pt x="1667780" y="1826750"/>
                </a:lnTo>
                <a:lnTo>
                  <a:pt x="224798" y="2626606"/>
                </a:lnTo>
                <a:lnTo>
                  <a:pt x="216072" y="2610863"/>
                </a:lnTo>
                <a:lnTo>
                  <a:pt x="1659054" y="1811004"/>
                </a:lnTo>
                <a:lnTo>
                  <a:pt x="108712" y="2375284"/>
                </a:lnTo>
                <a:lnTo>
                  <a:pt x="102555" y="2358369"/>
                </a:lnTo>
                <a:lnTo>
                  <a:pt x="1652899" y="1794090"/>
                </a:lnTo>
                <a:lnTo>
                  <a:pt x="33370" y="2108894"/>
                </a:lnTo>
                <a:lnTo>
                  <a:pt x="29936" y="2091225"/>
                </a:lnTo>
                <a:lnTo>
                  <a:pt x="1649464" y="1776421"/>
                </a:lnTo>
                <a:lnTo>
                  <a:pt x="628" y="1833999"/>
                </a:lnTo>
                <a:lnTo>
                  <a:pt x="0" y="1816010"/>
                </a:lnTo>
                <a:lnTo>
                  <a:pt x="1648834" y="1758431"/>
                </a:lnTo>
                <a:lnTo>
                  <a:pt x="11293" y="1557367"/>
                </a:lnTo>
                <a:lnTo>
                  <a:pt x="13487" y="1539501"/>
                </a:lnTo>
                <a:lnTo>
                  <a:pt x="1651029" y="1740565"/>
                </a:lnTo>
                <a:lnTo>
                  <a:pt x="65101" y="1285808"/>
                </a:lnTo>
                <a:lnTo>
                  <a:pt x="70063" y="1268506"/>
                </a:lnTo>
                <a:lnTo>
                  <a:pt x="1655991" y="1723263"/>
                </a:lnTo>
                <a:lnTo>
                  <a:pt x="160727" y="1026011"/>
                </a:lnTo>
                <a:lnTo>
                  <a:pt x="168334" y="1009698"/>
                </a:lnTo>
                <a:lnTo>
                  <a:pt x="1663598" y="1706949"/>
                </a:lnTo>
                <a:lnTo>
                  <a:pt x="295818" y="784371"/>
                </a:lnTo>
                <a:lnTo>
                  <a:pt x="305884" y="769448"/>
                </a:lnTo>
                <a:lnTo>
                  <a:pt x="1673663" y="1692027"/>
                </a:lnTo>
                <a:lnTo>
                  <a:pt x="467046" y="566839"/>
                </a:lnTo>
                <a:lnTo>
                  <a:pt x="479323" y="553674"/>
                </a:lnTo>
                <a:lnTo>
                  <a:pt x="1685939" y="1678861"/>
                </a:lnTo>
                <a:lnTo>
                  <a:pt x="670196" y="378771"/>
                </a:lnTo>
                <a:lnTo>
                  <a:pt x="684381" y="367689"/>
                </a:lnTo>
                <a:lnTo>
                  <a:pt x="1700124" y="1667780"/>
                </a:lnTo>
                <a:lnTo>
                  <a:pt x="900265" y="224798"/>
                </a:lnTo>
                <a:lnTo>
                  <a:pt x="916008" y="216071"/>
                </a:lnTo>
                <a:lnTo>
                  <a:pt x="1715866" y="1659053"/>
                </a:lnTo>
                <a:lnTo>
                  <a:pt x="1151588" y="108711"/>
                </a:lnTo>
                <a:lnTo>
                  <a:pt x="1168502" y="102555"/>
                </a:lnTo>
                <a:lnTo>
                  <a:pt x="1732782" y="1652898"/>
                </a:lnTo>
                <a:lnTo>
                  <a:pt x="1417977" y="33370"/>
                </a:lnTo>
                <a:lnTo>
                  <a:pt x="1435646" y="29935"/>
                </a:lnTo>
                <a:lnTo>
                  <a:pt x="1750451" y="1649459"/>
                </a:lnTo>
                <a:lnTo>
                  <a:pt x="1692872" y="628"/>
                </a:lnTo>
                <a:close/>
              </a:path>
            </a:pathLst>
          </a:cu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5ba9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5ba968"/>
              </a:buClr>
              <a:buSzPct val="85000"/>
              <a:buFont typeface="Wingdings" charset="2"/>
              <a:buChar char="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2" marL="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3" marL="1028880" indent="-34308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4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5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6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962-6630-4FA7-8241-F2CF892EB2E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3BF7-113F-4A20-A39A-35CFD89E2F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4"/>
          <p:cNvSpPr/>
          <p:nvPr/>
        </p:nvSpPr>
        <p:spPr>
          <a:xfrm>
            <a:off x="619200" y="3753000"/>
            <a:ext cx="7905600" cy="0"/>
          </a:xfrm>
          <a:prstGeom prst="line">
            <a:avLst/>
          </a:prstGeom>
          <a:ln w="12600">
            <a:solidFill>
              <a:srgbClr val="5ba9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5ba9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5ba968"/>
              </a:buClr>
              <a:buSzPct val="85000"/>
              <a:buFont typeface="Wingdings" charset="2"/>
              <a:buChar char="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2" marL="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3" marL="1028880" indent="-34308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4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5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6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BC54-0897-4EC0-9984-6F1B2184092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8C1-1DFD-4190-ABB3-F4B6032E1B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7"/>
          <p:cNvSpPr/>
          <p:nvPr/>
        </p:nvSpPr>
        <p:spPr>
          <a:xfrm rot="21396600">
            <a:off x="3472920" y="3881520"/>
            <a:ext cx="3349800" cy="593640"/>
          </a:xfrm>
          <a:prstGeom prst="rect">
            <a:avLst/>
          </a:prstGeom>
          <a:solidFill>
            <a:srgbClr val="2d5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2" name="矩形 18"/>
          <p:cNvSpPr/>
          <p:nvPr/>
        </p:nvSpPr>
        <p:spPr>
          <a:xfrm rot="225000">
            <a:off x="2403360" y="3062160"/>
            <a:ext cx="4332240" cy="725760"/>
          </a:xfrm>
          <a:prstGeom prst="rect">
            <a:avLst/>
          </a:prstGeom>
          <a:solidFill>
            <a:srgbClr val="2d5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3" name="矩形 19"/>
          <p:cNvSpPr/>
          <p:nvPr/>
        </p:nvSpPr>
        <p:spPr>
          <a:xfrm rot="21196800">
            <a:off x="2898360" y="2122200"/>
            <a:ext cx="3341880" cy="723960"/>
          </a:xfrm>
          <a:prstGeom prst="rect">
            <a:avLst/>
          </a:prstGeom>
          <a:solidFill>
            <a:srgbClr val="2d5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4" name="矩形 20"/>
          <p:cNvSpPr/>
          <p:nvPr/>
        </p:nvSpPr>
        <p:spPr>
          <a:xfrm rot="225000">
            <a:off x="2320920" y="2960280"/>
            <a:ext cx="4334040" cy="723960"/>
          </a:xfrm>
          <a:prstGeom prst="rect">
            <a:avLst/>
          </a:prstGeom>
          <a:solidFill>
            <a:srgbClr val="5ba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5" name="矩形 21"/>
          <p:cNvSpPr/>
          <p:nvPr/>
        </p:nvSpPr>
        <p:spPr>
          <a:xfrm rot="21396600">
            <a:off x="3390480" y="3780000"/>
            <a:ext cx="3349800" cy="593640"/>
          </a:xfrm>
          <a:prstGeom prst="rect">
            <a:avLst/>
          </a:prstGeom>
          <a:solidFill>
            <a:srgbClr val="5ba968"/>
          </a:solidFill>
          <a:ln w="0">
            <a:noFill/>
          </a:ln>
          <a:effectLst>
            <a:outerShdw dist="12727" dir="189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6" name="矩形 22"/>
          <p:cNvSpPr/>
          <p:nvPr/>
        </p:nvSpPr>
        <p:spPr>
          <a:xfrm rot="21196800">
            <a:off x="2811240" y="1990440"/>
            <a:ext cx="3342960" cy="725400"/>
          </a:xfrm>
          <a:prstGeom prst="rect">
            <a:avLst/>
          </a:prstGeom>
          <a:solidFill>
            <a:srgbClr val="5ba968"/>
          </a:solidFill>
          <a:ln w="0">
            <a:noFill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5ba96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96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8560" y="1292040"/>
            <a:ext cx="78868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20000"/>
              </a:lnSpc>
              <a:spcBef>
                <a:spcPts val="751"/>
              </a:spcBef>
              <a:buClr>
                <a:srgbClr val="5ba968"/>
              </a:buClr>
              <a:buSzPct val="85000"/>
              <a:buFont typeface="Wingdings" charset="2"/>
              <a:buChar char="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2" marL="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3" marL="1028880" indent="-34308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4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5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  <a:p>
            <a:pPr lvl="6" marL="1371600" indent="-685800">
              <a:lnSpc>
                <a:spcPct val="120000"/>
              </a:lnSpc>
              <a:spcBef>
                <a:spcPts val="751"/>
              </a:spcBef>
              <a:buClr>
                <a:srgbClr val="5a5a5a"/>
              </a:buClr>
              <a:buSzPct val="8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a5a5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a5a5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E89-3309-4F52-9EAD-FB8A41443C55}" type="datetime">
              <a:rPr b="0" lang="zh-CN" sz="1200" spc="-1" strike="noStrike">
                <a:solidFill>
                  <a:srgbClr val="5a5a5a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a5a5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24B-5802-4597-BA22-9B850B18D82D}" type="slidenum">
              <a:rPr b="0" lang="zh-CN" sz="1200" spc="-1" strike="noStrike">
                <a:solidFill>
                  <a:srgbClr val="5a5a5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224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6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新型电影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5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1384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828720" y="98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880280" y="1916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１、抄写词语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371600" y="2408040"/>
            <a:ext cx="6624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新型    邀请  拱形   球幕电影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亮堂堂  大雁  空隙   有声有色</a:t>
            </a:r>
            <a:r>
              <a:rPr b="0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23960" y="3922560"/>
            <a:ext cx="744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２、正确、流利地朗读课文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539640" y="725400"/>
            <a:ext cx="8136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、认识本课</a:t>
            </a: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个生字。积累</a:t>
            </a: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个词语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、正确、流利、有感情地朗读课文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、能默读课文，找出反映新型电影特点的句子。能根据图意，设想其他新型电影的情景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、了解新型电影造型新，放映新的特点，知道科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技的进步，新型电影的诞生使我们的生活更加丰富多彩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447920" y="20098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新型电影</a:t>
            </a:r>
            <a:endParaRPr b="0" lang="en-US" sz="5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791320" y="1757520"/>
            <a:ext cx="238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3300"/>
                </a:solidFill>
                <a:latin typeface="Times New Roman"/>
              </a:rPr>
              <a:t>新？</a:t>
            </a:r>
            <a:endParaRPr b="0" lang="en-US" sz="80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729160" y="3860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比一比：型－－形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6"/>
          <p:cNvSpPr/>
          <p:nvPr/>
        </p:nvSpPr>
        <p:spPr>
          <a:xfrm>
            <a:off x="900000" y="981000"/>
            <a:ext cx="6400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１、比一比，组词：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幕（           ）    拱（          ）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墓（           ）    哄（          ）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826920" y="2997360"/>
            <a:ext cx="66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黑体"/>
                <a:ea typeface="黑体"/>
              </a:rPr>
              <a:t>２、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5a5a5a"/>
                </a:solidFill>
                <a:latin typeface="黑体"/>
                <a:ea typeface="黑体"/>
              </a:rPr>
              <a:t>雁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5a5a5a"/>
                </a:solidFill>
                <a:latin typeface="黑体"/>
                <a:ea typeface="黑体"/>
              </a:rPr>
              <a:t>的部首是（    　）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692360" y="364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厂</a:t>
            </a:r>
            <a:r>
              <a:rPr b="1" lang="en-US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压、历、原</a:t>
            </a:r>
            <a:r>
              <a:rPr b="1" lang="en-US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4427640" y="2997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997280" y="4494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３、写一写：隙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pic>
        <p:nvPicPr>
          <p:cNvPr id="244" name="Picture 21" descr="田字格"/>
          <p:cNvPicPr/>
          <p:nvPr/>
        </p:nvPicPr>
        <p:blipFill>
          <a:blip r:embed="rId4"/>
          <a:stretch/>
        </p:blipFill>
        <p:spPr>
          <a:xfrm>
            <a:off x="5724360" y="2924280"/>
            <a:ext cx="302436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5" name="Text Box 22"/>
          <p:cNvSpPr/>
          <p:nvPr/>
        </p:nvSpPr>
        <p:spPr>
          <a:xfrm>
            <a:off x="6377040" y="2708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隙</a:t>
            </a:r>
            <a:endParaRPr b="0" lang="en-US" sz="200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1143000" y="1143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影院造型新：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66680" y="2057400"/>
            <a:ext cx="5953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电影院是半球形的，像一只巨大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的碗反扣在地面上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429000" y="4876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171960" y="2038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半球形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771560" y="2700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反扣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pic>
        <p:nvPicPr>
          <p:cNvPr id="254" name="Picture 10" descr="16-161521"/>
          <p:cNvPicPr/>
          <p:nvPr/>
        </p:nvPicPr>
        <p:blipFill>
          <a:blip r:embed="rId4"/>
          <a:stretch/>
        </p:blipFill>
        <p:spPr>
          <a:xfrm>
            <a:off x="3419640" y="3357720"/>
            <a:ext cx="5181480" cy="23619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143000" y="1143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造型新：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295280" y="206064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大厅里亮堂堂的，地板像个巨大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的盘子，中间底四周高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324480" y="2046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巨大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900000" y="3846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a5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天花板就像那蓝蓝的天空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838080" y="1981080"/>
            <a:ext cx="755028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电影院是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，像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它四周有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大厅里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地板像个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天花板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就像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 u="sng">
                <a:solidFill>
                  <a:srgbClr val="5a5a5a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685800" y="1447920"/>
            <a:ext cx="80629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黑体"/>
              </a:rPr>
              <a:t>说一说：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、小妹妹那红扑扑的脸蛋就像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就像一只只灯笼。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就像</a:t>
            </a:r>
            <a:r>
              <a:rPr b="1" lang="zh-CN" sz="2800" spc="-1" strike="noStrike" u="sng">
                <a:solidFill>
                  <a:srgbClr val="5a5a5a"/>
                </a:solidFill>
                <a:uFillTx/>
                <a:latin typeface="Times New Roman"/>
                <a:ea typeface="楷体_GB2312"/>
              </a:rPr>
              <a:t>                                 </a:t>
            </a:r>
            <a:r>
              <a:rPr b="1" lang="zh-CN" sz="2800" spc="-1" strike="noStrike">
                <a:solidFill>
                  <a:srgbClr val="5a5a5a"/>
                </a:solidFill>
                <a:latin typeface="Times New Roman"/>
                <a:ea typeface="楷体_GB2312"/>
              </a:rPr>
              <a:t>。</a:t>
            </a:r>
            <a:r>
              <a:rPr b="0" lang="zh-CN" sz="4000" spc="-1" strike="noStrike" u="sng">
                <a:solidFill>
                  <a:srgbClr val="5a5a5a"/>
                </a:solidFill>
                <a:uFillTx/>
                <a:latin typeface="Times New Roman"/>
              </a:rPr>
              <a:t>               </a:t>
            </a:r>
            <a:endParaRPr b="0" lang="en-US" sz="40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384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082880" y="19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读词语：</a:t>
            </a:r>
            <a:endParaRPr b="0" lang="en-US" sz="2800" spc="-1" strike="noStrike">
              <a:solidFill>
                <a:srgbClr val="5a5a5a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371600" y="2408040"/>
            <a:ext cx="6624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新型    邀请  拱形   球幕电影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亮堂堂  大雁  空隙   有声有色</a:t>
            </a:r>
            <a:r>
              <a:rPr b="0" lang="zh-CN" sz="3200" spc="-1" strike="noStrike">
                <a:solidFill>
                  <a:srgbClr val="5a5a5a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5a5a5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34:30Z</dcterms:created>
  <dc:creator/>
  <dc:description/>
  <dc:language>en-US</dc:language>
  <cp:lastModifiedBy>Administrator</cp:lastModifiedBy>
  <dcterms:modified xsi:type="dcterms:W3CDTF">2017-02-16T09:34:43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