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93A-4DFF-4496-946E-958445B8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BC5-FC85-49BF-89B4-0B43FE2A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AE9-1D5D-4B88-A2E0-304F1E1A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8DF-E0D4-4861-897D-3EB2162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C94-716C-4EDD-932B-B7EA3B2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064-BB1D-4B92-A57C-D642CFE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2CD6-72B8-4C6E-97DC-F6A4D37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380-6D5D-4902-A786-0E1B32F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6FE-68B4-4EEE-90E6-C1658E1F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14200"/>
            <a:ext cx="78868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DE8-E9BA-4FB6-85F9-D7473C3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F34-C197-4171-9EDE-2C3E1E0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2BA-B4B9-4D01-9507-2051CD0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AEFF-8DF3-4F02-B26A-C1DC64A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3165-892F-4C08-A63E-FEE2CAE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4B1B-1CEB-46A4-879C-0A7AC01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2E73-631F-4C7F-8E08-84ECB631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8D1-2CD1-4A7D-AB35-024B1CED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8DEB-4848-4C2C-A454-3206A35F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77C4-9B50-4477-941F-D3D54B96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DDAA-75AE-4138-8C95-138C3BB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83E2-E31D-4D0F-8A5A-7318CBF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FC24-AE2D-436E-BDC7-164AFF0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671-36E8-4E5D-8D52-E379785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14200"/>
            <a:ext cx="78868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EEFE-D4B9-4E77-B78D-BEA7732A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2103-4A4B-48D2-BDED-44107D8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8E9C-16A6-4040-AB7C-FB44653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72EE-80D1-4453-9D9F-8CA0987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D740-29DE-4BB7-B661-21F6F5DF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42D6-568C-45BF-BA8A-7647C439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F916-70EF-449F-A973-7EAD381E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074B-1E90-45E7-B00B-BC5DD837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FDAD-300E-43CA-9A5D-3D8339A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6837-D1D2-4414-9EB9-C86727A7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DF8-BA78-409D-B410-1DFDAE06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AB823-3781-4A8D-92A5-42D7CA3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4B43-B831-4619-8068-4A5DADA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28560" y="214200"/>
            <a:ext cx="78868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9064-7561-4907-821B-D857608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7574-D85F-4C4E-BC0F-FA91924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01A6-F242-46C9-94DB-44EB9DF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56A6-8784-4240-B323-D1581377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680-516D-4452-A7F9-2716AC5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10A9-4C2F-4266-A489-71529AE8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44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62320" y="112356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2856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44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62320" y="3785040"/>
            <a:ext cx="2539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6950-2DAC-4595-A21E-FC9D9448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B5A-B07B-476A-9A88-9A874EC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14200"/>
            <a:ext cx="78868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D3C-4D5F-4C75-A212-1FBA0C5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24F-726D-4F56-86E2-BF00D8B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78504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C20-49DD-4711-AC19-697DC60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123560"/>
            <a:ext cx="384876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785040"/>
            <a:ext cx="788688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F27-FD32-4480-A966-4680B47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64606d"/>
              </a:buClr>
              <a:buSzPct val="90000"/>
              <a:buFont typeface="Webdings" charset="2"/>
              <a:buChar char="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1" marL="404640" indent="10980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b485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1443-833E-4E2A-BF4F-3A9658DA7F9F}" type="datetime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0694-527A-49E3-9E38-00CFD811CBB7}" type="slidenum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b485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64606d"/>
              </a:buClr>
              <a:buSzPct val="90000"/>
              <a:buFont typeface="Webdings" charset="2"/>
              <a:buChar char="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1" marL="404640" indent="10980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26A2-4579-4D0A-84BD-04CA902E78AD}" type="datetime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6D1-E53D-4FD5-99A7-DB74FBC538D8}" type="slidenum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MH_Number"/>
          <p:cNvSpPr/>
          <p:nvPr/>
        </p:nvSpPr>
        <p:spPr>
          <a:xfrm flipH="1">
            <a:off x="2082960" y="3225960"/>
            <a:ext cx="722160" cy="615960"/>
          </a:xfrm>
          <a:prstGeom prst="pie">
            <a:avLst/>
          </a:prstGeom>
          <a:solidFill>
            <a:srgbClr val="a19e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83" name="MH_Title"/>
          <p:cNvSpPr/>
          <p:nvPr/>
        </p:nvSpPr>
        <p:spPr>
          <a:xfrm flipH="1">
            <a:off x="2082960" y="3225960"/>
            <a:ext cx="5410080" cy="674640"/>
          </a:xfrm>
          <a:custGeom>
            <a:avLst/>
            <a:gdLst/>
            <a:ahLst/>
            <a:rect l="l" t="t" r="r" b="b"/>
            <a:pathLst>
              <a:path w="2520280" h="1872208">
                <a:moveTo>
                  <a:pt x="0" y="1872208"/>
                </a:moveTo>
                <a:lnTo>
                  <a:pt x="2520280" y="1872208"/>
                </a:lnTo>
                <a:lnTo>
                  <a:pt x="0" y="1872208"/>
                </a:lnTo>
                <a:close/>
                <a:moveTo>
                  <a:pt x="0" y="0"/>
                </a:moveTo>
                <a:lnTo>
                  <a:pt x="916" y="0"/>
                </a:lnTo>
                <a:lnTo>
                  <a:pt x="0" y="0"/>
                </a:lnTo>
                <a:close/>
              </a:path>
            </a:pathLst>
          </a:custGeom>
          <a:noFill/>
          <a:ln cap="sq" w="12600">
            <a:solidFill>
              <a:srgbClr val="c1be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72000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b485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64606d"/>
              </a:buClr>
              <a:buSzPct val="90000"/>
              <a:buFont typeface="Webdings" charset="2"/>
              <a:buChar char="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1" marL="404640" indent="10980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278-95B2-44D1-B279-839A07EDBB74}" type="datetime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75FB-60EC-4033-98D2-8F3E1189C079}" type="slidenum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29"/>
          <p:cNvSpPr/>
          <p:nvPr/>
        </p:nvSpPr>
        <p:spPr>
          <a:xfrm rot="18937800">
            <a:off x="5253120" y="1800000"/>
            <a:ext cx="482400" cy="1103040"/>
          </a:xfrm>
          <a:prstGeom prst="rect">
            <a:avLst/>
          </a:prstGeom>
          <a:gradFill rotWithShape="0">
            <a:gsLst>
              <a:gs pos="0">
                <a:srgbClr val="d7d7d7">
                  <a:alpha val="0"/>
                </a:srgbClr>
              </a:gs>
              <a:gs pos="100000">
                <a:srgbClr val="ffffff"/>
              </a:gs>
            </a:gsLst>
            <a:lin ang="8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26" name="椭圆 30"/>
          <p:cNvSpPr/>
          <p:nvPr/>
        </p:nvSpPr>
        <p:spPr>
          <a:xfrm>
            <a:off x="4869000" y="1720800"/>
            <a:ext cx="482400" cy="482760"/>
          </a:xfrm>
          <a:prstGeom prst="ellipse">
            <a:avLst/>
          </a:pr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27" name="KSO_Shape"/>
          <p:cNvSpPr/>
          <p:nvPr/>
        </p:nvSpPr>
        <p:spPr>
          <a:xfrm>
            <a:off x="4991040" y="1805040"/>
            <a:ext cx="241200" cy="284040"/>
          </a:xfrm>
          <a:custGeom>
            <a:avLst/>
            <a:gdLst/>
            <a:ahLst/>
            <a:rect l="l" t="t" r="r" b="b"/>
            <a:pathLst>
              <a:path w="396520" h="469210">
                <a:moveTo>
                  <a:pt x="327445" y="314600"/>
                </a:moveTo>
                <a:cubicBezTo>
                  <a:pt x="356349" y="319254"/>
                  <a:pt x="385797" y="360745"/>
                  <a:pt x="394054" y="381803"/>
                </a:cubicBezTo>
                <a:cubicBezTo>
                  <a:pt x="402312" y="402860"/>
                  <a:pt x="388098" y="427511"/>
                  <a:pt x="376990" y="440944"/>
                </a:cubicBezTo>
                <a:cubicBezTo>
                  <a:pt x="373700" y="421882"/>
                  <a:pt x="364955" y="401443"/>
                  <a:pt x="352485" y="383463"/>
                </a:cubicBezTo>
                <a:cubicBezTo>
                  <a:pt x="332676" y="354903"/>
                  <a:pt x="307287" y="337803"/>
                  <a:pt x="287162" y="338581"/>
                </a:cubicBezTo>
                <a:cubicBezTo>
                  <a:pt x="300917" y="326499"/>
                  <a:pt x="298542" y="309947"/>
                  <a:pt x="327445" y="314600"/>
                </a:cubicBezTo>
                <a:close/>
                <a:moveTo>
                  <a:pt x="44367" y="9445"/>
                </a:moveTo>
                <a:cubicBezTo>
                  <a:pt x="65307" y="7976"/>
                  <a:pt x="88582" y="48300"/>
                  <a:pt x="98716" y="103893"/>
                </a:cubicBezTo>
                <a:cubicBezTo>
                  <a:pt x="103023" y="127522"/>
                  <a:pt x="104507" y="151694"/>
                  <a:pt x="102812" y="172874"/>
                </a:cubicBezTo>
                <a:cubicBezTo>
                  <a:pt x="96419" y="177933"/>
                  <a:pt x="92462" y="183883"/>
                  <a:pt x="93679" y="191748"/>
                </a:cubicBezTo>
                <a:cubicBezTo>
                  <a:pt x="97962" y="219449"/>
                  <a:pt x="202914" y="329063"/>
                  <a:pt x="240363" y="349244"/>
                </a:cubicBezTo>
                <a:cubicBezTo>
                  <a:pt x="253454" y="356299"/>
                  <a:pt x="265280" y="353652"/>
                  <a:pt x="275564" y="347108"/>
                </a:cubicBezTo>
                <a:lnTo>
                  <a:pt x="275884" y="347663"/>
                </a:lnTo>
                <a:cubicBezTo>
                  <a:pt x="293996" y="337193"/>
                  <a:pt x="324545" y="354625"/>
                  <a:pt x="347507" y="388530"/>
                </a:cubicBezTo>
                <a:cubicBezTo>
                  <a:pt x="360303" y="407426"/>
                  <a:pt x="369015" y="429003"/>
                  <a:pt x="371399" y="448117"/>
                </a:cubicBezTo>
                <a:cubicBezTo>
                  <a:pt x="347296" y="472826"/>
                  <a:pt x="310581" y="469765"/>
                  <a:pt x="288158" y="468159"/>
                </a:cubicBezTo>
                <a:cubicBezTo>
                  <a:pt x="253182" y="465654"/>
                  <a:pt x="-15065" y="364036"/>
                  <a:pt x="664" y="89829"/>
                </a:cubicBezTo>
                <a:cubicBezTo>
                  <a:pt x="3125" y="70964"/>
                  <a:pt x="7079" y="53749"/>
                  <a:pt x="14299" y="39550"/>
                </a:cubicBezTo>
                <a:cubicBezTo>
                  <a:pt x="20978" y="26415"/>
                  <a:pt x="30453" y="15861"/>
                  <a:pt x="44367" y="9445"/>
                </a:cubicBezTo>
                <a:close/>
                <a:moveTo>
                  <a:pt x="85842" y="6"/>
                </a:moveTo>
                <a:cubicBezTo>
                  <a:pt x="147282" y="-938"/>
                  <a:pt x="156451" y="106342"/>
                  <a:pt x="147962" y="128156"/>
                </a:cubicBezTo>
                <a:cubicBezTo>
                  <a:pt x="140696" y="146825"/>
                  <a:pt x="125598" y="157194"/>
                  <a:pt x="109217" y="167957"/>
                </a:cubicBezTo>
                <a:cubicBezTo>
                  <a:pt x="111214" y="147002"/>
                  <a:pt x="109601" y="123749"/>
                  <a:pt x="105273" y="101024"/>
                </a:cubicBezTo>
                <a:cubicBezTo>
                  <a:pt x="95931" y="51971"/>
                  <a:pt x="75887" y="14560"/>
                  <a:pt x="55177" y="5105"/>
                </a:cubicBezTo>
                <a:cubicBezTo>
                  <a:pt x="63799" y="1769"/>
                  <a:pt x="73998" y="188"/>
                  <a:pt x="8584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28" name="矩形 32"/>
          <p:cNvSpPr/>
          <p:nvPr/>
        </p:nvSpPr>
        <p:spPr>
          <a:xfrm rot="18937800">
            <a:off x="5253120" y="2773080"/>
            <a:ext cx="482400" cy="1103400"/>
          </a:xfrm>
          <a:prstGeom prst="rect">
            <a:avLst/>
          </a:prstGeom>
          <a:gradFill rotWithShape="0">
            <a:gsLst>
              <a:gs pos="0">
                <a:srgbClr val="d7d7d7">
                  <a:alpha val="0"/>
                </a:srgbClr>
              </a:gs>
              <a:gs pos="100000">
                <a:srgbClr val="ffffff"/>
              </a:gs>
            </a:gsLst>
            <a:lin ang="8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29" name="椭圆 33"/>
          <p:cNvSpPr/>
          <p:nvPr/>
        </p:nvSpPr>
        <p:spPr>
          <a:xfrm>
            <a:off x="4869000" y="2693880"/>
            <a:ext cx="482400" cy="482760"/>
          </a:xfrm>
          <a:prstGeom prst="ellipse">
            <a:avLst/>
          </a:pr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0" name="KSO_Shape"/>
          <p:cNvSpPr/>
          <p:nvPr/>
        </p:nvSpPr>
        <p:spPr>
          <a:xfrm>
            <a:off x="4976640" y="2820960"/>
            <a:ext cx="276480" cy="22536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1" name="矩形 35"/>
          <p:cNvSpPr/>
          <p:nvPr/>
        </p:nvSpPr>
        <p:spPr>
          <a:xfrm rot="18937800">
            <a:off x="5253120" y="3746160"/>
            <a:ext cx="482400" cy="1103400"/>
          </a:xfrm>
          <a:prstGeom prst="rect">
            <a:avLst/>
          </a:prstGeom>
          <a:gradFill rotWithShape="0">
            <a:gsLst>
              <a:gs pos="0">
                <a:srgbClr val="d7d7d7">
                  <a:alpha val="0"/>
                </a:srgbClr>
              </a:gs>
              <a:gs pos="100000">
                <a:srgbClr val="ffffff"/>
              </a:gs>
            </a:gsLst>
            <a:lin ang="8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2" name="椭圆 36"/>
          <p:cNvSpPr/>
          <p:nvPr/>
        </p:nvSpPr>
        <p:spPr>
          <a:xfrm>
            <a:off x="4869000" y="3666960"/>
            <a:ext cx="482400" cy="484200"/>
          </a:xfrm>
          <a:prstGeom prst="ellipse">
            <a:avLst/>
          </a:pr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3" name="KSO_Shape"/>
          <p:cNvSpPr/>
          <p:nvPr/>
        </p:nvSpPr>
        <p:spPr>
          <a:xfrm>
            <a:off x="4959360" y="3765600"/>
            <a:ext cx="301680" cy="280800"/>
          </a:xfrm>
          <a:custGeom>
            <a:avLst/>
            <a:gdLst/>
            <a:ahLst/>
            <a:rect l="l" t="t" r="r" b="b"/>
            <a:pathLst>
              <a:path w="969654" h="903534">
                <a:moveTo>
                  <a:pt x="813088" y="487443"/>
                </a:moveTo>
                <a:cubicBezTo>
                  <a:pt x="793206" y="487443"/>
                  <a:pt x="777088" y="503561"/>
                  <a:pt x="777088" y="523443"/>
                </a:cubicBezTo>
                <a:cubicBezTo>
                  <a:pt x="777088" y="543325"/>
                  <a:pt x="793206" y="559443"/>
                  <a:pt x="813088" y="559443"/>
                </a:cubicBezTo>
                <a:cubicBezTo>
                  <a:pt x="832970" y="559443"/>
                  <a:pt x="849088" y="543325"/>
                  <a:pt x="849088" y="523443"/>
                </a:cubicBezTo>
                <a:cubicBezTo>
                  <a:pt x="849088" y="503561"/>
                  <a:pt x="832970" y="487443"/>
                  <a:pt x="813088" y="487443"/>
                </a:cubicBezTo>
                <a:close/>
                <a:moveTo>
                  <a:pt x="606961" y="487443"/>
                </a:moveTo>
                <a:cubicBezTo>
                  <a:pt x="587079" y="487443"/>
                  <a:pt x="570961" y="503561"/>
                  <a:pt x="570961" y="523443"/>
                </a:cubicBezTo>
                <a:cubicBezTo>
                  <a:pt x="570961" y="543325"/>
                  <a:pt x="587079" y="559443"/>
                  <a:pt x="606961" y="559443"/>
                </a:cubicBezTo>
                <a:cubicBezTo>
                  <a:pt x="626843" y="559443"/>
                  <a:pt x="642961" y="543325"/>
                  <a:pt x="642961" y="523443"/>
                </a:cubicBezTo>
                <a:cubicBezTo>
                  <a:pt x="642961" y="503561"/>
                  <a:pt x="626843" y="487443"/>
                  <a:pt x="606961" y="487443"/>
                </a:cubicBezTo>
                <a:close/>
                <a:moveTo>
                  <a:pt x="691345" y="336511"/>
                </a:moveTo>
                <a:cubicBezTo>
                  <a:pt x="769490" y="335080"/>
                  <a:pt x="847112" y="364668"/>
                  <a:pt x="901758" y="422110"/>
                </a:cubicBezTo>
                <a:cubicBezTo>
                  <a:pt x="999759" y="525126"/>
                  <a:pt x="990612" y="681640"/>
                  <a:pt x="881173" y="774306"/>
                </a:cubicBezTo>
                <a:lnTo>
                  <a:pt x="905846" y="903534"/>
                </a:lnTo>
                <a:lnTo>
                  <a:pt x="792422" y="824563"/>
                </a:lnTo>
                <a:cubicBezTo>
                  <a:pt x="666952" y="867914"/>
                  <a:pt x="525982" y="820668"/>
                  <a:pt x="459770" y="713074"/>
                </a:cubicBezTo>
                <a:cubicBezTo>
                  <a:pt x="386891" y="594648"/>
                  <a:pt x="429055" y="444146"/>
                  <a:pt x="554971" y="373268"/>
                </a:cubicBezTo>
                <a:cubicBezTo>
                  <a:pt x="597384" y="349394"/>
                  <a:pt x="644458" y="337369"/>
                  <a:pt x="691345" y="336511"/>
                </a:cubicBezTo>
                <a:close/>
                <a:moveTo>
                  <a:pt x="547874" y="187267"/>
                </a:moveTo>
                <a:cubicBezTo>
                  <a:pt x="518051" y="187267"/>
                  <a:pt x="493874" y="211444"/>
                  <a:pt x="493874" y="241267"/>
                </a:cubicBezTo>
                <a:cubicBezTo>
                  <a:pt x="493874" y="271090"/>
                  <a:pt x="518051" y="295267"/>
                  <a:pt x="547874" y="295267"/>
                </a:cubicBezTo>
                <a:cubicBezTo>
                  <a:pt x="577697" y="295267"/>
                  <a:pt x="601874" y="271090"/>
                  <a:pt x="601874" y="241267"/>
                </a:cubicBezTo>
                <a:cubicBezTo>
                  <a:pt x="601874" y="211444"/>
                  <a:pt x="577697" y="187267"/>
                  <a:pt x="547874" y="187267"/>
                </a:cubicBezTo>
                <a:close/>
                <a:moveTo>
                  <a:pt x="294449" y="187267"/>
                </a:moveTo>
                <a:cubicBezTo>
                  <a:pt x="264626" y="187267"/>
                  <a:pt x="240449" y="211444"/>
                  <a:pt x="240449" y="241267"/>
                </a:cubicBezTo>
                <a:cubicBezTo>
                  <a:pt x="240449" y="271090"/>
                  <a:pt x="264626" y="295267"/>
                  <a:pt x="294449" y="295267"/>
                </a:cubicBezTo>
                <a:cubicBezTo>
                  <a:pt x="324272" y="295267"/>
                  <a:pt x="348449" y="271090"/>
                  <a:pt x="348449" y="241267"/>
                </a:cubicBezTo>
                <a:cubicBezTo>
                  <a:pt x="348449" y="211444"/>
                  <a:pt x="324272" y="187267"/>
                  <a:pt x="294449" y="187267"/>
                </a:cubicBezTo>
                <a:close/>
                <a:moveTo>
                  <a:pt x="408549" y="168"/>
                </a:moveTo>
                <a:cubicBezTo>
                  <a:pt x="456533" y="-1113"/>
                  <a:pt x="505397" y="4870"/>
                  <a:pt x="553141" y="18800"/>
                </a:cubicBezTo>
                <a:cubicBezTo>
                  <a:pt x="730896" y="70663"/>
                  <a:pt x="843952" y="217556"/>
                  <a:pt x="840274" y="375462"/>
                </a:cubicBezTo>
                <a:cubicBezTo>
                  <a:pt x="754752" y="310337"/>
                  <a:pt x="632797" y="302687"/>
                  <a:pt x="535419" y="357502"/>
                </a:cubicBezTo>
                <a:cubicBezTo>
                  <a:pt x="409503" y="428380"/>
                  <a:pt x="367339" y="578882"/>
                  <a:pt x="440218" y="697308"/>
                </a:cubicBezTo>
                <a:cubicBezTo>
                  <a:pt x="450352" y="713775"/>
                  <a:pt x="462237" y="728829"/>
                  <a:pt x="478397" y="739559"/>
                </a:cubicBezTo>
                <a:cubicBezTo>
                  <a:pt x="442192" y="745523"/>
                  <a:pt x="404623" y="745773"/>
                  <a:pt x="366675" y="741395"/>
                </a:cubicBezTo>
                <a:lnTo>
                  <a:pt x="245711" y="837584"/>
                </a:lnTo>
                <a:lnTo>
                  <a:pt x="214226" y="696474"/>
                </a:lnTo>
                <a:cubicBezTo>
                  <a:pt x="11680" y="595442"/>
                  <a:pt x="-59861" y="368389"/>
                  <a:pt x="54436" y="189343"/>
                </a:cubicBezTo>
                <a:cubicBezTo>
                  <a:pt x="128564" y="73222"/>
                  <a:pt x="264598" y="4010"/>
                  <a:pt x="408549" y="1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4" name="椭圆 38"/>
          <p:cNvSpPr/>
          <p:nvPr/>
        </p:nvSpPr>
        <p:spPr>
          <a:xfrm>
            <a:off x="4869000" y="4641840"/>
            <a:ext cx="482400" cy="482760"/>
          </a:xfrm>
          <a:prstGeom prst="ellipse">
            <a:avLst/>
          </a:pr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5" name="KSO_Shape"/>
          <p:cNvSpPr/>
          <p:nvPr/>
        </p:nvSpPr>
        <p:spPr>
          <a:xfrm>
            <a:off x="4967280" y="4735440"/>
            <a:ext cx="293760" cy="262080"/>
          </a:xfrm>
          <a:custGeom>
            <a:avLst/>
            <a:gdLst/>
            <a:ahLst/>
            <a:rect l="l" t="t" r="r" b="b"/>
            <a:pathLst>
              <a:path w="1800200" h="1603947">
                <a:moveTo>
                  <a:pt x="900100" y="235795"/>
                </a:moveTo>
                <a:lnTo>
                  <a:pt x="1656184" y="919871"/>
                </a:lnTo>
                <a:lnTo>
                  <a:pt x="1656184" y="1603947"/>
                </a:lnTo>
                <a:lnTo>
                  <a:pt x="1242138" y="1603947"/>
                </a:lnTo>
                <a:lnTo>
                  <a:pt x="1242138" y="919870"/>
                </a:lnTo>
                <a:lnTo>
                  <a:pt x="558062" y="919870"/>
                </a:lnTo>
                <a:lnTo>
                  <a:pt x="558062" y="1603947"/>
                </a:lnTo>
                <a:lnTo>
                  <a:pt x="144016" y="1603947"/>
                </a:lnTo>
                <a:lnTo>
                  <a:pt x="144016" y="919871"/>
                </a:lnTo>
                <a:close/>
                <a:moveTo>
                  <a:pt x="900100" y="0"/>
                </a:moveTo>
                <a:lnTo>
                  <a:pt x="1310094" y="370947"/>
                </a:lnTo>
                <a:lnTo>
                  <a:pt x="1310094" y="14514"/>
                </a:lnTo>
                <a:lnTo>
                  <a:pt x="1428894" y="14514"/>
                </a:lnTo>
                <a:lnTo>
                  <a:pt x="1428894" y="478433"/>
                </a:lnTo>
                <a:lnTo>
                  <a:pt x="1800200" y="814377"/>
                </a:lnTo>
                <a:lnTo>
                  <a:pt x="1800200" y="988497"/>
                </a:lnTo>
                <a:lnTo>
                  <a:pt x="900100" y="174121"/>
                </a:lnTo>
                <a:lnTo>
                  <a:pt x="0" y="988498"/>
                </a:lnTo>
                <a:lnTo>
                  <a:pt x="0" y="8143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4b485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28560" y="1123560"/>
            <a:ext cx="78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64606d"/>
              </a:buClr>
              <a:buSzPct val="90000"/>
              <a:buFont typeface="Webdings" charset="2"/>
              <a:buChar char="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1" marL="404640" indent="10980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55595b"/>
              </a:buClr>
              <a:buSzPct val="9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b485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85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943-9F77-4D79-8E4E-DA1B1C0E06C5}" type="datetime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979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A42-8F3D-426B-AA8C-2207A5C93422}" type="slidenum">
              <a:rPr b="0" lang="zh-CN" sz="1200" spc="-1" strike="noStrike">
                <a:solidFill>
                  <a:srgbClr val="7979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1835280" y="213372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1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信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83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1"/>
          <p:cNvSpPr/>
          <p:nvPr/>
        </p:nvSpPr>
        <p:spPr>
          <a:xfrm>
            <a:off x="2161800" y="1560960"/>
            <a:ext cx="359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作业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、抄写生字词语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  回巢  黄昏  蜜蜂  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航海  风平浪静  一封封</a:t>
            </a:r>
            <a:r>
              <a:rPr b="0" lang="zh-CN" sz="2400" spc="-1" strike="noStrike">
                <a:solidFill>
                  <a:srgbClr val="55595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、读熟课文。</a:t>
            </a:r>
            <a:r>
              <a:rPr b="0" lang="zh-CN" sz="2400" spc="-1" strike="noStrike">
                <a:solidFill>
                  <a:srgbClr val="55595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1835280" y="213372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1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信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1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242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539640" y="83664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认识</a:t>
            </a: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个生字。了解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姹紫嫣红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风平浪静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默读课文。理解课文内容，体会句子的含义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让自己的心和别人的心，贴得紧紧、紧紧</a:t>
            </a:r>
            <a:r>
              <a:rPr b="1" lang="en-US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……”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正确、流利地朗读课文，背诵全文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了解书信是人与人情感交流、心灵沟通的工具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信"/>
          <p:cNvPicPr/>
          <p:nvPr/>
        </p:nvPicPr>
        <p:blipFill>
          <a:blip r:embed="rId4"/>
          <a:stretch/>
        </p:blipFill>
        <p:spPr>
          <a:xfrm>
            <a:off x="1116000" y="476280"/>
            <a:ext cx="6872400" cy="5497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03640" y="1484280"/>
            <a:ext cx="23032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124000" y="692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这些信都是替谁写给谁的？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1911600" y="1126440"/>
            <a:ext cx="544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黑体"/>
                <a:ea typeface="黑体"/>
              </a:rPr>
              <a:t>自学要求：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轻声读课文，读准字音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雏、巢、蜜、蜂、航、封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用出示词语练习读准字音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雏鸟 回巢 黄昏 蜜蜂 航海  风平浪静  一封封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、将认识的生字放回到语言环境中去再读课文。 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高蹺(早熟型雛鳥)"/>
          <p:cNvPicPr/>
          <p:nvPr/>
        </p:nvPicPr>
        <p:blipFill>
          <a:blip r:embed="rId4"/>
          <a:stretch/>
        </p:blipFill>
        <p:spPr>
          <a:xfrm>
            <a:off x="3132000" y="620640"/>
            <a:ext cx="316872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6" name="Text Box 7"/>
          <p:cNvSpPr/>
          <p:nvPr/>
        </p:nvSpPr>
        <p:spPr>
          <a:xfrm>
            <a:off x="4284720" y="364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059280" y="41497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练习：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雏</a:t>
            </a:r>
            <a:r>
              <a:rPr b="1" lang="zh-CN" sz="2800" spc="-1" strike="noStrike">
                <a:solidFill>
                  <a:srgbClr val="55595b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 u="sng">
                <a:solidFill>
                  <a:srgbClr val="55595b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笔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771640" y="4797360"/>
            <a:ext cx="461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组词：雏（   ）准（   ）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5595b"/>
                </a:solidFill>
                <a:latin typeface="楷体_GB2312"/>
                <a:ea typeface="楷体_GB2312"/>
              </a:rPr>
              <a:t>推（   ）难（   ）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39528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这些信都是替谁写给谁的？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026"/>
          <p:cNvPicPr/>
          <p:nvPr/>
        </p:nvPicPr>
        <p:blipFill>
          <a:blip r:embed="rId1"/>
          <a:srcRect l="19232" t="0" r="3307" b="0"/>
          <a:stretch/>
        </p:blipFill>
        <p:spPr>
          <a:xfrm>
            <a:off x="4859280" y="981000"/>
            <a:ext cx="3382920" cy="29116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5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3637080" y="1484280"/>
            <a:ext cx="1871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pic>
        <p:nvPicPr>
          <p:cNvPr id="219" name="Picture 11" descr="田字格"/>
          <p:cNvPicPr/>
          <p:nvPr/>
        </p:nvPicPr>
        <p:blipFill>
          <a:blip r:embed="rId5"/>
          <a:stretch/>
        </p:blipFill>
        <p:spPr>
          <a:xfrm>
            <a:off x="5724360" y="2924280"/>
            <a:ext cx="302436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0" name="Text Box 12"/>
          <p:cNvSpPr/>
          <p:nvPr/>
        </p:nvSpPr>
        <p:spPr>
          <a:xfrm>
            <a:off x="6390000" y="26654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巢</a:t>
            </a:r>
            <a:endParaRPr b="0" lang="en-US" sz="200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95280" y="62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信的内容是什么？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4788000" y="1482840"/>
            <a:ext cx="165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黄昏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姹紫嫣红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风平浪静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50920" y="5373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姹紫嫣红：</a:t>
            </a: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形容各种好看的花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476360" y="1484280"/>
            <a:ext cx="2303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雏鸟    妈妈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花朵    蜜蜂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大海    小船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云        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树        树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自己    自己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637080" y="1484280"/>
            <a:ext cx="1871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回巢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采蜜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航海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春雨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森林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楷体_GB2312"/>
              </a:rPr>
              <a:t>贴心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9528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595b"/>
                </a:solidFill>
                <a:latin typeface="Times New Roman"/>
                <a:ea typeface="黑体"/>
              </a:rPr>
              <a:t>为什么要写这些信？</a:t>
            </a:r>
            <a:endParaRPr b="0" lang="en-US" sz="2800" spc="-1" strike="noStrike">
              <a:solidFill>
                <a:srgbClr val="55595b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32:20Z</dcterms:created>
  <dc:creator/>
  <dc:description/>
  <dc:language>en-US</dc:language>
  <cp:lastModifiedBy>Administrator</cp:lastModifiedBy>
  <dcterms:modified xsi:type="dcterms:W3CDTF">2017-02-16T09:33:3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