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231-6880-4868-9294-13A33300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4AE-195F-4CDD-9EC2-85F0C53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CE0-E439-4505-A944-BF73F4CC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913-6E0A-4CFF-AF7F-F45BFBA6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A4BC-C632-49D1-8B70-F96824A7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F099-3302-45C2-B1FC-5BBD7582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D4BB-328B-4D27-AE0F-2605B0C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89D-DF4C-4F2E-AEEE-497AEA06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A72-15AE-48D9-A32A-0D163F48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78D-9DC4-49EA-8591-7DD3AAC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BEA-630A-4CFF-94B1-B97C351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9D1-595A-4CAF-830D-536EC58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456C-457B-4E27-8972-68E9C60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EDBE-AC89-4B47-8F64-6FAC9A8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415-CA1B-4534-B677-0653C834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B9A-4F3E-4B9A-BA03-58EB71F7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1634-45C1-4283-9CC1-77EA967B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6875-7C02-4CB4-8876-A98FB77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2AE9-FB7D-4497-AAEF-80D95182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396D-A562-4890-BC9F-04F2EF4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C575-97EB-499D-B444-EC02F43B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6059-75EE-4E39-BC1D-0EAF622C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EC4-685C-40B3-861E-6572A663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CEC7-66F8-4085-9172-C738BA7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C040-90EB-4941-81AD-8B0C8AF7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6326-9998-47CA-A7B1-691255E8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4048-9DAF-47BA-9DF3-40E75F3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D208-D5DD-4194-9BBF-42E0857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D212-0BCC-47D7-A7CC-0BA1ACB7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B442-4397-4471-9024-B7ADD8E6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A961-132E-44D5-8813-D6EF61B5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A3A4-6A2D-42AF-98A8-10E6193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0CDA-3DA3-4B8C-8A4D-52A0DA2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956-D9C8-40AA-87F3-A02395B7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723E-415B-4272-B266-764A6D2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8811-02B4-4919-8D9E-1B8A1CE4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190D-3FEB-4A11-8136-975C0CB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6449-6639-4B86-8E3F-64195D6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B080-8AB3-4D0F-8EB8-1DBAA8D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E6B7-484D-46AE-AC72-E2E66E6F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16BC-616A-4D97-8807-48EEB6D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658-E21C-4110-ACC0-B9D95870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0709-0A92-4E89-94ED-2DF9D8B6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F312-C6C6-443E-A9A8-75AE9C5A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BE3-291E-48B9-B980-22CFC87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20CC-DD5C-4142-9808-53A4242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00DD-0187-4549-BFFD-B440F1D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EE19-F0B7-4493-BDC2-7FDD5DFF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10CB-363B-4F26-9B8B-476E66A9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DC254-7221-46BA-8A36-996B4922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4106-9920-4464-97E9-1F4EC8B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1965-5780-4728-B296-2C302B4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EC8D-1B23-41F7-BC0A-630171D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F46E-733D-49D5-99F5-F928926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B163-796A-43C0-B1A3-9EA702A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426-1825-4F72-B5CC-ADBD0E9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4F9F-F784-4454-BDC7-32D75F33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0AE3-275D-483F-90BF-B2632507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F845-4897-40C3-9AD9-5358A1AB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67B3-2ACC-4C94-92D4-BDD347B1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8A7C-C434-419C-9AC8-3007D9D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2CA5-C6BF-4705-909C-F192CE2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2D45-0C47-4B65-9449-5F2DBF3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02007-725F-41DA-A31E-791AD81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6638-DAF1-4548-9C0B-CE10D61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C836D-F415-4B6C-A5C0-5F05089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00F-C4AD-4FF5-9B0A-A84242D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0478-F2A4-4F3F-8F68-1745DDF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7130-24FE-4764-A94C-CABD3A6D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9D8D4-D11A-44A4-B5AF-CA12CAD2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8DD-D2FF-484C-A8C0-32604D4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640-93AE-4FA9-9A12-5491C93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579-4EAC-4B63-84F0-282C160E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38C-3FEA-4E2F-B946-00258B2E8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7A9-2BE8-4B41-AFB0-6C293ED8B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4176-4D97-4C11-B9A0-ABC884957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9C6-7439-4952-A07C-19B49DAFD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05D-4C1F-4DA7-9244-94A0444CA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件可笑的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审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事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，不能写两件以上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章的题眼是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可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这件事情一定是好笑的，滑稽的，幽默的，有趣的，让人啼笑皆非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1H2553924-18"/>
          <p:cNvPicPr/>
          <p:nvPr/>
        </p:nvPicPr>
        <p:blipFill>
          <a:blip r:embed="rId1"/>
          <a:stretch/>
        </p:blipFill>
        <p:spPr>
          <a:xfrm>
            <a:off x="7093080" y="189000"/>
            <a:ext cx="1834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0480" y="0"/>
            <a:ext cx="9083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小时候跟着大人们去亲戚家玩，亲戚家有两只可爱的小乌龟。小乌龟圆圆的脑袋、黑宝石般的眼睛，坚硬的壳，十分惹人喜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乘大人们聊天时去看小乌龟。突然，我发现放乌龟的水缸里的水很少。我就想：才这么点水，小乌龟能活吗？我那时还小，想也没想，就捧起水缸，打开水龙头，往水缸里放水。一边倒一边说“小乌龟我来帮你。”可是，小乌龟在水缸里拼命挣扎。我认为，乌龟要逃走，便放声大哭“救命啊！来人啊！乌龟想逃跑啊！”大人们听见我的哭声，急忙赶来问我发生了什么事？我噙着泪水，指着乌龟说：“你们看！乌龟要逃跑。”叔叔问我“你干了什么坏事？”“水缸里的水太少，我难道不能帮乌龟装水？”我哭着回答。爸爸摸了摸水，忽然痛骂我：“你真是笨蛋，怎么放了热水？”啊，我这才想起了放水时我放的是热水。一个幽默的舅舅问我“你是不是想在这里煲乌龟汤喝！”大家都捧腹大笑，我羞红了脸，跑了出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这件事已经过去了好几年，不过现在想想：自己以前确实很可笑，我现在总算知道了：童年真是不懂事，竟然做出这样可笑的事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要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忆生活，选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件自己做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者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别人做的自己目睹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趣、可笑的事情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抓住人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语言、动作、神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特点描写，“用一件事表达人物某一方面的特点”的写法，比较连贯地写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材围绕“可笑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材是关键，选择别人不会做的，而自己做了的，最能体现“可笑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外婆家，玩弄一只小鸡，被一只大公鸡追赶着，直喊救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捣蛋惹祸了，没被人发现。（打碎了花瓶，没被人发现，就用汤圆皮黏住碎的地方，竟然没有被发现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淘米时看见白白胖胖的小家伙在米里爬动，以为是蚕宝宝，就小心地取出来，放在一个点心盒子里，去采桑叶喂养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迪生小时候的故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读到爱迪生用小苏打想使自己飞上天的故事 ，也学着做，喝了好多苏打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换新牙刷，我刷牙时用力的刷，想把它刷烂了，可是没想到却将自己的牙龈给刷出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那些事情中，可以看出，我、他（她）是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某穿大鞋、大衣服和涂口红，看出他（她）是个天真可爱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某拆玩具，看出了他（她）是个爱动脑，动手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某把洗面奶当牙膏，看出了他（她）有个粗心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过程要围绕“可笑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贝当 可笑的举动表现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举动就是包括“语言、动作、神态”等一系列的描写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1641600"/>
            <a:ext cx="91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彩缤纷的生活中可笑的事像朵朵浪花，令人回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有一件事我现在想起来还忍不住捧腹大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小时候惹出的可笑事件就像海滩上那五光十色的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壳一样多，今天我就给大家讲讲最可笑的故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救小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候的可笑的事有很多，但最值得我一想就笑，当属小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那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我的生活中，发生过很多可笑的事，有的已经忘了，但是有一件令我记忆犹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65240" y="404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开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结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件事现在回想起来还能让我开怀大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到今天，我还忘不了这件可笑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呵呵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可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件事已经过去好几年了，但我仍然忘不掉，每当想起来，我都忍不住想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，你们觉得这件事好笑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童年的生活就像一个五彩斑斓的梦，使人留恋，使人向往。童年中的一些趣事常常把我带入美好的梦中。我就挑其中的一件事来写吧！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次，我正在书房里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王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妈妈在客厅看电视。看着，看着，我都入迷了。这时，妈妈叫我去买味精，我没听见，像睡着了一样。过了一会儿，妈妈又叫我，我还是没听见。后来，妈妈不耐烦了，便走进书房，对着我的耳朵旁大吼：“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！”这一吼吓了我一大跳。这时，我才依依不舍地去买东西。路上，我直纳闷：这么热的天，妈妈买“围巾”干吗？不过，我还是买了“围巾”。回到家，我把“围巾”交给妈妈。妈妈呆了，我疑惑不解地问：“妈妈，您没事吧？”“还没事！”妈妈叫道，“我让你买的是味精呀！”这时，我恍然大悟。爸爸走过来，说我真是个小书迷。　　　　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件事现在回想起来还能让我开怀大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童年的记忆里有很多有趣的事情，其中最有趣的就数我和弟弟炒菜那件事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得那天妈妈有事要出去，临走前嘱咐我和弟弟说：“儿子 ，我今天要出去一趟，中午可能回不来了，厨房里有蔬菜和面条，你们自个作饭吧。”我和弟弟异口同声地说：“没问题，妈妈，这对我们来说简直是张飞吃豆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菜一碟。”妈妈听后放心地走了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妈妈走后大约有一个小时，我和弟弟都感到有些饿了，便来到厨房做饭。忽然我想起今天是星期六，电视上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和老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动画片，于是我让弟弟在厨房炒菜，自己却跑到客厅里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和老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了。当我看到猫快要捉住老鼠时，我急切地为老鼠喊起了“加油，加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鼠终于逃脱了。这时弟弟忽然从厨房里跑了出来，他说：“哥哥，你快来吧，你老让我加油，我这都快加了一锅油了，怎么炒菜呀？”我赶紧跑到厨房里一看，呵，那锅里的油足够炸丸子的了，我笑的眼泪都快流出来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回来后，我们把事情的经过一说，她也哈哈大笑起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样，这件事有趣吗？你是否也有类似的事情？如果有，请你也讲讲吧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0:38:31Z</dcterms:created>
  <dc:creator>微软用户</dc:creator>
  <dc:description/>
  <dc:language>en-US</dc:language>
  <cp:lastModifiedBy>SDWM</cp:lastModifiedBy>
  <dcterms:modified xsi:type="dcterms:W3CDTF">2013-10-11T06:32:01Z</dcterms:modified>
  <cp:revision>17</cp:revision>
  <dc:subject/>
  <dc:title>一件可笑的事</dc:title>
</cp:coreProperties>
</file>