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FC17-8584-4731-9107-72D99E9D6D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DB71-D329-4277-B19E-B77BA9BE512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935D-2A03-4FFC-9D07-57426B802A6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206-E77C-44EF-B9EA-E2B9B10A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9A3-EE06-4EA8-B0E0-E19DD56B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E14-B427-40E5-8BCC-772CDE8E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168-BE10-489B-9C7A-6EEA7A16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A0D9-865D-49EB-B85A-E4535984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225B-87A7-4134-B9B5-4E1FBDFA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50D1-CFF7-41E4-BF01-A6FDA6DC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B8D6-83FD-443D-A053-83A5DFA1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CC00-9E53-4A5D-937E-3F6F1894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FE31-D127-499D-99CF-09131619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EE03-0A77-4660-AF3D-5E27572D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2B7-0E3B-40E4-BF24-2E405D9E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0514-1D1B-4D66-B80B-00C531BE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C4DC-5A3C-482C-A052-79A5DFC0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1A6C-95FA-4DBC-97D2-C6BF89BF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A1AA-AA17-4317-B01F-E10770F5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0B05-FE2E-44E5-8C51-1DA0ABDF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75399-D765-406C-8751-63496B43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3E55A-BDCE-4DB3-866D-69CAF968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B04E0-AA50-44FD-BD4D-999E1F91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94F55-B20D-4902-B444-84A67D8D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0D658-2384-4D0F-8E68-D455BF34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A67-61D2-4292-9878-F97A9EA5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E4BE3-087D-437A-9F5B-5D6492A3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C3F20-403E-46DD-80A7-782933AA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67849-B87D-4F41-BFCE-DD9D926B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EBC1-6CD6-481B-BBB2-F74D99BC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B462-DF57-4E4E-B62D-A19C4565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6E1B8-12B7-4A3D-A3C4-69F4952C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697E2-FEAF-4FF2-83A2-D6CF1ACB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C334E-1EEB-470D-BC0B-13EC8231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1F91C-6E84-4D8D-876E-E281C62D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1E42-8C75-4C9B-AC06-245D3664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2E1-F27F-4F13-8576-C55F6DE1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B520-D86D-46C5-9AC2-7300D6D2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1D53D-6BE3-40AE-BBB5-DD89529F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FE653-E70B-409F-82F6-9CA3127B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4FBF9-CB23-429D-B939-F2E306C8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02529-B6B4-48D9-ABF8-8C734F23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80C86-A27B-4459-A49F-CB8A9EEB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89EAC-5FF8-493E-85D2-F83888E0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796F8-52F7-4493-A102-B99B0DB9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621C9-40C7-42B7-806E-2882F0F6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9AC39-B2DC-473A-B4D3-7621D8AD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B47-4B14-4E3C-B819-F57E7905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64114-FBF4-4374-9500-844257D0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AE813-906D-4F7F-8C04-8A6FBC63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DF0E7-1E36-469A-A81B-83AE5CD3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A6654-222C-40FC-A6DE-FBADF675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3AEEC-1C0C-4573-8EF8-02E77DCC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AB35D-C7AB-4678-AFD2-1CEE626F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9DCF3-1816-4AEA-A66A-BCD65C05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11EA3-D86E-4A76-9755-C59E55B7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AFDE2-1BC9-43BC-9E44-A2BFAD14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9E2A6-7920-4759-B3E4-0FC77C1E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F32-4AD3-47FF-8D70-83D2CCB3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8DFCE-2ED2-4C39-963A-4D7D76A4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6B5-B2A3-49E2-B7BB-7D6B2338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DB3-B022-49CB-8A71-B01996A8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82B-2C36-43B7-A113-B8E45335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0C9F-D8D3-4D54-AEB3-A32FC9F8E9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930240"/>
            <a:ext cx="2749680" cy="5913360"/>
          </a:xfrm>
          <a:prstGeom prst="rect">
            <a:avLst/>
          </a:prstGeom>
          <a:ln w="0">
            <a:noFill/>
          </a:ln>
        </p:spPr>
      </p:pic>
      <p:sp>
        <p:nvSpPr>
          <p:cNvPr id="42" name="菱形 7"/>
          <p:cNvSpPr/>
          <p:nvPr/>
        </p:nvSpPr>
        <p:spPr>
          <a:xfrm>
            <a:off x="3092400" y="811080"/>
            <a:ext cx="457200" cy="457200"/>
          </a:xfrm>
          <a:prstGeom prst="diamond">
            <a:avLst/>
          </a:prstGeom>
          <a:solidFill>
            <a:srgbClr val="6aa926"/>
          </a:solidFill>
          <a:ln w="25560">
            <a:solidFill>
              <a:srgbClr val="6aa926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菱形 8"/>
          <p:cNvSpPr/>
          <p:nvPr/>
        </p:nvSpPr>
        <p:spPr>
          <a:xfrm>
            <a:off x="3092400" y="1549440"/>
            <a:ext cx="457200" cy="457200"/>
          </a:xfrm>
          <a:prstGeom prst="diamond">
            <a:avLst/>
          </a:prstGeom>
          <a:solidFill>
            <a:srgbClr val="6aa926"/>
          </a:solidFill>
          <a:ln w="25560">
            <a:solidFill>
              <a:srgbClr val="6aa926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菱形 9"/>
          <p:cNvSpPr/>
          <p:nvPr/>
        </p:nvSpPr>
        <p:spPr>
          <a:xfrm>
            <a:off x="3092400" y="2135160"/>
            <a:ext cx="457200" cy="457200"/>
          </a:xfrm>
          <a:prstGeom prst="diamond">
            <a:avLst/>
          </a:prstGeom>
          <a:solidFill>
            <a:srgbClr val="6aa926"/>
          </a:solidFill>
          <a:ln w="25560">
            <a:solidFill>
              <a:srgbClr val="6aa926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菱形 10"/>
          <p:cNvSpPr/>
          <p:nvPr/>
        </p:nvSpPr>
        <p:spPr>
          <a:xfrm>
            <a:off x="3092400" y="2827440"/>
            <a:ext cx="457200" cy="457200"/>
          </a:xfrm>
          <a:prstGeom prst="diamond">
            <a:avLst/>
          </a:prstGeom>
          <a:solidFill>
            <a:srgbClr val="6aa926"/>
          </a:solidFill>
          <a:ln w="25560">
            <a:solidFill>
              <a:srgbClr val="6aa926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菱形 11"/>
          <p:cNvSpPr/>
          <p:nvPr/>
        </p:nvSpPr>
        <p:spPr>
          <a:xfrm>
            <a:off x="3092400" y="3548160"/>
            <a:ext cx="457200" cy="457200"/>
          </a:xfrm>
          <a:prstGeom prst="diamond">
            <a:avLst/>
          </a:prstGeom>
          <a:solidFill>
            <a:srgbClr val="6aa926"/>
          </a:solidFill>
          <a:ln w="25560">
            <a:solidFill>
              <a:srgbClr val="6aa926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菱形 12"/>
          <p:cNvSpPr/>
          <p:nvPr/>
        </p:nvSpPr>
        <p:spPr>
          <a:xfrm>
            <a:off x="3092400" y="4195800"/>
            <a:ext cx="457200" cy="457200"/>
          </a:xfrm>
          <a:prstGeom prst="diamond">
            <a:avLst/>
          </a:prstGeom>
          <a:solidFill>
            <a:srgbClr val="6aa926"/>
          </a:solidFill>
          <a:ln w="25560">
            <a:solidFill>
              <a:srgbClr val="6aa926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菱形 13"/>
          <p:cNvSpPr/>
          <p:nvPr/>
        </p:nvSpPr>
        <p:spPr>
          <a:xfrm>
            <a:off x="3092400" y="4906800"/>
            <a:ext cx="457200" cy="457200"/>
          </a:xfrm>
          <a:prstGeom prst="diamond">
            <a:avLst/>
          </a:prstGeom>
          <a:solidFill>
            <a:srgbClr val="6aa926"/>
          </a:solidFill>
          <a:ln w="25560">
            <a:solidFill>
              <a:srgbClr val="6aa926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C078-1FA2-48D2-A434-121A52A2D1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8160" y="60480"/>
            <a:ext cx="9066240" cy="6742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FBC7-0B28-49BD-A50C-591F1487CA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6" descr=""/>
          <p:cNvPicPr/>
          <p:nvPr/>
        </p:nvPicPr>
        <p:blipFill>
          <a:blip r:embed="rId2"/>
          <a:stretch/>
        </p:blipFill>
        <p:spPr>
          <a:xfrm>
            <a:off x="5791320" y="3332160"/>
            <a:ext cx="3352680" cy="35258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7" descr=""/>
          <p:cNvPicPr/>
          <p:nvPr/>
        </p:nvPicPr>
        <p:blipFill>
          <a:blip r:embed="rId3"/>
          <a:stretch/>
        </p:blipFill>
        <p:spPr>
          <a:xfrm rot="15577200">
            <a:off x="6069240" y="6015240"/>
            <a:ext cx="384120" cy="3700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8" descr=""/>
          <p:cNvPicPr/>
          <p:nvPr/>
        </p:nvPicPr>
        <p:blipFill>
          <a:blip r:embed="rId4"/>
          <a:stretch/>
        </p:blipFill>
        <p:spPr>
          <a:xfrm flipH="1" rot="7159800">
            <a:off x="5952600" y="5573160"/>
            <a:ext cx="387360" cy="4096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9" descr=""/>
          <p:cNvPicPr/>
          <p:nvPr/>
        </p:nvPicPr>
        <p:blipFill>
          <a:blip r:embed="rId5"/>
          <a:stretch/>
        </p:blipFill>
        <p:spPr>
          <a:xfrm rot="9738000">
            <a:off x="6518160" y="5843520"/>
            <a:ext cx="301680" cy="3160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0" descr=""/>
          <p:cNvPicPr/>
          <p:nvPr/>
        </p:nvPicPr>
        <p:blipFill>
          <a:blip r:embed="rId6"/>
          <a:stretch/>
        </p:blipFill>
        <p:spPr>
          <a:xfrm>
            <a:off x="5270400" y="5978520"/>
            <a:ext cx="606600" cy="57456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1" descr=""/>
          <p:cNvPicPr/>
          <p:nvPr/>
        </p:nvPicPr>
        <p:blipFill>
          <a:blip r:embed="rId7"/>
          <a:stretch/>
        </p:blipFill>
        <p:spPr>
          <a:xfrm rot="16366200">
            <a:off x="4911480" y="6362640"/>
            <a:ext cx="544320" cy="525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95E2-4AE8-4917-9677-60B7771966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4211640" y="696960"/>
            <a:ext cx="5200560" cy="54687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8284-D1E9-4D23-947B-EE0D027843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179280" y="14479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两头尖尖，肚儿圆圆，脾气不小，内藏元宝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2971800" y="44197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38"/>
          <p:cNvSpPr/>
          <p:nvPr/>
        </p:nvSpPr>
        <p:spPr>
          <a:xfrm>
            <a:off x="1692360" y="51055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ff"/>
                </a:solidFill>
                <a:latin typeface="Arial"/>
                <a:ea typeface="楷体_GB2312"/>
              </a:rPr>
              <a:t>豌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2"/>
          <a:stretch/>
        </p:blipFill>
        <p:spPr>
          <a:xfrm>
            <a:off x="3924360" y="0"/>
            <a:ext cx="543564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文本占位符 1"/>
          <p:cNvSpPr/>
          <p:nvPr/>
        </p:nvSpPr>
        <p:spPr>
          <a:xfrm>
            <a:off x="687240" y="1665360"/>
            <a:ext cx="4138920" cy="3816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徒生：丹麦人，世界闻名童话大师，共创作童话一百六十多篇。其他作品还有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拇指姑娘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锡兵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豆荚里的五粒豆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标题 2"/>
          <p:cNvSpPr/>
          <p:nvPr/>
        </p:nvSpPr>
        <p:spPr>
          <a:xfrm>
            <a:off x="684360" y="32400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  <a:ea typeface="微软雅黑"/>
              </a:rPr>
              <a:t>课前充电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图片 5" descr=""/>
          <p:cNvPicPr/>
          <p:nvPr/>
        </p:nvPicPr>
        <p:blipFill>
          <a:blip r:embed="rId1"/>
          <a:stretch/>
        </p:blipFill>
        <p:spPr>
          <a:xfrm>
            <a:off x="5003640" y="1698480"/>
            <a:ext cx="34909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课程目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559640" cy="468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学会课文的生字新词、多音字并能熟练书写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感情的朗读课文，学会以最简洁的语言来概括文章大意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理解童话故事的教育意义，感受小豌豆的力量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培养学生的理解、概括和想象能力，续写小豌豆的故事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559640" cy="468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先听老师朗读，学生默读，并拿着笔标上自然段落，在文中的生字词或者不理解的词语下面划上横线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开火车朗读，每人读一个自然段。其他同学思考，本文讲了什么故事。用自己的话，用最简洁的语言概括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读一读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1371600" y="2057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  <a:ea typeface="楷体_GB2312"/>
              </a:rPr>
              <a:t>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6477120" y="2057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  <a:ea typeface="楷体_GB2312"/>
              </a:rPr>
              <a:t>扶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124080" y="205740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  <a:ea typeface="楷体_GB2312"/>
              </a:rPr>
              <a:t>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4876920" y="2057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  <a:ea typeface="楷体_GB2312"/>
              </a:rPr>
              <a:t>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066680" y="12952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wā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6477120" y="1295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f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2895480" y="1295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shò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5029200" y="12952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y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1447920" y="46483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6553080" y="46483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嘛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3200400" y="46483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懒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4952880" y="46483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838080" y="365760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pē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655308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m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3124080" y="37339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lǎ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4724280" y="36576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ch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9"/>
          <p:cNvSpPr/>
          <p:nvPr/>
        </p:nvSpPr>
        <p:spPr>
          <a:xfrm>
            <a:off x="1353600" y="2819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豌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20"/>
          <p:cNvSpPr/>
          <p:nvPr/>
        </p:nvSpPr>
        <p:spPr>
          <a:xfrm>
            <a:off x="3209760" y="54864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懒洋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21"/>
          <p:cNvSpPr/>
          <p:nvPr/>
        </p:nvSpPr>
        <p:spPr>
          <a:xfrm>
            <a:off x="3258360" y="2819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瘦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22"/>
          <p:cNvSpPr/>
          <p:nvPr/>
        </p:nvSpPr>
        <p:spPr>
          <a:xfrm>
            <a:off x="4800600" y="2819520"/>
            <a:ext cx="12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移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23"/>
          <p:cNvSpPr/>
          <p:nvPr/>
        </p:nvSpPr>
        <p:spPr>
          <a:xfrm>
            <a:off x="5163480" y="54864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清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24"/>
          <p:cNvSpPr/>
          <p:nvPr/>
        </p:nvSpPr>
        <p:spPr>
          <a:xfrm>
            <a:off x="6477120" y="289548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扶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250920" y="233280"/>
            <a:ext cx="880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生字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多音字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4" name="左大括号 4"/>
          <p:cNvSpPr/>
          <p:nvPr/>
        </p:nvSpPr>
        <p:spPr>
          <a:xfrm>
            <a:off x="4770360" y="1816200"/>
            <a:ext cx="289080" cy="1944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1944720"/>
              <a:gd name="textAreaBottom" fmla="*/ 19375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7"/>
                </a:cubicBezTo>
                <a:lnTo>
                  <a:pt x="10800" y="10533"/>
                </a:lnTo>
                <a:cubicBezTo>
                  <a:pt x="10800" y="10667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7"/>
                </a:cubicBezTo>
                <a:lnTo>
                  <a:pt x="10800" y="21333"/>
                </a:lnTo>
                <a:cubicBezTo>
                  <a:pt x="10800" y="2146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5362560" y="16844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fèng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裂缝）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6"/>
          <p:cNvSpPr/>
          <p:nvPr/>
        </p:nvSpPr>
        <p:spPr>
          <a:xfrm>
            <a:off x="5148360" y="3284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féng </a:t>
            </a:r>
            <a:r>
              <a:rPr b="0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缝扣子）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7"/>
          <p:cNvSpPr/>
          <p:nvPr/>
        </p:nvSpPr>
        <p:spPr>
          <a:xfrm>
            <a:off x="4295880" y="2419200"/>
            <a:ext cx="1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左大括号 8"/>
          <p:cNvSpPr/>
          <p:nvPr/>
        </p:nvSpPr>
        <p:spPr>
          <a:xfrm>
            <a:off x="1038240" y="1816200"/>
            <a:ext cx="289080" cy="1944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1944720"/>
              <a:gd name="textAreaBottom" fmla="*/ 19375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7"/>
                </a:cubicBezTo>
                <a:lnTo>
                  <a:pt x="10800" y="10533"/>
                </a:lnTo>
                <a:cubicBezTo>
                  <a:pt x="10800" y="10667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7"/>
                </a:cubicBezTo>
                <a:lnTo>
                  <a:pt x="10800" y="21333"/>
                </a:lnTo>
                <a:cubicBezTo>
                  <a:pt x="10800" y="2146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1509840" y="16844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luò 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落叶）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0"/>
          <p:cNvSpPr/>
          <p:nvPr/>
        </p:nvSpPr>
        <p:spPr>
          <a:xfrm>
            <a:off x="1593720" y="33764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là  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落下）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1"/>
          <p:cNvSpPr/>
          <p:nvPr/>
        </p:nvSpPr>
        <p:spPr>
          <a:xfrm>
            <a:off x="563400" y="2419200"/>
            <a:ext cx="3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左大括号 12"/>
          <p:cNvSpPr/>
          <p:nvPr/>
        </p:nvSpPr>
        <p:spPr>
          <a:xfrm>
            <a:off x="1001880" y="4044960"/>
            <a:ext cx="288720" cy="1944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1944720"/>
              <a:gd name="textAreaBottom" fmla="*/ 19375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7"/>
                </a:cubicBezTo>
                <a:lnTo>
                  <a:pt x="10800" y="10533"/>
                </a:lnTo>
                <a:cubicBezTo>
                  <a:pt x="10800" y="10667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7"/>
                </a:cubicBezTo>
                <a:lnTo>
                  <a:pt x="10800" y="21333"/>
                </a:lnTo>
                <a:cubicBezTo>
                  <a:pt x="10800" y="2146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1593720" y="39132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huàng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晃动）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4"/>
          <p:cNvSpPr/>
          <p:nvPr/>
        </p:nvSpPr>
        <p:spPr>
          <a:xfrm>
            <a:off x="1557360" y="56055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huǎng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晃眼）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527040" y="4648320"/>
            <a:ext cx="3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1538280" y="249552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lào 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落枕）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左大括号 17"/>
          <p:cNvSpPr/>
          <p:nvPr/>
        </p:nvSpPr>
        <p:spPr>
          <a:xfrm>
            <a:off x="4722840" y="4176720"/>
            <a:ext cx="288720" cy="1944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1944720"/>
              <a:gd name="textAreaBottom" fmla="*/ 19375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7"/>
                </a:cubicBezTo>
                <a:lnTo>
                  <a:pt x="10800" y="10533"/>
                </a:lnTo>
                <a:cubicBezTo>
                  <a:pt x="10800" y="10667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7"/>
                </a:cubicBezTo>
                <a:lnTo>
                  <a:pt x="10800" y="21333"/>
                </a:lnTo>
                <a:cubicBezTo>
                  <a:pt x="10800" y="2146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8"/>
          <p:cNvSpPr/>
          <p:nvPr/>
        </p:nvSpPr>
        <p:spPr>
          <a:xfrm>
            <a:off x="5194440" y="40449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wàn 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蔓儿）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20"/>
          <p:cNvSpPr/>
          <p:nvPr/>
        </p:nvSpPr>
        <p:spPr>
          <a:xfrm>
            <a:off x="4248000" y="4780080"/>
            <a:ext cx="3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21"/>
          <p:cNvSpPr/>
          <p:nvPr/>
        </p:nvSpPr>
        <p:spPr>
          <a:xfrm>
            <a:off x="5194440" y="56055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màn 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蔓延）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4"/>
          <p:cNvSpPr/>
          <p:nvPr/>
        </p:nvSpPr>
        <p:spPr>
          <a:xfrm>
            <a:off x="0" y="72396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近义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震动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震荡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厉害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严重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可怜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怜惜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晃动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摇动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清楚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清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感谢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感激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笑吟吟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笑眯眯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反义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震动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静止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结实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柔弱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清楚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模糊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晃动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平稳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感谢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埋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003840" y="1033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近义词、反义词和形近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左大括号 3"/>
          <p:cNvSpPr/>
          <p:nvPr/>
        </p:nvSpPr>
        <p:spPr>
          <a:xfrm>
            <a:off x="468360" y="4797360"/>
            <a:ext cx="433440" cy="1871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11160 h 1871640"/>
              <a:gd name="textAreaBottom" fmla="*/ 186048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9"/>
                  <a:pt x="10800" y="417"/>
                </a:cubicBezTo>
                <a:lnTo>
                  <a:pt x="10800" y="10383"/>
                </a:lnTo>
                <a:cubicBezTo>
                  <a:pt x="10800" y="10592"/>
                  <a:pt x="5400" y="10800"/>
                  <a:pt x="0" y="10800"/>
                </a:cubicBezTo>
                <a:cubicBezTo>
                  <a:pt x="5400" y="10800"/>
                  <a:pt x="10800" y="11009"/>
                  <a:pt x="10800" y="11217"/>
                </a:cubicBezTo>
                <a:lnTo>
                  <a:pt x="10800" y="21183"/>
                </a:lnTo>
                <a:cubicBezTo>
                  <a:pt x="10800" y="213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1152720" y="4667400"/>
            <a:ext cx="19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971640" y="530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腕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手腕 ）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971640" y="595008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碗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饭碗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）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692360" y="4653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豌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0" y="4724280"/>
            <a:ext cx="10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形近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3493440" y="46404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4346640" y="459432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溜走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419640" y="5157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3708360" y="5229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肿瘤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3419640" y="56674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榴（石榴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5796000" y="429264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荚（ 豆荚   ）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23"/>
          <p:cNvSpPr/>
          <p:nvPr/>
        </p:nvSpPr>
        <p:spPr>
          <a:xfrm>
            <a:off x="5796000" y="5157720"/>
            <a:ext cx="38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峡 （ 山峡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24"/>
          <p:cNvSpPr/>
          <p:nvPr/>
        </p:nvSpPr>
        <p:spPr>
          <a:xfrm>
            <a:off x="6390720" y="589104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侠（  侠士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1600200" y="12193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楷体_GB2312"/>
              </a:rPr>
              <a:t>　　小房子没打开前你读懂了什么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676520" y="32004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　　小豌豆它们都有怎样的愿望和理想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4"/>
          <p:cNvSpPr/>
          <p:nvPr/>
        </p:nvSpPr>
        <p:spPr>
          <a:xfrm>
            <a:off x="1600200" y="11430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楷体_GB2312"/>
              </a:rPr>
              <a:t>　　最大的一颗说，他要跑到很远很远的地方去，谁也追不上他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1371600" y="342900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　　第二颗说，他要飞到太阳里去，那才神气呢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4"/>
          <p:cNvSpPr/>
          <p:nvPr/>
        </p:nvSpPr>
        <p:spPr>
          <a:xfrm>
            <a:off x="1752480" y="99072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　　还有两颗懒洋洋地说，他们滚到哪儿，就在哪儿睡一觉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752480" y="342900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最小的一颗呢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1295280" y="13716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　　他想了想，说：“我可不想飞到太阳里去，也不想跑得很远很远，当然，也不能光想着睡觉哇。我要是能为大家做点儿事，就高兴了。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77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770" fill="hold"/>
                                        <p:tgtEl>
                                          <p:spTgt spid="3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6475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</a:rPr>
              <a:t>一颗小豌豆</a:t>
            </a:r>
            <a:endParaRPr b="1" lang="en-US" sz="6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71640" y="53006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三年级Ｓ版语文上册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187280" y="765000"/>
            <a:ext cx="9604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２０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559640" cy="468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文章提到过几颗豌豆？他们分别有什么理想呢？从这些理想可以看着每颗豌豆的性格是什么样的呢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品一品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187280" y="2852640"/>
          <a:ext cx="6985080" cy="2694240"/>
        </p:xfrm>
        <a:graphic>
          <a:graphicData uri="http://schemas.openxmlformats.org/drawingml/2006/table">
            <a:tbl>
              <a:tblPr/>
              <a:tblGrid>
                <a:gridCol w="1656000"/>
                <a:gridCol w="3000240"/>
                <a:gridCol w="23288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豌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理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性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大的一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跑到很远的地方，谁也追不上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自高自大，目空一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二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飞到太阳里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痴心妄想，爱炫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懒洋洋的两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滚到哪，就在哪睡一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满足现状，贪图安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小的一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能为大家做点儿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乐于助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1219320" y="12952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楷体_GB2312"/>
              </a:rPr>
              <a:t>小房子打开后你读懂了什么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143000" y="29718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楷体_GB2312"/>
              </a:rPr>
              <a:t>小姑娘的病那样重，怎么好起来的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559640" cy="468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那颗最小的豌豆实现了自己“为大家做点儿事”的理想了吗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是怎么实现的呢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到了哪里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一座小楼的窗台上的一条裂缝里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座小楼里住着什么人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一位小姑娘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个小姑娘怎么了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病得很厉害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哪些地方可以看出她病得很厉害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在小屋里躺了一年多了，下不了床，连坐也坐不起来。小脸儿瘦瘦的，黄黄的，全身一点力气也没有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品一品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0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5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0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5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0" dur="5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5" dur="5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0" dur="500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5" dur="500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559640" cy="468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个小姑娘后来发生了什么变化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品一品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187280" y="2492280"/>
          <a:ext cx="6096240" cy="3054600"/>
        </p:xfrm>
        <a:graphic>
          <a:graphicData uri="http://schemas.openxmlformats.org/drawingml/2006/table">
            <a:tbl>
              <a:tblPr/>
              <a:tblGrid>
                <a:gridCol w="2016360"/>
                <a:gridCol w="40798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小豌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小姑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长出叶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心里很高兴，把床移到窗户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猛劲儿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脸色好多了，还能自己坐起来，坐上整整一个钟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开花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高兴极了，扶着窗台，慢慢地站起来了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QDI4B}OSQ96]@9HY){LGZ~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559640" cy="468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那大家现在能说出小豌豆是通过什么帮助到这个小姑娘的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小豌豆在土壤贫瘠，缺少阳光雨露的窗台裂缝里生长，需要很顽强的生命力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他努力地发芽、开花，用自己的勃勃生机鼓励小姑娘，陪伴着小姑娘成长，终于使小姑娘慢慢好起来了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觉得这是一颗什么样的小豌豆？用几个词语来形容他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生命力很顽强、为他人着想，乐于助人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品一品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775280" cy="468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再次朗读课文，在你喜欢的句子下面划上波浪线。会请同学起来分享你喜欢这个句子的原因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下面几个句子是老师喜欢的句子。你能想出老师为什么喜欢它们吗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一个豌豆荚，绿莹莹的，好像一间绿色的小房子。里面并排坐着五颗绿莹莹的豌豆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比喻句以及拟人句。将豌豆荚比作绿色的小房子，非常生动。将豌豆当做人来写，说明他们排列的很整齐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春天到了，树枝该吐出小芽儿来了，小草也该从土里钻出小脑袋来了！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拟人句，将小草当做人来写，写出了春天的勃勃生机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品一品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559640" cy="468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让你看到我绿色的叶子，让你看到我粉红的花，让你跟我一样，长啊，长啊，长得好起来，我就非常高兴了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排比句，以较强的气势来表明小豌豆助人为乐的精神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品一品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1523880" y="289548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长出小叶               长出豆藤               猛劲儿的长         开出粉红的花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3809880" y="3276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Line 6"/>
          <p:cNvSpPr/>
          <p:nvPr/>
        </p:nvSpPr>
        <p:spPr>
          <a:xfrm>
            <a:off x="2209680" y="3809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Line 7"/>
          <p:cNvSpPr/>
          <p:nvPr/>
        </p:nvSpPr>
        <p:spPr>
          <a:xfrm>
            <a:off x="6781680" y="3886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1523880" y="114300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　　按照这个线索，体会小豌豆对小姑娘的爱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559640" cy="468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从小豌豆那儿学到了什么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要助人为乐，要尽自己的能力去帮助别人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又从小姑娘那里学到什么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从周围的人或者事物中获取积极的能量来战胜困难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说一说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0" y="1341360"/>
            <a:ext cx="11160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豌豆花</a:t>
            </a:r>
            <a:r>
              <a:rPr b="0" lang="zh-CN" sz="5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1258920" y="0"/>
            <a:ext cx="7885080" cy="698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559640" cy="468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照样子写词语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白花花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绿         懒        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滴         笑 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括号里填上合适的词语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练一练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0" name="直接连接符 5"/>
          <p:cNvSpPr/>
          <p:nvPr/>
        </p:nvSpPr>
        <p:spPr>
          <a:xfrm>
            <a:off x="363528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直接连接符 6"/>
          <p:cNvSpPr/>
          <p:nvPr/>
        </p:nvSpPr>
        <p:spPr>
          <a:xfrm>
            <a:off x="3635280" y="3500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直接连接符 7"/>
          <p:cNvSpPr/>
          <p:nvPr/>
        </p:nvSpPr>
        <p:spPr>
          <a:xfrm>
            <a:off x="1619280" y="3500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直接连接符 8"/>
          <p:cNvSpPr/>
          <p:nvPr/>
        </p:nvSpPr>
        <p:spPr>
          <a:xfrm>
            <a:off x="161928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914400" y="414972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）的豌豆荚  （     ）的豌豆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）的小脸    （     ）的小姑娘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）的小花    （     ）的叶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55640" y="1341360"/>
            <a:ext cx="7848720" cy="468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给下列句子加上标点符号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豌豆们快活地叫了起来  啊  我们的小房子   快要打开了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小姑娘乐得叫了起来  啊  小豌豆开花了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小姑娘高兴极了  她扶着窗台  慢慢地  慢慢地  站起来了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小豌豆好像在说  让你看到我绿色的叶子  让你看到我粉红色的花  让你跟我一样  长啊  长啊  长得好起来  我就非常高兴了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练一练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559640" cy="468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最小的那颗小豌豆的故事已经讲完了，那其他小豌豆会遇到什么呢？请发挥你的想象，选择其中一颗小豌豆的故事讲给大家听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天，豌豆荚打开了，五颗豌豆滴溜溜地滚了出来，落在一个小男孩的手心里，小男孩有一支神奇的玩具手枪，他把豌豆一颗一颗地装进枪筒，又“砰砰”地把它们打了出去，最大的一颗豌豆飞到了丛林里，他惊讶地叫道：“哇！这里真美呀！”蓝天下面满眼绿色，绿茵茵的的草地上开满了各种各样的野花儿，有洁白如雪的百合花，有金灿灿的野菊花，还有粉红色的喇叭花，它们就像给丛林穿上了一双双漂亮的绣花鞋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写一写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559640" cy="468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豌豆滚呀滚呀，滚到了一棵大树下面，忽然，他被一块香蕉皮给盖住了，他想：是谁乱扔果皮呀？他抬头一看，原来是几只调皮的猴子，他们正在树上耍闹着。大豌豆生气地说：“你们为什么乱扔垃圾呀？”猴子们没理他，还把苹果核丢向他，大豌豆赶紧跑了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豌豆滚呀滚呀，滚到了草丛中，他看见一只可爱的小白兔正在刨土，大豌豆惊奇地问：“小白兔，你在干什么呢？”小白兔回答：“我在建造房子呢！”大豌豆这才恍然大悟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写一写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8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559640" cy="468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豌豆告别了小白兔又滚呀滚呀，他滚到了一颗大松树旁，一只松鼠从树上跳了下来，大豌豆问：“你的尾巴真漂亮，你是谁呀？”“你不知道我是谁？告诉你呀，我就是鼎鼎有名的松鼠，今天，你就是我的美味盘中餐了。”松鼠说完就扑向大豌豆，大豌豆见了吓得屁滚尿流，他赶紧逃跑，松鼠紧追不舍，大豌豆看见前面有个土缝便滚了进去，松鼠不知道大豌豆滚到哪里去了，只好无可奈何地走了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此，大豌豆就在这里安下了家。日子一天天过去，转眼春天来了，大豌豆生根发芽长出了嫩绿的叶子，不久还开出了粉红色的小花，给丛林增添了几份迷人的美丽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写一写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5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0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1752480" y="1752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楷体_GB2312"/>
              </a:rPr>
              <a:t>　　你喜欢小豌豆吗，为什么。想象一下其他的四颗小豌豆又会发生什么故事呢？写一写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559640" cy="468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生字词带拼音每个写五遍，多音字每个一遍。写在小楷本上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完成同步训练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课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920" y="2857320"/>
            <a:ext cx="795168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aa926"/>
                </a:solidFill>
                <a:latin typeface="微软雅黑"/>
              </a:rPr>
              <a:t>	</a:t>
            </a:r>
            <a:r>
              <a:rPr b="1" lang="zh-CN" sz="7200" spc="-1" strike="noStrike">
                <a:solidFill>
                  <a:srgbClr val="6aa926"/>
                </a:solidFill>
                <a:latin typeface="微软雅黑"/>
              </a:rPr>
              <a:t>谢  谢</a:t>
            </a:r>
            <a:endParaRPr b="1" lang="en-US" sz="7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79280" y="2438280"/>
            <a:ext cx="7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楷体_GB2312"/>
                <a:ea typeface="楷体_GB2312"/>
              </a:rPr>
              <a:t>豌 豆</a:t>
            </a:r>
            <a:r>
              <a:rPr b="0" lang="zh-CN" sz="5400" spc="-1" strike="noStrike">
                <a:solidFill>
                  <a:srgbClr val="ff6699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1116000" y="0"/>
            <a:ext cx="8028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9652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cc00ff"/>
                </a:solidFill>
                <a:latin typeface="Calibri"/>
              </a:rPr>
              <a:t>课文讲了一颗小豌豆什么样的故事，请你说一说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79280" y="25700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课文讲述了一颗小豌豆帮助一个得了重病的小姑娘身体得到康复，实现了它做好事的心愿的故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745080" y="811080"/>
            <a:ext cx="431928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课前充电站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745080" y="1528920"/>
            <a:ext cx="431928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读一读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745080" y="2168640"/>
            <a:ext cx="431928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生字词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&amp;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多音字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745080" y="2827440"/>
            <a:ext cx="431928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品一品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745080" y="3548160"/>
            <a:ext cx="431928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说一说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745080" y="4195800"/>
            <a:ext cx="431928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745080" y="4908600"/>
            <a:ext cx="431928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写一写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8964720" cy="5402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看图片，猜故事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840880" cy="836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课前充电站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52" name="图片 3" descr=""/>
          <p:cNvPicPr/>
          <p:nvPr/>
        </p:nvPicPr>
        <p:blipFill>
          <a:blip r:embed="rId1"/>
          <a:stretch/>
        </p:blipFill>
        <p:spPr>
          <a:xfrm>
            <a:off x="0" y="1341360"/>
            <a:ext cx="4427640" cy="489600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4" descr=""/>
          <p:cNvPicPr/>
          <p:nvPr/>
        </p:nvPicPr>
        <p:blipFill>
          <a:blip r:embed="rId2"/>
          <a:stretch/>
        </p:blipFill>
        <p:spPr>
          <a:xfrm>
            <a:off x="4500720" y="1341360"/>
            <a:ext cx="4643280" cy="48229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"/>
          <p:cNvSpPr/>
          <p:nvPr/>
        </p:nvSpPr>
        <p:spPr>
          <a:xfrm>
            <a:off x="1116000" y="6237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丑小鸭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5219640" y="6237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的女儿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10" descr=""/>
          <p:cNvPicPr/>
          <p:nvPr/>
        </p:nvPicPr>
        <p:blipFill>
          <a:blip r:embed="rId1"/>
          <a:stretch/>
        </p:blipFill>
        <p:spPr>
          <a:xfrm>
            <a:off x="7659720" y="1440"/>
            <a:ext cx="714240" cy="5335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2771640" y="6165720"/>
            <a:ext cx="27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皇帝的新装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445600" cy="129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课前充电站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59" name="图片 4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971280" y="6165360"/>
            <a:ext cx="6769080" cy="69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卖火柴的小女孩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765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ckwell Extra Bold"/>
              </a:rPr>
              <a:t>课前充电站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62" name="图片 3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9T11:28:56Z</dcterms:created>
  <dc:creator>Administrator</dc:creator>
  <dc:description/>
  <dc:language>en-US</dc:language>
  <cp:lastModifiedBy>Administrator</cp:lastModifiedBy>
  <dcterms:modified xsi:type="dcterms:W3CDTF">2015-11-19T05:57:21Z</dcterms:modified>
  <cp:revision>76</cp:revision>
  <dc:subject/>
  <dc:title>PowerPoint 演示文稿</dc:title>
</cp:coreProperties>
</file>