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998-CBC5-40FC-9F1D-E45C08E1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658-D1DE-44C4-B82A-6024710E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2C0-756D-42A2-AA5D-9CD737E7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5C6-702D-4E59-9344-90C74F19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931-87B7-42EA-9D3D-4A927C97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135-0A9E-422D-AB2E-02FB548A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6D1-0F4B-44A5-86A9-FA5DC068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C9A-7492-497C-B67C-D7677AFF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2EA-F819-4C92-9538-2358ED89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C97-9488-47F7-9420-30003928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8D0-B172-4768-A574-61E3BC5F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AD4-F16F-4FF6-85B7-8FBF315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BAF1-BF5C-4C25-8F51-32D2171CB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梅花鹿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70088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990720" y="5257800"/>
            <a:ext cx="7543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一只梅花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1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角差点儿送了我的命，而难看的腿却让我狮口逃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不要只注重外表的形象，而要讲求实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嗬，这身栗红色皮衣油亮油亮的，上面的斑点雪白雪白，这一定是世界上最好看的的外套了！我的身段那么匀称，简直可以做模特儿啦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438280" y="30492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品读感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身栗红色皮衣油亮的，上面的斑点雪白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身栗红色皮衣油亮油亮的，上面的斑点雪白雪白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品读感悟</a:t>
            </a:r>
            <a:br>
              <a:rPr sz="6000"/>
            </a:b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嘿，我的角精美别致，好像美丽的珊瑚！如果像猴子那样顶着一个秃瓢儿，真该羞死人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品读感悟</a:t>
            </a:r>
            <a:br>
              <a:rPr sz="6000"/>
            </a:br>
            <a:br>
              <a:rPr sz="60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唉，这四条腿真是美中不足，太干巴了，那雪花一样的斑点也少得可怜，要是我的腿更美丽一些，我不就可以当个出色的芭蕾舞演员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9296280" cy="74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花鹿不敢犹豫，撒腿就跑。他有力的长腿在灌木丛中蹦来跳去，不一会儿，就把凶猛的狮子远远的甩在了后面。就在狮子灰心丧气，不想再追的时候，梅花鹿的角却被树枝挂住了。狮子赶紧 抓住这个机会，猛扑过来。眼看就要追上了，梅花鹿用尽全身力气，使劲一扯，才把两只角从树枝中挣脱出来，然 后又拼命向前奔去。这次狮子再也没有追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5248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角差点送了我的命，可难看的腿却让我狮口逃生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95280" y="6858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品读感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想对梅花鹿说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假如你是那只梅花鹿，你会对大家说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梅花鹿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4"/>
          <p:cNvSpPr/>
          <p:nvPr/>
        </p:nvSpPr>
        <p:spPr>
          <a:xfrm>
            <a:off x="7238880" y="9144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认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7238880" y="19051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学新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238880" y="28195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听录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7238880" y="37339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7238880" y="47242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说文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7238880" y="56386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获启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伊索寓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是一本世界文学名著。作者以拟人的笔法，借助动物的行为语言，展现出人性的善与恶，让人获得生活的经验和人生哲理的启示。其形式简洁精练，内容隽永，把深奥含义寓于浅显生动的语言中，耐人寻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多元训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课文内容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篇（         ）主要讲的是（              ）在池水中看到了自己的影子，他认为自己的角（          ），而自己的腿（       ），结果当遇到凶猛的狮子时，他深切地体会到（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默写课文的生字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认    一   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   斑   匀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秃   泛   演   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凶   甩   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学一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2590920"/>
            <a:ext cx="8839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叹     斑点    匀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演员     抱怨    挣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不绝口    没精打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梅花鹿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70088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990720" y="5257800"/>
            <a:ext cx="7543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一只梅花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6" name="2 一只梅花鹿.wma" descr=""/>
          <p:cNvPicPr/>
          <p:nvPr/>
        </p:nvPicPr>
        <p:blipFill>
          <a:blip r:embed="rId2"/>
          <a:stretch/>
        </p:blipFill>
        <p:spPr>
          <a:xfrm>
            <a:off x="4038480" y="640080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1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1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</cp:lastModifiedBy>
  <dcterms:modified xsi:type="dcterms:W3CDTF">2014-12-30T07:33:56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