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5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33.png" ContentType="image/png"/>
  <Override PartName="/ppt/media/image14.jpeg" ContentType="image/jpeg"/>
  <Override PartName="/ppt/media/image10.jpeg" ContentType="image/jpeg"/>
  <Override PartName="/ppt/media/image5.gif" ContentType="image/gif"/>
  <Override PartName="/ppt/media/image28.png" ContentType="image/png"/>
  <Override PartName="/ppt/media/image26.jpeg" ContentType="image/jpeg"/>
  <Override PartName="/ppt/media/image7.gif" ContentType="image/gif"/>
  <Override PartName="/ppt/media/image32.jpeg" ContentType="image/jpeg"/>
  <Override PartName="/ppt/media/image18.jpeg" ContentType="image/jpeg"/>
  <Override PartName="/ppt/media/image8.gif" ContentType="image/gif"/>
  <Override PartName="/ppt/media/image6.gif" ContentType="image/gif"/>
  <Override PartName="/ppt/media/image29.png" ContentType="image/png"/>
  <Override PartName="/ppt/media/image3.gif" ContentType="image/gif"/>
  <Override PartName="/ppt/media/image30.jpeg" ContentType="image/jpeg"/>
  <Override PartName="/ppt/media/image31.jpeg" ContentType="image/jpeg"/>
  <Override PartName="/ppt/media/image11.jpeg" ContentType="image/jpeg"/>
  <Override PartName="/ppt/media/image1.jpeg" ContentType="image/jpeg"/>
  <Override PartName="/ppt/media/image22.jpeg" ContentType="image/jpeg"/>
  <Override PartName="/ppt/media/click.wav" ContentType="audio/x-wav"/>
  <Override PartName="/ppt/media/image34.png" ContentType="image/png"/>
  <Override PartName="/ppt/media/image12.jpeg" ContentType="image/jpeg"/>
  <Override PartName="/ppt/media/image13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2.gif" ContentType="image/gif"/>
  <Override PartName="/ppt/media/image19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365-3E2E-46E9-B79A-C50C9204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AA0-E505-4259-9407-D0DC4D48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146-890F-42FF-B156-D4FD7855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E8A-507A-4351-9D9E-8C1F69E6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C4F-0874-4CFD-A448-7FB916A1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B3D-72C7-48AF-A0C8-DB347BD6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25D-CA2D-4F25-8522-693AE5C8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D12-7201-4DD5-AC36-4C1600D1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EDE-FD00-4FFD-AE36-F042CCD5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36A-4611-4EDE-A6A7-CEAC72A9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B7E-D1DE-4C59-8EF2-1223FCF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2BB-9419-4F8A-B7E1-9272800B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5D63-A525-4A71-A7AA-035E8597F0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4.gif"/><Relationship Id="rId13" Type="http://schemas.openxmlformats.org/officeDocument/2006/relationships/image" Target="../media/image6.gif"/><Relationship Id="rId14" Type="http://schemas.openxmlformats.org/officeDocument/2006/relationships/image" Target="../media/image7.gif"/><Relationship Id="rId15" Type="http://schemas.openxmlformats.org/officeDocument/2006/relationships/hyperlink" Target="http://img2.3lian.com/img2007/12/29/0001.gif" TargetMode="External"/><Relationship Id="rId16" Type="http://schemas.openxmlformats.org/officeDocument/2006/relationships/image" Target="../media/image8.gif"/><Relationship Id="rId17" Type="http://schemas.openxmlformats.org/officeDocument/2006/relationships/hyperlink" Target="http://img2.3lian.com/img2007/15/14/002.gif" TargetMode="External"/><Relationship Id="rId18" Type="http://schemas.openxmlformats.org/officeDocument/2006/relationships/image" Target="../media/image9.gif"/><Relationship Id="rId19" Type="http://schemas.openxmlformats.org/officeDocument/2006/relationships/audio" Target="../media/click.wav"/><Relationship Id="rId2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image" Target="../media/image26.jpeg"/><Relationship Id="rId5" Type="http://schemas.openxmlformats.org/officeDocument/2006/relationships/image" Target="../media/image20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484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Arial"/>
              </a:rPr>
              <a:t>9 </a:t>
            </a:r>
            <a:r>
              <a:rPr b="0" lang="zh-CN" sz="7200" spc="-1" strike="noStrike">
                <a:solidFill>
                  <a:srgbClr val="ff00ff"/>
                </a:solidFill>
                <a:latin typeface="Arial"/>
              </a:rPr>
              <a:t>雨   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1512720" cy="1403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43280" y="5300640"/>
            <a:ext cx="685800" cy="757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340000" y="3573360"/>
            <a:ext cx="2176560" cy="328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84720" y="3573360"/>
            <a:ext cx="2879640" cy="328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356000" y="5445000"/>
            <a:ext cx="1351080" cy="10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27640" y="5805360"/>
            <a:ext cx="1350720" cy="1052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792920" y="4149720"/>
            <a:ext cx="1351080" cy="1339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284720" y="5518080"/>
            <a:ext cx="1584360" cy="133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900000" y="5734080"/>
            <a:ext cx="135108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39640" y="5013360"/>
            <a:ext cx="1351080" cy="162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3429000"/>
            <a:ext cx="287964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0" y="4508640"/>
            <a:ext cx="3132000" cy="22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5219640" y="4338720"/>
            <a:ext cx="1297080" cy="251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50920" y="11592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236000" y="-243000"/>
            <a:ext cx="1763640" cy="198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19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48360" y="1125360"/>
            <a:ext cx="1871640" cy="1151280"/>
          </a:xfrm>
          <a:prstGeom prst="wedgeEllipseCallout">
            <a:avLst>
              <a:gd name="adj1" fmla="val -46185"/>
              <a:gd name="adj2" fmla="val 662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好开心啊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740720" y="587700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96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7280" y="1012680"/>
            <a:ext cx="1730520" cy="4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3600360" cy="454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81040" y="2482200"/>
            <a:ext cx="5763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后的广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2565360"/>
            <a:ext cx="1944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想去雨后的广场看看、玩玩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4764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hì       jiàn      mèi     huá       lí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yá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赤</a:t>
            </a:r>
            <a:r>
              <a:rPr b="0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溅  </a:t>
            </a:r>
            <a:r>
              <a:rPr b="0" lang="zh-CN" sz="4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妹</a:t>
            </a:r>
            <a:r>
              <a:rPr b="0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滑  淋  </a:t>
            </a:r>
            <a:r>
              <a:rPr b="0" lang="zh-CN" sz="4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kù        zāogāo      biàn     chún    qú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  糟糕   辫  唇  裙</a:t>
            </a:r>
            <a:r>
              <a:rPr b="0" lang="zh-CN" sz="4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huāi j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   xiān      pāi      yàng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摔跤  </a:t>
            </a:r>
            <a:r>
              <a:rPr b="0" lang="zh-CN" sz="4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仙 </a:t>
            </a:r>
            <a:r>
              <a:rPr b="0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拍</a:t>
            </a:r>
            <a:r>
              <a:rPr b="0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样   迸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hén      jiǎo       gē         tòng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ju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</a:t>
            </a:r>
            <a:r>
              <a:rPr b="0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脚</a:t>
            </a:r>
            <a:r>
              <a:rPr b="0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哥</a:t>
            </a:r>
            <a:r>
              <a:rPr b="0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痛   撅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 rot="5400000">
            <a:off x="-1231200" y="2534400"/>
            <a:ext cx="4176720" cy="121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扫除生字障碍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360" y="333360"/>
            <a:ext cx="352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会读词语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3" name=""/>
          <p:cNvSpPr/>
          <p:nvPr/>
        </p:nvSpPr>
        <p:spPr>
          <a:xfrm>
            <a:off x="1255680" y="1844640"/>
            <a:ext cx="6886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赤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飞溅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   水淋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   糟糕    小辫儿  唇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裙儿   痛快    迸射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仙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   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拍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    摔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撅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836640"/>
            <a:ext cx="74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他拍拍水淋淋的泥裤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嘴里说：“糟糕——糟糕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0"/>
            <a:ext cx="352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会读句子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836640"/>
            <a:ext cx="74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他拍拍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水淋淋的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泥裤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嘴里说：“糟糕——糟糕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0"/>
            <a:ext cx="352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会读句子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5640" y="1125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小妹妹撅着两条短粗的小辫儿，紧紧地跟在泥裤子后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0"/>
            <a:ext cx="352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会读句子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112536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小妹妹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撅着两条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短粗的小辫儿，紧紧地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跟在泥裤子后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0"/>
            <a:ext cx="352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会读句子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1280" y="90792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心里却希望自己也这么痛快地摔一跤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0"/>
            <a:ext cx="352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会读句子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105264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心里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却希望自己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也这么痛快地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摔一跤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0"/>
            <a:ext cx="352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会读句子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0" r="0" b="3691"/>
          <a:stretch/>
        </p:blipFill>
        <p:spPr>
          <a:xfrm>
            <a:off x="57240" y="-71280"/>
            <a:ext cx="9086760" cy="66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95640" y="33577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雨后荷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4648" t="10087" r="0" b="0"/>
          <a:stretch/>
        </p:blipFill>
        <p:spPr>
          <a:xfrm>
            <a:off x="4716360" y="364500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1624" t="0" r="0" b="2173"/>
          <a:stretch/>
        </p:blipFill>
        <p:spPr>
          <a:xfrm>
            <a:off x="4716360" y="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rcRect l="0" t="0" r="0" b="6165"/>
          <a:stretch/>
        </p:blipFill>
        <p:spPr>
          <a:xfrm>
            <a:off x="0" y="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0" y="6093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rcRect l="0" t="8394" r="0" b="0"/>
          <a:stretch/>
        </p:blipFill>
        <p:spPr>
          <a:xfrm>
            <a:off x="0" y="3645000"/>
            <a:ext cx="4643280" cy="3240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47640" y="1916280"/>
            <a:ext cx="61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雨后小朋友玩水、踩水的欢乐场景，那么多快乐似神仙的孩子，你最喜欢小诗中的谁呢？为什么？请你把描写他的句子找出来读给大家听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148104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19280" y="1773360"/>
            <a:ext cx="316872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nèn l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嫩 绿的树梢闪着金光，广场上成了一片海洋！水里一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chì jiǎ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赤  脚 的孩子，快乐得好像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神仙一样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722480" y="4050360"/>
            <a:ext cx="3382200" cy="2141640"/>
            <a:chOff x="4722480" y="4050360"/>
            <a:chExt cx="3382200" cy="2141640"/>
          </a:xfrm>
        </p:grpSpPr>
        <p:sp>
          <p:nvSpPr>
            <p:cNvPr id="133" name=""/>
            <p:cNvSpPr/>
            <p:nvPr/>
          </p:nvSpPr>
          <p:spPr>
            <a:xfrm rot="378600">
              <a:off x="4811760" y="4220640"/>
              <a:ext cx="3203640" cy="1800360"/>
            </a:xfrm>
            <a:prstGeom prst="cloudCallout">
              <a:avLst>
                <a:gd name="adj1" fmla="val -87532"/>
                <a:gd name="adj2" fmla="val -548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8360" y="4437000"/>
              <a:ext cx="2592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广场成了欢乐的海洋，你仿佛看到了什么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932360" y="1989000"/>
            <a:ext cx="2808360" cy="21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11640" y="2060640"/>
            <a:ext cx="4176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哥哥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劲地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踩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着水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jiàn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水花儿溅得高高。他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hu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，小心，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滑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”说着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jiā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己就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滑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跤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16720" y="4938480"/>
            <a:ext cx="2879280" cy="1739880"/>
            <a:chOff x="4716720" y="4938480"/>
            <a:chExt cx="2879280" cy="1739880"/>
          </a:xfrm>
        </p:grpSpPr>
        <p:sp>
          <p:nvSpPr>
            <p:cNvPr id="139" name=""/>
            <p:cNvSpPr/>
            <p:nvPr/>
          </p:nvSpPr>
          <p:spPr>
            <a:xfrm rot="378600">
              <a:off x="4787640" y="5084280"/>
              <a:ext cx="2736720" cy="1447920"/>
            </a:xfrm>
            <a:prstGeom prst="cloudCallout">
              <a:avLst>
                <a:gd name="adj1" fmla="val 40509"/>
                <a:gd name="adj2" fmla="val -10432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59280" y="5300640"/>
              <a:ext cx="25927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600" spc="-1" strike="noStrike">
                  <a:solidFill>
                    <a:srgbClr val="ff3399"/>
                  </a:solidFill>
                  <a:latin typeface="Times New Roman"/>
                  <a:ea typeface="楷体_GB2312"/>
                </a:rPr>
                <a:t>你觉得这个小哥哥怎么样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403280" y="2060640"/>
            <a:ext cx="251136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19280" y="2492280"/>
            <a:ext cx="381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拍拍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淋淋的泥裤子，嘴里说：“糟糕——糟糕！”而他通红欢喜的脸上却迸射出兴奋和骄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74880" y="1603800"/>
            <a:ext cx="3412080" cy="2428200"/>
            <a:chOff x="5474880" y="1603800"/>
            <a:chExt cx="3412080" cy="2428200"/>
          </a:xfrm>
        </p:grpSpPr>
        <p:sp>
          <p:nvSpPr>
            <p:cNvPr id="145" name=""/>
            <p:cNvSpPr/>
            <p:nvPr/>
          </p:nvSpPr>
          <p:spPr>
            <a:xfrm rot="378600">
              <a:off x="5580000" y="1773360"/>
              <a:ext cx="3201840" cy="2089080"/>
            </a:xfrm>
            <a:prstGeom prst="cloudCallout">
              <a:avLst>
                <a:gd name="adj1" fmla="val -55217"/>
                <a:gd name="adj2" fmla="val 5343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3440" y="1924200"/>
              <a:ext cx="25923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600" spc="-1" strike="noStrike">
                  <a:solidFill>
                    <a:srgbClr val="ff3399"/>
                  </a:solidFill>
                  <a:latin typeface="Times New Roman"/>
                  <a:ea typeface="楷体_GB2312"/>
                </a:rPr>
                <a:t>小哥哥心里在想什么？你能学学这小哥哥的样来说说吗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08000" y="1933560"/>
            <a:ext cx="57596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哥哥滑了一跤，把裤子弄脏了，可是为什么嘴里喊着糟糕，糟糕，脸上却发射出兴奋和骄傲呢？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3240" y="1459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作讨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3549600"/>
            <a:ext cx="561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600" spc="-1" strike="noStrike">
                <a:solidFill>
                  <a:srgbClr val="0033cc"/>
                </a:solidFill>
                <a:latin typeface="宋体"/>
              </a:rPr>
              <a:t>tiá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小哥哥很调皮，他觉得这样很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600" spc="-1" strike="noStrike">
                <a:solidFill>
                  <a:srgbClr val="0033cc"/>
                </a:solidFill>
                <a:latin typeface="Times New Roman"/>
              </a:rPr>
              <a:t>q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玩，找到了生活的乐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4508640"/>
            <a:ext cx="169092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6255360" y="1698840"/>
            <a:ext cx="3002040" cy="2511000"/>
            <a:chOff x="6255360" y="1698840"/>
            <a:chExt cx="3002040" cy="2511000"/>
          </a:xfrm>
        </p:grpSpPr>
        <p:sp>
          <p:nvSpPr>
            <p:cNvPr id="153" name=""/>
            <p:cNvSpPr/>
            <p:nvPr/>
          </p:nvSpPr>
          <p:spPr>
            <a:xfrm rot="378600">
              <a:off x="6368760" y="1844280"/>
              <a:ext cx="2774880" cy="2219400"/>
            </a:xfrm>
            <a:prstGeom prst="cloudCallout">
              <a:avLst>
                <a:gd name="adj1" fmla="val -66828"/>
                <a:gd name="adj2" fmla="val 4107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50000" y="2060640"/>
              <a:ext cx="2232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2600" spc="-1" strike="noStrike">
                  <a:solidFill>
                    <a:srgbClr val="ff3399"/>
                  </a:solidFill>
                  <a:latin typeface="Times New Roman"/>
                  <a:ea typeface="楷体_GB2312"/>
                </a:rPr>
                <a:t>小妹妹怎样玩水？谁能学着她的样来演一演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1640" y="1700280"/>
            <a:ext cx="56894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juē             bià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妹妹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撅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两条短粗的小辫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jǐn       kù             chú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紧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跟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泥裤子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面，她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唇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tí  qún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提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裙儿</a:t>
            </a:r>
            <a:r>
              <a:rPr b="1" lang="zh-CN" sz="2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轻轻地小心地</a:t>
            </a:r>
            <a:r>
              <a:rPr b="1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跑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心里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shuāi  tòn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kuài   jiā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自己</a:t>
            </a:r>
            <a:r>
              <a:rPr b="1" lang="zh-CN" sz="2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也摔这么  痛 快 的一跤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19280" y="1628640"/>
            <a:ext cx="6264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妹妹心里在想什么？她那么小心地跟在哥哥后面，可是为什么心里希望也摔一跤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28880" y="10526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作讨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2781360"/>
            <a:ext cx="676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tíxǐn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    diē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听了哥哥的提 醒，又见哥哥跌了一跤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想玩水又有些害怕，可是她太喜欢雨水了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xiàn m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觉得哥哥这样子很有趣，好羡  慕哥哥。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2600" spc="-1" strike="noStrike">
                <a:solidFill>
                  <a:srgbClr val="ff3399"/>
                </a:solidFill>
                <a:latin typeface="宋体"/>
              </a:rPr>
              <a:t>zì há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为有这样的哥哥而感到快乐和自 豪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92360" y="2060640"/>
            <a:ext cx="4319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一起来分角色进行朗读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35520" y="3662640"/>
            <a:ext cx="2496960" cy="1477800"/>
            <a:chOff x="3935520" y="3662640"/>
            <a:chExt cx="2496960" cy="1477800"/>
          </a:xfrm>
        </p:grpSpPr>
        <p:sp>
          <p:nvSpPr>
            <p:cNvPr id="164" name=""/>
            <p:cNvSpPr/>
            <p:nvPr/>
          </p:nvSpPr>
          <p:spPr>
            <a:xfrm rot="378600">
              <a:off x="3995640" y="3789360"/>
              <a:ext cx="2376360" cy="1224000"/>
            </a:xfrm>
            <a:prstGeom prst="cloudCallout">
              <a:avLst>
                <a:gd name="adj1" fmla="val 94856"/>
                <a:gd name="adj2" fmla="val 4855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43400" y="3933720"/>
              <a:ext cx="2089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600" spc="-1" strike="noStrike">
                  <a:solidFill>
                    <a:srgbClr val="ff3399"/>
                  </a:solidFill>
                  <a:latin typeface="Times New Roman"/>
                  <a:ea typeface="楷体_GB2312"/>
                </a:rPr>
                <a:t>我还会表演呢！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692360" y="2565360"/>
            <a:ext cx="17730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569960"/>
            <a:ext cx="22096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近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378160"/>
            <a:ext cx="411480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喜——欢乐   快乐——高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心——当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——仿佛   骄傲——自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159876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反义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2692440"/>
            <a:ext cx="3889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糕——精彩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喜——悲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骄傲——谦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后——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>
            <a:hlinkClick r:id="rId2" action="ppaction://hlinksldjump"/>
          </p:cNvPr>
          <p:cNvSpPr/>
          <p:nvPr/>
        </p:nvSpPr>
        <p:spPr>
          <a:xfrm>
            <a:off x="2638800" y="896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3421080" y="592200"/>
            <a:ext cx="76320" cy="152388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435480" y="239760"/>
            <a:ext cx="9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1719360"/>
            <a:ext cx="9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379040" y="1768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好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305960" y="26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好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3543" t="4617" r="3543" b="4617"/>
          <a:stretch/>
        </p:blipFill>
        <p:spPr>
          <a:xfrm>
            <a:off x="380880" y="228600"/>
            <a:ext cx="8496360" cy="622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7280" y="2924280"/>
            <a:ext cx="352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雨后竹叶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4560" y="298440"/>
            <a:ext cx="3736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楷体_GB2312"/>
              </a:rPr>
              <a:t>填一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 </a:t>
            </a:r>
            <a:r>
              <a:rPr b="1" lang="zh-CN" sz="5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使劲地 </a:t>
            </a:r>
            <a:r>
              <a:rPr b="1" lang="zh-CN" sz="5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地踩水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 </a:t>
            </a:r>
            <a:r>
              <a:rPr b="1" lang="zh-CN" sz="5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紧紧地 </a:t>
            </a:r>
            <a:r>
              <a:rPr b="1" lang="zh-CN" sz="5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地跟在后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5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心</a:t>
            </a:r>
            <a:r>
              <a:rPr b="1" lang="zh-CN" sz="5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）地跑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5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高兴</a:t>
            </a:r>
            <a:r>
              <a:rPr b="1" lang="zh-CN" sz="5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）地叫起来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0" r="0" b="3899"/>
          <a:stretch/>
        </p:blipFill>
        <p:spPr>
          <a:xfrm>
            <a:off x="0" y="0"/>
            <a:ext cx="9144000" cy="664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7280" y="3213000"/>
            <a:ext cx="374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雨后彩虹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56000" y="2997360"/>
            <a:ext cx="1728720" cy="1223640"/>
          </a:xfrm>
          <a:prstGeom prst="wedgeEllipseCallout">
            <a:avLst>
              <a:gd name="adj1" fmla="val 4912"/>
              <a:gd name="adj2" fmla="val 78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妈妈，下雨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060640"/>
            <a:ext cx="2017800" cy="1368360"/>
          </a:xfrm>
          <a:prstGeom prst="wedgeEllipseCallout">
            <a:avLst>
              <a:gd name="adj1" fmla="val -43782"/>
              <a:gd name="adj2" fmla="val 62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当然可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205000"/>
            <a:ext cx="1979640" cy="2085840"/>
          </a:xfrm>
          <a:prstGeom prst="wedgeEllipseCallout">
            <a:avLst>
              <a:gd name="adj1" fmla="val 59703"/>
              <a:gd name="adj2" fmla="val 568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让我们出去玩会儿好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48360" y="620640"/>
            <a:ext cx="3168720" cy="1440000"/>
          </a:xfrm>
          <a:prstGeom prst="wedgeEllipseCallout">
            <a:avLst>
              <a:gd name="adj1" fmla="val -60268"/>
              <a:gd name="adj2" fmla="val 383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下雨了，伙伴们快出来玩啊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00720" y="1844640"/>
            <a:ext cx="2232000" cy="863640"/>
          </a:xfrm>
          <a:prstGeom prst="wedgeRoundRectCallout">
            <a:avLst>
              <a:gd name="adj1" fmla="val -44379"/>
              <a:gd name="adj2" fmla="val 6507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空气真清新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692280"/>
            <a:ext cx="2376360" cy="1079280"/>
          </a:xfrm>
          <a:prstGeom prst="wedgeRoundRectCallout">
            <a:avLst>
              <a:gd name="adj1" fmla="val 44856"/>
              <a:gd name="adj2" fmla="val 6588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其他小伙伴都在干嘛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52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0" y="1413000"/>
            <a:ext cx="2664000" cy="129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空气真好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88000" y="476280"/>
            <a:ext cx="3600360" cy="1873080"/>
          </a:xfrm>
          <a:prstGeom prst="cloudCallout">
            <a:avLst>
              <a:gd name="adj1" fmla="val -61111"/>
              <a:gd name="adj2" fmla="val 344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朋友们都在干嘛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189000"/>
            <a:ext cx="3240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雨后的我们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程瑜</cp:lastModifiedBy>
  <dcterms:modified xsi:type="dcterms:W3CDTF">2016-01-06T06:06:15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