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8.jpeg" ContentType="image/jpeg"/>
  <Override PartName="/ppt/media/image12.jpeg" ContentType="image/jpeg"/>
  <Override PartName="/ppt/media/image6.png" ContentType="image/png"/>
  <Override PartName="/ppt/media/image3.gif" ContentType="image/gif"/>
  <Override PartName="/ppt/media/image9.png" ContentType="image/png"/>
  <Override PartName="/ppt/media/image21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17.png" ContentType="image/png"/>
  <Override PartName="/ppt/media/image16.gif" ContentType="image/gif"/>
  <Override PartName="/ppt/media/image5.gif" ContentType="image/gif"/>
  <Override PartName="/ppt/media/image14.jpeg" ContentType="image/jpeg"/>
  <Override PartName="/ppt/media/image1.png" ContentType="image/png"/>
  <Override PartName="/ppt/media/image2.jpeg" ContentType="image/jpeg"/>
  <Override PartName="/ppt/media/image7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DC41-E202-4799-9372-FB209958E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7C82-7906-4274-B07B-8EFF19D2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E1AF-F028-4C6C-9891-0C4F2ABC1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80D4-3F03-4287-BABF-A860F8B7A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46F8-5A70-4985-850C-9C92722A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B40C-1AA4-433B-8D54-41F6E8F5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E329-9D73-4EF4-B913-9F987C5C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4ACF-363A-4EFB-B07D-31A00C82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9468-701A-4BE0-9B1F-C999F47B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0C3D-36A1-49FA-9114-0481CB4E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E133-FE94-4807-B849-3E43B86D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619A-1EAB-4A1A-90BD-80862B09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4796-26BB-4C5E-B9A2-F05DC40B1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3lian.com/gif/DetailView.htm?Detail=http://img4.3lian.com/sucai/img6/649/12.gif" TargetMode="External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xy2.163.com/activity/06spring/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427mu.info/7235.html" TargetMode="External"/><Relationship Id="rId3" Type="http://schemas.openxmlformats.org/officeDocument/2006/relationships/image" Target="../media/image16.gi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hyperlink" Target="http://www.3lian.com/gif/DetailView.htm?Detail=http://img3.3lian.com/2006/020/17/20051230111922967.gif" TargetMode="External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83908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203640" y="2708280"/>
            <a:ext cx="3313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元日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5229360"/>
            <a:ext cx="439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7312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8000" y="-243000"/>
            <a:ext cx="421164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24360" y="2202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27640" y="2539080"/>
            <a:ext cx="4176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2501"/>
                </a:solidFill>
                <a:latin typeface="Arial"/>
              </a:rPr>
              <a:t>王安石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宋代著名政治家、诗人。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岁以前，随父南北各地游历，了解到老百姓的疾苦。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岁中进士，当过十多年的地方官，做了许多有益于国家发展、人民安康的事情。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9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岁时被任命为宰相，为了国富民强，他积极进行改革，推行新政。《元日》这首诗正是担任宰相之后推行新政时写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0" t="0" r="2305" b="10337"/>
          <a:stretch/>
        </p:blipFill>
        <p:spPr>
          <a:xfrm>
            <a:off x="108000" y="189000"/>
            <a:ext cx="8932680" cy="61498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-181440" y="188640"/>
            <a:ext cx="7489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在王安石担任宰相之后，积极推行新法，《元日》就写于这一年的春节。在他的心目中，新的国家政策好像春风浩荡，阳光普照，一定会给国家带来了欣欣向荣、人民安居乐业的新气象，此时此刻，王安石的心情怎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43657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隶书"/>
                <a:ea typeface="隶书"/>
              </a:rPr>
              <a:t>兴 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11280" y="4365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隶书"/>
                <a:ea typeface="隶书"/>
              </a:rPr>
              <a:t>激 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40360" y="436572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隶书"/>
                <a:ea typeface="隶书"/>
              </a:rPr>
              <a:t>充 满 信 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8360" y="1773360"/>
            <a:ext cx="385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cc66ff"/>
                </a:solidFill>
                <a:latin typeface="Arial"/>
                <a:ea typeface="楷体_GB2312"/>
              </a:rPr>
              <a:t>一岁除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172360" y="6021360"/>
            <a:ext cx="971640" cy="836640"/>
          </a:xfrm>
          <a:custGeom>
            <a:avLst/>
            <a:gdLst>
              <a:gd name="textAreaLeft" fmla="*/ 52200 w 971640"/>
              <a:gd name="textAreaRight" fmla="*/ 919440 w 971640"/>
              <a:gd name="textAreaTop" fmla="*/ 52200 h 836640"/>
              <a:gd name="textAreaBottom" fmla="*/ 784440 h 836640"/>
            </a:gdLst>
            <a:ahLst/>
            <a:rect l="textAreaLeft" t="textAreaTop" r="textAreaRight" b="textAreaBottom"/>
            <a:pathLst>
              <a:path w="25084" h="21600">
                <a:moveTo>
                  <a:pt x="0" y="0"/>
                </a:moveTo>
                <a:lnTo>
                  <a:pt x="25084" y="0"/>
                </a:lnTo>
                <a:lnTo>
                  <a:pt x="25084" y="21600"/>
                </a:lnTo>
                <a:lnTo>
                  <a:pt x="0" y="21600"/>
                </a:lnTo>
                <a:close/>
              </a:path>
              <a:path fill="lightenLess" w="25084" h="21600">
                <a:moveTo>
                  <a:pt x="0" y="0"/>
                </a:moveTo>
                <a:lnTo>
                  <a:pt x="25084" y="0"/>
                </a:lnTo>
                <a:lnTo>
                  <a:pt x="23734" y="1350"/>
                </a:lnTo>
                <a:lnTo>
                  <a:pt x="1350" y="1350"/>
                </a:lnTo>
                <a:close/>
              </a:path>
              <a:path fill="darken" w="25084" h="21600">
                <a:moveTo>
                  <a:pt x="25084" y="0"/>
                </a:moveTo>
                <a:lnTo>
                  <a:pt x="25084" y="21600"/>
                </a:lnTo>
                <a:lnTo>
                  <a:pt x="23734" y="20250"/>
                </a:lnTo>
                <a:lnTo>
                  <a:pt x="23734" y="1350"/>
                </a:lnTo>
                <a:close/>
              </a:path>
              <a:path fill="darkenLess" w="25084" h="21600">
                <a:moveTo>
                  <a:pt x="2508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734" y="20250"/>
                </a:lnTo>
                <a:close/>
              </a:path>
              <a:path fill="lighten" w="2508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4117"/>
                </a:srgbClr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13143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59280" y="3429000"/>
            <a:ext cx="42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cc66ff"/>
                </a:solidFill>
                <a:latin typeface="Arial"/>
                <a:ea typeface="楷体_GB2312"/>
              </a:rPr>
              <a:t>一年过去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87280" y="1413000"/>
            <a:ext cx="1224000" cy="576000"/>
          </a:xfrm>
          <a:custGeom>
            <a:avLst/>
            <a:gdLst>
              <a:gd name="textAreaLeft" fmla="*/ 36000 w 1224000"/>
              <a:gd name="textAreaRight" fmla="*/ 1188000 w 1224000"/>
              <a:gd name="textAreaTop" fmla="*/ 36000 h 576000"/>
              <a:gd name="textAreaBottom" fmla="*/ 540000 h 576000"/>
            </a:gdLst>
            <a:ahLst/>
            <a:rect l="textAreaLeft" t="textAreaTop" r="textAreaRight" b="textAreaBottom"/>
            <a:pathLst>
              <a:path w="45885" h="21600">
                <a:moveTo>
                  <a:pt x="0" y="0"/>
                </a:moveTo>
                <a:lnTo>
                  <a:pt x="45885" y="0"/>
                </a:lnTo>
                <a:lnTo>
                  <a:pt x="45885" y="21600"/>
                </a:lnTo>
                <a:lnTo>
                  <a:pt x="0" y="21600"/>
                </a:lnTo>
                <a:close/>
              </a:path>
              <a:path fill="lightenLess" w="45885" h="21600">
                <a:moveTo>
                  <a:pt x="0" y="0"/>
                </a:moveTo>
                <a:lnTo>
                  <a:pt x="45885" y="0"/>
                </a:lnTo>
                <a:lnTo>
                  <a:pt x="44535" y="1350"/>
                </a:lnTo>
                <a:lnTo>
                  <a:pt x="1350" y="1350"/>
                </a:lnTo>
                <a:close/>
              </a:path>
              <a:path fill="darken" w="45885" h="21600">
                <a:moveTo>
                  <a:pt x="45885" y="0"/>
                </a:moveTo>
                <a:lnTo>
                  <a:pt x="45885" y="21600"/>
                </a:lnTo>
                <a:lnTo>
                  <a:pt x="44535" y="20250"/>
                </a:lnTo>
                <a:lnTo>
                  <a:pt x="44535" y="1350"/>
                </a:lnTo>
                <a:close/>
              </a:path>
              <a:path fill="darkenLess" w="45885" h="21600">
                <a:moveTo>
                  <a:pt x="4588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4535" y="20250"/>
                </a:lnTo>
                <a:close/>
              </a:path>
              <a:path fill="lighten" w="4588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64000" y="191628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岁，指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64000" y="263700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除，除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0"/>
            <a:ext cx="2771640" cy="5877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4200 w 684360"/>
              <a:gd name="textAreaRight" fmla="*/ 650160 w 684360"/>
              <a:gd name="textAreaTop" fmla="*/ 34200 h 549360"/>
              <a:gd name="textAreaBottom" fmla="*/ 51516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55" y="1350"/>
                </a:lnTo>
                <a:lnTo>
                  <a:pt x="1350" y="135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55" y="20250"/>
                </a:lnTo>
                <a:lnTo>
                  <a:pt x="25555" y="135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555" y="2025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88240" y="109224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99ff"/>
                </a:solidFill>
                <a:latin typeface="Arial"/>
              </a:rPr>
              <a:t>爆竹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84360" y="148428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古人烧竹子时发出的爆裂声。传说能用来驱鬼避邪，后来变成放鞭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28000" y="6165720"/>
            <a:ext cx="1116000" cy="692280"/>
          </a:xfrm>
          <a:custGeom>
            <a:avLst/>
            <a:gdLst>
              <a:gd name="textAreaLeft" fmla="*/ 43200 w 1116000"/>
              <a:gd name="textAreaRight" fmla="*/ 1072800 w 1116000"/>
              <a:gd name="textAreaTop" fmla="*/ 43200 h 692280"/>
              <a:gd name="textAreaBottom" fmla="*/ 649080 h 692280"/>
            </a:gdLst>
            <a:ahLst/>
            <a:rect l="textAreaLeft" t="textAreaTop" r="textAreaRight" b="textAreaBottom"/>
            <a:pathLst>
              <a:path w="34814" h="21600">
                <a:moveTo>
                  <a:pt x="0" y="0"/>
                </a:moveTo>
                <a:lnTo>
                  <a:pt x="34814" y="0"/>
                </a:lnTo>
                <a:lnTo>
                  <a:pt x="34814" y="21600"/>
                </a:lnTo>
                <a:lnTo>
                  <a:pt x="0" y="21600"/>
                </a:lnTo>
                <a:close/>
              </a:path>
              <a:path fill="lightenLess" w="34814" h="21600">
                <a:moveTo>
                  <a:pt x="0" y="0"/>
                </a:moveTo>
                <a:lnTo>
                  <a:pt x="34814" y="0"/>
                </a:lnTo>
                <a:lnTo>
                  <a:pt x="33464" y="1350"/>
                </a:lnTo>
                <a:lnTo>
                  <a:pt x="1350" y="1350"/>
                </a:lnTo>
                <a:close/>
              </a:path>
              <a:path fill="darken" w="34814" h="21600">
                <a:moveTo>
                  <a:pt x="34814" y="0"/>
                </a:moveTo>
                <a:lnTo>
                  <a:pt x="34814" y="21600"/>
                </a:lnTo>
                <a:lnTo>
                  <a:pt x="33464" y="20250"/>
                </a:lnTo>
                <a:lnTo>
                  <a:pt x="33464" y="1350"/>
                </a:lnTo>
                <a:close/>
              </a:path>
              <a:path fill="darkenLess" w="34814" h="21600">
                <a:moveTo>
                  <a:pt x="3481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3464" y="20250"/>
                </a:lnTo>
                <a:close/>
              </a:path>
              <a:path fill="lighten" w="3481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4117"/>
                </a:srgbClr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87280" y="2127600"/>
            <a:ext cx="79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屠苏</a:t>
            </a:r>
            <a:r>
              <a:rPr b="0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：屠苏酒。古时候的风俗，每年除夕家家用屠苏草泡酒，吊在井里，春节取出来，全家老小朝东喝屠苏酒。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大年初一全家合饮这种用屠苏草浸泡的酒，以驱邪避瘟疫，求得长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411280" cy="3048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50920" y="3573360"/>
            <a:ext cx="889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　　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古代人在礼仪上一般讲究先长后幼，可是只有饮这屠苏酒时是先幼后长！有诗为证：“不觉老将春共至，手把屠苏让少年。”这正是因为新春开元，年轻人又长了一岁，充满着朝气和活力。长辈们希望他们在新年里能有新的作为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9640" y="1557360"/>
            <a:ext cx="5580000" cy="23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00ff"/>
                </a:solidFill>
                <a:latin typeface="Arial"/>
                <a:ea typeface="楷体_GB2312"/>
              </a:rPr>
              <a:t>曈曈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200 w 468360"/>
              <a:gd name="textAreaRight" fmla="*/ 443160 w 468360"/>
              <a:gd name="textAreaTop" fmla="*/ 25200 h 404640"/>
              <a:gd name="textAreaBottom" fmla="*/ 37944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648" y="1350"/>
                </a:lnTo>
                <a:lnTo>
                  <a:pt x="1350" y="135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648" y="20250"/>
                </a:lnTo>
                <a:lnTo>
                  <a:pt x="23648" y="135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648" y="2025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ffffff">
              <a:alpha val="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44000" y="6165720"/>
            <a:ext cx="900000" cy="692280"/>
          </a:xfrm>
          <a:custGeom>
            <a:avLst/>
            <a:gdLst>
              <a:gd name="textAreaLeft" fmla="*/ 43200 w 900000"/>
              <a:gd name="textAreaRight" fmla="*/ 856800 w 900000"/>
              <a:gd name="textAreaTop" fmla="*/ 43200 h 692280"/>
              <a:gd name="textAreaBottom" fmla="*/ 649080 h 692280"/>
            </a:gdLst>
            <a:ahLst/>
            <a:rect l="textAreaLeft" t="textAreaTop" r="textAreaRight" b="textAreaBottom"/>
            <a:pathLst>
              <a:path w="28078" h="21600">
                <a:moveTo>
                  <a:pt x="0" y="0"/>
                </a:moveTo>
                <a:lnTo>
                  <a:pt x="28078" y="0"/>
                </a:lnTo>
                <a:lnTo>
                  <a:pt x="28078" y="21600"/>
                </a:lnTo>
                <a:lnTo>
                  <a:pt x="0" y="21600"/>
                </a:lnTo>
                <a:close/>
              </a:path>
              <a:path fill="lightenLess" w="28078" h="21600">
                <a:moveTo>
                  <a:pt x="0" y="0"/>
                </a:moveTo>
                <a:lnTo>
                  <a:pt x="28078" y="0"/>
                </a:lnTo>
                <a:lnTo>
                  <a:pt x="26728" y="1350"/>
                </a:lnTo>
                <a:lnTo>
                  <a:pt x="1350" y="1350"/>
                </a:lnTo>
                <a:close/>
              </a:path>
              <a:path fill="darken" w="28078" h="21600">
                <a:moveTo>
                  <a:pt x="28078" y="0"/>
                </a:moveTo>
                <a:lnTo>
                  <a:pt x="28078" y="21600"/>
                </a:lnTo>
                <a:lnTo>
                  <a:pt x="26728" y="20250"/>
                </a:lnTo>
                <a:lnTo>
                  <a:pt x="26728" y="1350"/>
                </a:lnTo>
                <a:close/>
              </a:path>
              <a:path fill="darkenLess" w="28078" h="21600">
                <a:moveTo>
                  <a:pt x="2807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728" y="20250"/>
                </a:lnTo>
                <a:close/>
              </a:path>
              <a:path fill="lighten" w="2807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4117"/>
                </a:srgbClr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24000" y="4221000"/>
            <a:ext cx="40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50920" y="3645000"/>
            <a:ext cx="561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太阳升起时光亮耀眼的样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003640" y="0"/>
            <a:ext cx="392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桃符：是一种绘有神像，挂在门上避邪的桃木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4788000" cy="5975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148360" y="2349360"/>
            <a:ext cx="3527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d60093"/>
                </a:solidFill>
                <a:latin typeface="Arial"/>
              </a:rPr>
              <a:t>天下的鬼都怕这两个神人。于是民间就用桃木刻成他们的模样，放在自家门口，以避邪防害。后来，人们干脆在桃木板上刻上神人的名字，认为这样做同样可以镇邪去恶。这种桃木板后来就被叫做“桃符”。时至今日就演变成现在的春联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古代一种风俗，农历正月初一时人们用桃木板写上神茶、郁垒两位神灵的名字，悬挂在门旁，用来压邪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924360" y="1484280"/>
            <a:ext cx="1224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在噼噼啪啪的爆竹声中，旧的一年过去了，新的一年来到了。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172360" cy="61311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迎着和煦的春风，开怀畅饮屠苏酒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 rot="21017400">
            <a:off x="468000" y="0"/>
            <a:ext cx="1081080" cy="3933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8551800" y="6265800"/>
            <a:ext cx="59220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46490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47640" y="476280"/>
            <a:ext cx="496908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6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屠   曈</a:t>
            </a:r>
            <a:r>
              <a:rPr b="1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628640"/>
            <a:ext cx="122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屠 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56000" y="1557360"/>
            <a:ext cx="15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曈曈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92360" y="4076640"/>
            <a:ext cx="12952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爆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爆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爆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爆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87640" y="4076640"/>
            <a:ext cx="1440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苏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复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苏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江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640" y="2781360"/>
            <a:ext cx="504036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3716280"/>
            <a:ext cx="49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92360" y="2781360"/>
            <a:ext cx="511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爆 苏 桃 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78136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95640" y="278136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92720" y="278136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3357720"/>
            <a:ext cx="504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24000" y="2781360"/>
            <a:ext cx="0" cy="115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19640" y="278136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3280" y="278136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0360" y="278136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84720" y="4076640"/>
            <a:ext cx="93672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桃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桃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桃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桃色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4076640"/>
            <a:ext cx="1368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桃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符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音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符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50920" y="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ú               tó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97440" y="206064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19280" y="2103480"/>
            <a:ext cx="54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ào        sū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1845000">
            <a:off x="4214520" y="1485000"/>
            <a:ext cx="10033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Arial"/>
              </a:rPr>
              <a:t>谢    谢    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27280" cy="2693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268360" y="3860640"/>
            <a:ext cx="2808360" cy="2997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0" y="4194000"/>
            <a:ext cx="1979640" cy="2664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4716360" y="4437000"/>
            <a:ext cx="3097440" cy="213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点击查看原图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0920" y="333360"/>
            <a:ext cx="866520" cy="259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文件:14.gif  &lt;br&gt;  尺寸:52 × 128  "/>
          <p:cNvPicPr/>
          <p:nvPr/>
        </p:nvPicPr>
        <p:blipFill>
          <a:blip r:embed="rId7"/>
          <a:srcRect l="-2762" t="1270" r="0" b="0"/>
          <a:stretch/>
        </p:blipFill>
        <p:spPr>
          <a:xfrm>
            <a:off x="8317080" y="4005360"/>
            <a:ext cx="776160" cy="2558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rcRect l="0" t="0" r="-532" b="5406"/>
          <a:stretch/>
        </p:blipFill>
        <p:spPr>
          <a:xfrm>
            <a:off x="6227640" y="189000"/>
            <a:ext cx="1940040" cy="2043000"/>
          </a:xfrm>
          <a:prstGeom prst="rect">
            <a:avLst/>
          </a:prstGeom>
          <a:ln w="0">
            <a:noFill/>
          </a:ln>
        </p:spPr>
      </p:pic>
      <p:grpSp>
        <p:nvGrpSpPr>
          <p:cNvPr id="72" name=""/>
          <p:cNvGrpSpPr/>
          <p:nvPr/>
        </p:nvGrpSpPr>
        <p:grpSpPr>
          <a:xfrm>
            <a:off x="3564000" y="260280"/>
            <a:ext cx="2232000" cy="2305080"/>
            <a:chOff x="3564000" y="260280"/>
            <a:chExt cx="2232000" cy="2305080"/>
          </a:xfrm>
        </p:grpSpPr>
        <p:pic>
          <p:nvPicPr>
            <p:cNvPr id="73" name="" descr=""/>
            <p:cNvPicPr/>
            <p:nvPr/>
          </p:nvPicPr>
          <p:blipFill>
            <a:blip r:embed="rId9"/>
            <a:stretch/>
          </p:blipFill>
          <p:spPr>
            <a:xfrm>
              <a:off x="3564000" y="260280"/>
              <a:ext cx="223200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 txBox="1"/>
            <p:nvPr/>
          </p:nvSpPr>
          <p:spPr>
            <a:xfrm>
              <a:off x="3564000" y="260280"/>
              <a:ext cx="2232000" cy="230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684360" y="2852640"/>
            <a:ext cx="734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鞭炮连天   恭贺新禧   张灯结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欢聚一堂   普天同庆   喜气洋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-1971720"/>
            <a:ext cx="9144000" cy="10153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00000" y="5803920"/>
            <a:ext cx="7777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隶书"/>
              </a:rPr>
              <a:t>全 家 人 围 坐 观 看 春 节 联 欢 晚 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0" r="6973" b="8000"/>
          <a:stretch/>
        </p:blipFill>
        <p:spPr>
          <a:xfrm>
            <a:off x="324000" y="260280"/>
            <a:ext cx="8505720" cy="63104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55640" y="1988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自读要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00000" y="4292640"/>
            <a:ext cx="7812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边读边把不懂的字或词用圈圈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249228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把整首诗读通、读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00000" y="3573360"/>
            <a:ext cx="7954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通过自己的朗读，试着把节律画出来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00" y="54936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用自己喜欢的方式再来读读古诗，边读边想边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00000" y="1916280"/>
            <a:ext cx="777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、从这首诗中，你知道了古人过节时的哪些风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、请用“？”标出不理解词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564000" y="234936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2205000"/>
            <a:ext cx="718920" cy="432000"/>
          </a:xfrm>
          <a:custGeom>
            <a:avLst/>
            <a:gdLst>
              <a:gd name="textAreaLeft" fmla="*/ 27000 w 718920"/>
              <a:gd name="textAreaRight" fmla="*/ 691920 w 718920"/>
              <a:gd name="textAreaTop" fmla="*/ 27000 h 432000"/>
              <a:gd name="textAreaBottom" fmla="*/ 405000 h 432000"/>
            </a:gdLst>
            <a:ahLst/>
            <a:rect l="textAreaLeft" t="textAreaTop" r="textAreaRight" b="textAreaBottom"/>
            <a:pathLst>
              <a:path w="35934" h="21600">
                <a:moveTo>
                  <a:pt x="0" y="0"/>
                </a:moveTo>
                <a:lnTo>
                  <a:pt x="35934" y="0"/>
                </a:lnTo>
                <a:lnTo>
                  <a:pt x="35934" y="21600"/>
                </a:lnTo>
                <a:lnTo>
                  <a:pt x="0" y="21600"/>
                </a:lnTo>
                <a:close/>
              </a:path>
              <a:path fill="lightenLess" w="35934" h="21600">
                <a:moveTo>
                  <a:pt x="0" y="0"/>
                </a:moveTo>
                <a:lnTo>
                  <a:pt x="35934" y="0"/>
                </a:lnTo>
                <a:lnTo>
                  <a:pt x="34584" y="1350"/>
                </a:lnTo>
                <a:lnTo>
                  <a:pt x="1350" y="1350"/>
                </a:lnTo>
                <a:close/>
              </a:path>
              <a:path fill="darken" w="35934" h="21600">
                <a:moveTo>
                  <a:pt x="35934" y="0"/>
                </a:moveTo>
                <a:lnTo>
                  <a:pt x="35934" y="21600"/>
                </a:lnTo>
                <a:lnTo>
                  <a:pt x="34584" y="20250"/>
                </a:lnTo>
                <a:lnTo>
                  <a:pt x="34584" y="1350"/>
                </a:lnTo>
                <a:close/>
              </a:path>
              <a:path fill="darkenLess" w="35934" h="21600">
                <a:moveTo>
                  <a:pt x="3593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4584" y="20250"/>
                </a:lnTo>
                <a:close/>
              </a:path>
              <a:path fill="lighten" w="3593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5934" h="21600">
                <a:moveTo>
                  <a:pt x="10923" y="3756"/>
                </a:moveTo>
                <a:lnTo>
                  <a:pt x="25011" y="10800"/>
                </a:lnTo>
                <a:lnTo>
                  <a:pt x="10923" y="17844"/>
                </a:lnTo>
                <a:close/>
              </a:path>
            </a:pathLst>
          </a:custGeom>
          <a:solidFill>
            <a:srgbClr val="000000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03640" y="2781360"/>
            <a:ext cx="720720" cy="431640"/>
          </a:xfrm>
          <a:custGeom>
            <a:avLst/>
            <a:gdLst>
              <a:gd name="textAreaLeft" fmla="*/ 27000 w 720720"/>
              <a:gd name="textAreaRight" fmla="*/ 694080 w 720720"/>
              <a:gd name="textAreaTop" fmla="*/ 27000 h 431640"/>
              <a:gd name="textAreaBottom" fmla="*/ 40500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704" y="1350"/>
                </a:lnTo>
                <a:lnTo>
                  <a:pt x="1350" y="135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704" y="20250"/>
                </a:lnTo>
                <a:lnTo>
                  <a:pt x="34704" y="135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4704" y="2025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6054" h="21600">
                <a:moveTo>
                  <a:pt x="10983" y="3756"/>
                </a:moveTo>
                <a:lnTo>
                  <a:pt x="25071" y="10800"/>
                </a:lnTo>
                <a:lnTo>
                  <a:pt x="10983" y="17844"/>
                </a:lnTo>
                <a:close/>
              </a:path>
            </a:pathLst>
          </a:custGeom>
          <a:solidFill>
            <a:srgbClr val="000000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3640" y="3355920"/>
            <a:ext cx="718920" cy="433440"/>
          </a:xfrm>
          <a:custGeom>
            <a:avLst/>
            <a:gdLst>
              <a:gd name="textAreaLeft" fmla="*/ 27000 w 718920"/>
              <a:gd name="textAreaRight" fmla="*/ 691920 w 718920"/>
              <a:gd name="textAreaTop" fmla="*/ 27000 h 433440"/>
              <a:gd name="textAreaBottom" fmla="*/ 406440 h 433440"/>
            </a:gdLst>
            <a:ahLst/>
            <a:rect l="textAreaLeft" t="textAreaTop" r="textAreaRight" b="textAreaBottom"/>
            <a:pathLst>
              <a:path w="35815" h="21600">
                <a:moveTo>
                  <a:pt x="0" y="0"/>
                </a:moveTo>
                <a:lnTo>
                  <a:pt x="35815" y="0"/>
                </a:lnTo>
                <a:lnTo>
                  <a:pt x="35815" y="21600"/>
                </a:lnTo>
                <a:lnTo>
                  <a:pt x="0" y="21600"/>
                </a:lnTo>
                <a:close/>
              </a:path>
              <a:path fill="lightenLess" w="35815" h="21600">
                <a:moveTo>
                  <a:pt x="0" y="0"/>
                </a:moveTo>
                <a:lnTo>
                  <a:pt x="35815" y="0"/>
                </a:lnTo>
                <a:lnTo>
                  <a:pt x="34465" y="1350"/>
                </a:lnTo>
                <a:lnTo>
                  <a:pt x="1350" y="1350"/>
                </a:lnTo>
                <a:close/>
              </a:path>
              <a:path fill="darken" w="35815" h="21600">
                <a:moveTo>
                  <a:pt x="35815" y="0"/>
                </a:moveTo>
                <a:lnTo>
                  <a:pt x="35815" y="21600"/>
                </a:lnTo>
                <a:lnTo>
                  <a:pt x="34465" y="20250"/>
                </a:lnTo>
                <a:lnTo>
                  <a:pt x="34465" y="1350"/>
                </a:lnTo>
                <a:close/>
              </a:path>
              <a:path fill="darkenLess" w="35815" h="21600">
                <a:moveTo>
                  <a:pt x="3581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4465" y="20250"/>
                </a:lnTo>
                <a:close/>
              </a:path>
              <a:path fill="lighten" w="3581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5815" h="21600">
                <a:moveTo>
                  <a:pt x="10864" y="3756"/>
                </a:moveTo>
                <a:lnTo>
                  <a:pt x="24951" y="10800"/>
                </a:lnTo>
                <a:lnTo>
                  <a:pt x="10864" y="17844"/>
                </a:lnTo>
                <a:close/>
              </a:path>
            </a:pathLst>
          </a:custGeom>
          <a:solidFill>
            <a:srgbClr val="000000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64000" y="4005360"/>
            <a:ext cx="431640" cy="431640"/>
          </a:xfrm>
          <a:custGeom>
            <a:avLst/>
            <a:gdLst>
              <a:gd name="textAreaLeft" fmla="*/ 27000 w 431640"/>
              <a:gd name="textAreaRight" fmla="*/ 405000 w 431640"/>
              <a:gd name="textAreaTop" fmla="*/ 27000 h 431640"/>
              <a:gd name="textAreaBottom" fmla="*/ 405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17844" y="10800"/>
                </a:lnTo>
                <a:lnTo>
                  <a:pt x="3756" y="17844"/>
                </a:lnTo>
                <a:close/>
              </a:path>
            </a:pathLst>
          </a:custGeom>
          <a:solidFill>
            <a:srgbClr val="ffffff">
              <a:alpha val="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3640" y="3860640"/>
            <a:ext cx="720720" cy="360360"/>
          </a:xfrm>
          <a:custGeom>
            <a:avLst/>
            <a:gdLst>
              <a:gd name="textAreaLeft" fmla="*/ 22320 w 720720"/>
              <a:gd name="textAreaRight" fmla="*/ 698400 w 72072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828" y="1350"/>
                </a:lnTo>
                <a:lnTo>
                  <a:pt x="1350" y="135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828" y="20250"/>
                </a:lnTo>
                <a:lnTo>
                  <a:pt x="41828" y="135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1828" y="2025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3178" h="21600">
                <a:moveTo>
                  <a:pt x="14545" y="3756"/>
                </a:moveTo>
                <a:lnTo>
                  <a:pt x="28633" y="10800"/>
                </a:lnTo>
                <a:lnTo>
                  <a:pt x="14545" y="17844"/>
                </a:lnTo>
                <a:close/>
              </a:path>
            </a:pathLst>
          </a:custGeom>
          <a:solidFill>
            <a:srgbClr val="000000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060640"/>
            <a:ext cx="1042920" cy="576360"/>
          </a:xfrm>
          <a:custGeom>
            <a:avLst/>
            <a:gdLst>
              <a:gd name="textAreaLeft" fmla="*/ 36000 w 1042920"/>
              <a:gd name="textAreaRight" fmla="*/ 1006920 w 1042920"/>
              <a:gd name="textAreaTop" fmla="*/ 36000 h 576360"/>
              <a:gd name="textAreaBottom" fmla="*/ 540360 h 576360"/>
            </a:gdLst>
            <a:ahLst/>
            <a:rect l="textAreaLeft" t="textAreaTop" r="textAreaRight" b="textAreaBottom"/>
            <a:pathLst>
              <a:path w="39074" h="21600">
                <a:moveTo>
                  <a:pt x="0" y="0"/>
                </a:moveTo>
                <a:lnTo>
                  <a:pt x="39074" y="0"/>
                </a:lnTo>
                <a:lnTo>
                  <a:pt x="39074" y="21600"/>
                </a:lnTo>
                <a:lnTo>
                  <a:pt x="0" y="21600"/>
                </a:lnTo>
                <a:close/>
              </a:path>
              <a:path fill="lightenLess" w="39074" h="21600">
                <a:moveTo>
                  <a:pt x="0" y="0"/>
                </a:moveTo>
                <a:lnTo>
                  <a:pt x="39074" y="0"/>
                </a:lnTo>
                <a:lnTo>
                  <a:pt x="37724" y="1350"/>
                </a:lnTo>
                <a:lnTo>
                  <a:pt x="1350" y="1350"/>
                </a:lnTo>
                <a:close/>
              </a:path>
              <a:path fill="darken" w="39074" h="21600">
                <a:moveTo>
                  <a:pt x="39074" y="0"/>
                </a:moveTo>
                <a:lnTo>
                  <a:pt x="39074" y="21600"/>
                </a:lnTo>
                <a:lnTo>
                  <a:pt x="37724" y="20250"/>
                </a:lnTo>
                <a:lnTo>
                  <a:pt x="37724" y="1350"/>
                </a:lnTo>
                <a:close/>
              </a:path>
              <a:path fill="darkenLess" w="39074" h="21600">
                <a:moveTo>
                  <a:pt x="3907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7724" y="20250"/>
                </a:lnTo>
                <a:close/>
              </a:path>
              <a:path fill="lighten" w="3907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9074" h="21600">
                <a:moveTo>
                  <a:pt x="12493" y="10800"/>
                </a:moveTo>
                <a:lnTo>
                  <a:pt x="26581" y="3756"/>
                </a:lnTo>
                <a:lnTo>
                  <a:pt x="26581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0" t="0" r="1375" b="8869"/>
          <a:stretch/>
        </p:blipFill>
        <p:spPr>
          <a:xfrm>
            <a:off x="34920" y="117360"/>
            <a:ext cx="9018720" cy="62485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03280" y="620280"/>
            <a:ext cx="66247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元”在字典中的解释有以下六种，你认为在这里是哪种解释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开始的，第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为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主要、根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元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构成一个整体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货币单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58920" y="38606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  <a:ea typeface="隶书"/>
              </a:rPr>
              <a:t>元日：农历正月初一，即春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元   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71640" y="198864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Arial"/>
              </a:rPr>
              <a:t>元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“初“、“始”、“第一个”的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92360" y="2708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Arial"/>
              </a:rPr>
              <a:t>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“天”的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16120" y="3284640"/>
            <a:ext cx="151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Arial"/>
              </a:rPr>
              <a:t>元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指新年的第一天，大年初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06:50:37Z</dcterms:created>
  <dc:creator>Administrator</dc:creator>
  <dc:description/>
  <dc:language>en-US</dc:language>
  <cp:lastModifiedBy/>
  <dcterms:modified xsi:type="dcterms:W3CDTF">2015-08-20T03:30:33Z</dcterms:modified>
  <cp:revision>13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