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949-1670-480F-9BF9-71A2AF4D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EB8-4C3D-4AF9-BB12-2F843FFE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C93-9396-4AE6-AC6D-02E3BB86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1ED-0457-4C01-A806-7FE34A91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23D-D9A9-4CCC-8B37-EBE76BAF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BC9-5267-4AAF-966E-AF477D09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F70-AD88-4355-A753-8C65BC15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EF5-7523-497F-B336-A8704AEA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B09-8ACC-4BE7-8B13-7748AD9B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495-177C-4FBA-92AD-F293BE1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346-A249-4C42-8539-4798386D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0D2-1A6B-45CE-AB74-282857E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FCF3-F670-4FC7-984D-DD8D76DE2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257,6,&#24187;&#28783;&#29255; 6" TargetMode="External"/><Relationship Id="rId2" Type="http://schemas.openxmlformats.org/officeDocument/2006/relationships/hyperlink" Target="282,7,&#24187;&#28783;&#29255; 7" TargetMode="External"/><Relationship Id="rId3" Type="http://schemas.openxmlformats.org/officeDocument/2006/relationships/hyperlink" Target="283,8,&#24187;&#28783;&#29255; 8" TargetMode="External"/><Relationship Id="rId4" Type="http://schemas.openxmlformats.org/officeDocument/2006/relationships/hyperlink" Target="file:///tmp/home/.config/libreoffice/4/user/gallery/yw4-5b.wav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yw4-5b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5139" b="14845"/>
          <a:stretch/>
        </p:blipFill>
        <p:spPr>
          <a:xfrm>
            <a:off x="395280" y="476280"/>
            <a:ext cx="3211560" cy="1720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14464" b="7648"/>
          <a:stretch/>
        </p:blipFill>
        <p:spPr>
          <a:xfrm>
            <a:off x="3348000" y="2276640"/>
            <a:ext cx="2710080" cy="206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0" r="11417" b="4543"/>
          <a:stretch/>
        </p:blipFill>
        <p:spPr>
          <a:xfrm>
            <a:off x="5796000" y="4437000"/>
            <a:ext cx="2741400" cy="192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55640" y="5373720"/>
            <a:ext cx="3456000" cy="961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隶书"/>
              </a:rPr>
              <a:t>现代化立交桥</a:t>
            </a:r>
            <a:endParaRPr b="0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62064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砌    桥墩    横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么长的桥，全部用石头砌成，下面没有桥墩，只有一个拱形的大桥洞，横跨在三十七米多宽的河面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429000"/>
            <a:ext cx="784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创举    减轻    冲击力   重量    节省    石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种设计，在建桥史上是一个创举，既减轻了流水对桥身的冲击力，使桥不容易被大水冲毁，又减轻了桥身的重量，节省了石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62064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雕刻     精美     图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面两侧有石栏，栏板上雕刻着精美的图案：有的刻着两条相互缠绕的龙，嘴里吐出美丽的水花；有的刻着两条飞龙，前爪相互抵着，各自回首遥望；还有的刻着双龙戏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34484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智慧     才干     历史遗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州桥表现了劳动人民的智慧和才干，是我国宝贵的历史遗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87280" y="981000"/>
            <a:ext cx="6264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州桥非常雄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座桥不但坚固，而且美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38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3500280"/>
            <a:ext cx="49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58920" y="4221000"/>
            <a:ext cx="1441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404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州桥表现了劳动人民的智慧和才干，是我国宝贵的历史遗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05560" cy="5029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439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327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赵州桥也叫安济桥，是一座世界闻名的石拱桥。它位于河北省赵县的洨河上，是隋朝的石匠李春设计并参加建造的，据今已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年的历史。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87040" y="4941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河北省赵县的洨河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8880" y="429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赵州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82320" y="551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李春设计并参加建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66920" y="6156360"/>
            <a:ext cx="192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300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多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664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赵州桥非常雄伟。桥长五十多米，有九米多宽，中间行车马，两旁走人。这么长的桥，全部用石头砌成，下面没有桥墩，只有一个拱形的大桥洞，横跨在三十七米多宽的河面上。大桥洞顶上的左右两边，还各有两个拱形的小桥洞。平时河水从大桥洞流过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这种设计，在桥史上是一个创举，既减轻了流水对桥身的冲击力，使桥不容易被大水冲毁，又减轻了桥身的重量，节省了石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5068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创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9040" y="328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这种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83664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赵州桥非常雄伟。桥长五十多米，有九米多宽，中间行车马，两旁走人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这么长的桥，全部用石头砌成，下面没有桥墩，只有一个拱形的大桥洞，横跨在三十七米多宽的河面上。大桥洞顶上的左右两边，还各有两个拱形的小桥洞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时河水从大桥洞流过。这种设计，在桥史上是一个创举，既减轻了流水对桥身的冲击力，使桥不容易被大水冲毁，又减轻了桥身的重量，节省了石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62064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长五十多米，有九米多宽，中间行车马，两旁走人。这么长的桥，全部用石头砌成，下面没有桥墩，只有一个拱形的大桥洞，横跨在三十七米多宽的河面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05560" cy="502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76600" y="494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3320" y="4797360"/>
            <a:ext cx="19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桥宽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67280" y="3886200"/>
            <a:ext cx="457200" cy="685800"/>
            <a:chOff x="5867280" y="3886200"/>
            <a:chExt cx="457200" cy="685800"/>
          </a:xfrm>
        </p:grpSpPr>
        <p:sp>
          <p:nvSpPr>
            <p:cNvPr id="98" name=""/>
            <p:cNvSpPr/>
            <p:nvPr/>
          </p:nvSpPr>
          <p:spPr>
            <a:xfrm>
              <a:off x="5867280" y="4343400"/>
              <a:ext cx="457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4480" y="3886200"/>
              <a:ext cx="0" cy="68580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4267080"/>
              <a:ext cx="0" cy="30492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867280" y="43434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34340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43434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343400"/>
            <a:ext cx="4572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343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31120" y="352440"/>
            <a:ext cx="52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长五十多米，有九米多宽，中间行车马，两旁走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9568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74400" y="2057400"/>
            <a:ext cx="22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桥长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4005360"/>
            <a:ext cx="77043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50440" y="476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长五十多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3286080"/>
            <a:ext cx="266544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0" r="6263" b="5004"/>
          <a:stretch/>
        </p:blipFill>
        <p:spPr>
          <a:xfrm>
            <a:off x="468360" y="549360"/>
            <a:ext cx="2496960" cy="1898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0" r="13985" b="6759"/>
          <a:stretch/>
        </p:blipFill>
        <p:spPr>
          <a:xfrm>
            <a:off x="3492360" y="549360"/>
            <a:ext cx="229104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13472" b="13266"/>
          <a:stretch/>
        </p:blipFill>
        <p:spPr>
          <a:xfrm>
            <a:off x="6300720" y="692280"/>
            <a:ext cx="2428920" cy="1704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0556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66880" y="4876920"/>
            <a:ext cx="5257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76600" y="494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6240" y="5157720"/>
            <a:ext cx="266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河面宽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7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-674640"/>
            <a:ext cx="84247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长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米，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九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宽，中间行车马，两旁走人。这么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桥，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全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石头砌成，下面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没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墩，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只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拱形的大桥洞，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横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十七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宽的河面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435640" y="1628640"/>
            <a:ext cx="1584360" cy="62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雄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36800" y="1614600"/>
            <a:ext cx="1584360" cy="62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非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3520" y="1523880"/>
            <a:ext cx="8305560" cy="5029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136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6858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小的时候，水从大拱桥下流过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676520" y="4419360"/>
            <a:ext cx="51051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3800" y="3715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当水面在线条以下的时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429000" y="4648320"/>
            <a:ext cx="3124080" cy="609480"/>
            <a:chOff x="3429000" y="4648320"/>
            <a:chExt cx="3124080" cy="609480"/>
          </a:xfrm>
        </p:grpSpPr>
        <p:sp>
          <p:nvSpPr>
            <p:cNvPr id="125" name=""/>
            <p:cNvSpPr/>
            <p:nvPr/>
          </p:nvSpPr>
          <p:spPr>
            <a:xfrm>
              <a:off x="3429000" y="4953240"/>
              <a:ext cx="3808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29200" y="4800600"/>
              <a:ext cx="4572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5880" y="4648320"/>
              <a:ext cx="4572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0556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76600" y="4948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36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05520" y="189000"/>
            <a:ext cx="65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大的时候，水从大拱桥下流过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侧拱里也流水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219320" y="4419720"/>
            <a:ext cx="38088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114800"/>
            <a:ext cx="38088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029200"/>
            <a:ext cx="22860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29200" y="0"/>
            <a:ext cx="4114800" cy="3084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4920" y="3718080"/>
            <a:ext cx="3902040" cy="2923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395280" y="1268280"/>
            <a:ext cx="381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平时，河水从大桥洞流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149720"/>
            <a:ext cx="50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发大水的时候，河水还可以从四个小桥洞流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83664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赵州桥非常雄伟。桥长五十多米，有九米多宽，中间行车马，两旁走人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这么长的桥，全部用石头砌成，下面没有桥墩，只有一个拱形的大桥洞，横跨在三十七米多宽的河面上。大桥洞顶上的左右两边，还各有两个拱形的小桥洞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时河水从大桥洞流过。这种设计，在桥史上是一个创举，既减轻了流水对桥身的冲击力，使桥不容易被大水冲毁，又减轻了桥身的重量，节省了石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4114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种设计，在建桥史上是一个创举”，“这种设计”有什么好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bright="-6000"/>
          </a:blip>
          <a:srcRect l="13000" t="13999" r="18999" b="47338"/>
          <a:stretch/>
        </p:blipFill>
        <p:spPr>
          <a:xfrm>
            <a:off x="0" y="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4255920" y="2819520"/>
            <a:ext cx="8496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6400800"/>
            <a:ext cx="990720" cy="457200"/>
          </a:xfrm>
          <a:custGeom>
            <a:avLst/>
            <a:gdLst>
              <a:gd name="textAreaLeft" fmla="*/ 28440 w 990720"/>
              <a:gd name="textAreaRight" fmla="*/ 962280 w 9907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436" y="1350"/>
                </a:lnTo>
                <a:lnTo>
                  <a:pt x="1350" y="135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436" y="20250"/>
                </a:lnTo>
                <a:lnTo>
                  <a:pt x="45436" y="135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436" y="2025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6786" h="21600">
                <a:moveTo>
                  <a:pt x="16349" y="7475"/>
                </a:moveTo>
                <a:lnTo>
                  <a:pt x="19875" y="7475"/>
                </a:lnTo>
                <a:lnTo>
                  <a:pt x="19875" y="12839"/>
                </a:lnTo>
                <a:cubicBezTo>
                  <a:pt x="19875" y="13766"/>
                  <a:pt x="20680" y="14501"/>
                  <a:pt x="21722" y="14501"/>
                </a:cubicBezTo>
                <a:lnTo>
                  <a:pt x="23393" y="14501"/>
                </a:lnTo>
                <a:cubicBezTo>
                  <a:pt x="24434" y="14501"/>
                  <a:pt x="25239" y="13766"/>
                  <a:pt x="25239" y="12839"/>
                </a:cubicBezTo>
                <a:lnTo>
                  <a:pt x="25239" y="7475"/>
                </a:lnTo>
                <a:lnTo>
                  <a:pt x="23393" y="7475"/>
                </a:lnTo>
                <a:lnTo>
                  <a:pt x="26919" y="3949"/>
                </a:lnTo>
                <a:lnTo>
                  <a:pt x="30612" y="7475"/>
                </a:lnTo>
                <a:lnTo>
                  <a:pt x="28765" y="7475"/>
                </a:lnTo>
                <a:lnTo>
                  <a:pt x="28765" y="12839"/>
                </a:lnTo>
                <a:cubicBezTo>
                  <a:pt x="28765" y="15621"/>
                  <a:pt x="26175" y="18194"/>
                  <a:pt x="23393" y="18194"/>
                </a:cubicBezTo>
                <a:lnTo>
                  <a:pt x="21722" y="18194"/>
                </a:lnTo>
                <a:cubicBezTo>
                  <a:pt x="18939" y="18194"/>
                  <a:pt x="16349" y="15621"/>
                  <a:pt x="16349" y="128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29528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既减轻了流水对桥身的冲击力，使桥不容易被大水冲毁，又减轻了桥身的重量，节省了石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752480"/>
            <a:ext cx="1371600" cy="1143000"/>
            <a:chOff x="380880" y="1752480"/>
            <a:chExt cx="1371600" cy="1143000"/>
          </a:xfrm>
        </p:grpSpPr>
        <p:sp>
          <p:nvSpPr>
            <p:cNvPr id="147" name=""/>
            <p:cNvSpPr/>
            <p:nvPr/>
          </p:nvSpPr>
          <p:spPr>
            <a:xfrm>
              <a:off x="380880" y="17524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2743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40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面两侧有石栏，栏板上雕刻着精美的图案：有的刻着两条相互缠绕的龙，嘴里吐出美丽的水花；有的刻着两条飞龙，前爪相互抵着，各自回首遥望；还有的刻着双龙戏珠。所有的龙似乎都在游动，真像活了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42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04920"/>
            <a:ext cx="914400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座桥不但坚固，而且美观。桥面两侧有石栏，栏板上雕刻着精美的图案：有的刻着两条</a:t>
            </a:r>
            <a:r>
              <a:rPr b="1" lang="zh-CN" sz="4800" spc="-1" strike="noStrike">
                <a:solidFill>
                  <a:srgbClr val="ccccff"/>
                </a:solidFill>
                <a:latin typeface="Times New Roman"/>
                <a:ea typeface="隶书"/>
              </a:rPr>
              <a:t>相互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/>
              </a:rPr>
              <a:t>缠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的龙，嘴里吐出美丽的水花；有的刻着两条飞龙，前爪相互抵着，各自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/>
              </a:rPr>
              <a:t>回首遥望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；还有的刻着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/>
              </a:rPr>
              <a:t>双龙戏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所有的龙似乎都在游动，真像活的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4"/>
          </p:cNvPr>
          <p:cNvSpPr/>
          <p:nvPr/>
        </p:nvSpPr>
        <p:spPr>
          <a:xfrm>
            <a:off x="8229600" y="6095880"/>
            <a:ext cx="914400" cy="76212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64" y="1350"/>
                </a:lnTo>
                <a:lnTo>
                  <a:pt x="1350" y="135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64" y="20250"/>
                </a:lnTo>
                <a:lnTo>
                  <a:pt x="24564" y="135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64" y="2025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14" h="21600">
                <a:moveTo>
                  <a:pt x="5913" y="8394"/>
                </a:moveTo>
                <a:lnTo>
                  <a:pt x="10367" y="8394"/>
                </a:lnTo>
                <a:lnTo>
                  <a:pt x="14812" y="3756"/>
                </a:lnTo>
                <a:lnTo>
                  <a:pt x="14812" y="17844"/>
                </a:lnTo>
                <a:lnTo>
                  <a:pt x="10367" y="13206"/>
                </a:lnTo>
                <a:lnTo>
                  <a:pt x="5913" y="13206"/>
                </a:lnTo>
                <a:close/>
              </a:path>
              <a:path fill="darken" w="25914" h="21600">
                <a:moveTo>
                  <a:pt x="16474" y="10800"/>
                </a:moveTo>
                <a:lnTo>
                  <a:pt x="20001" y="10800"/>
                </a:lnTo>
              </a:path>
              <a:path fill="darken" w="25914" h="21600">
                <a:moveTo>
                  <a:pt x="16474" y="8394"/>
                </a:moveTo>
                <a:lnTo>
                  <a:pt x="20001" y="5611"/>
                </a:lnTo>
              </a:path>
              <a:path fill="darken" w="25914" h="21600">
                <a:moveTo>
                  <a:pt x="16474" y="13206"/>
                </a:moveTo>
                <a:lnTo>
                  <a:pt x="20001" y="1598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1981080"/>
            <a:ext cx="1143000" cy="533520"/>
          </a:xfrm>
          <a:custGeom>
            <a:avLst/>
            <a:gdLst>
              <a:gd name="textAreaLeft" fmla="*/ 33120 w 1143000"/>
              <a:gd name="textAreaRight" fmla="*/ 1109880 w 11430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909" y="1350"/>
                </a:lnTo>
                <a:lnTo>
                  <a:pt x="1350" y="135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909" y="20250"/>
                </a:lnTo>
                <a:lnTo>
                  <a:pt x="44909" y="135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4909" y="2025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429000"/>
            <a:ext cx="1371600" cy="533520"/>
          </a:xfrm>
          <a:custGeom>
            <a:avLst/>
            <a:gdLst>
              <a:gd name="textAreaLeft" fmla="*/ 33120 w 1371600"/>
              <a:gd name="textAreaRight" fmla="*/ 1338480 w 13716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58" y="1350"/>
                </a:lnTo>
                <a:lnTo>
                  <a:pt x="1350" y="135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58" y="20250"/>
                </a:lnTo>
                <a:lnTo>
                  <a:pt x="54158" y="135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4158" y="2025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4038480"/>
            <a:ext cx="1981080" cy="762120"/>
          </a:xfrm>
          <a:custGeom>
            <a:avLst/>
            <a:gdLst>
              <a:gd name="textAreaLeft" fmla="*/ 47520 w 1981080"/>
              <a:gd name="textAreaRight" fmla="*/ 1933560 w 198108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82" y="1350"/>
                </a:lnTo>
                <a:lnTo>
                  <a:pt x="1350" y="135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82" y="20250"/>
                </a:lnTo>
                <a:lnTo>
                  <a:pt x="54782" y="135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4782" y="2025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6095880"/>
            <a:ext cx="990720" cy="762120"/>
          </a:xfrm>
          <a:custGeom>
            <a:avLst/>
            <a:gdLst>
              <a:gd name="textAreaLeft" fmla="*/ 47520 w 990720"/>
              <a:gd name="textAreaRight" fmla="*/ 943200 w 99072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726" y="1350"/>
                </a:lnTo>
                <a:lnTo>
                  <a:pt x="1350" y="135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726" y="20250"/>
                </a:lnTo>
                <a:lnTo>
                  <a:pt x="26726" y="135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726" y="2025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076" h="21600">
                <a:moveTo>
                  <a:pt x="17555" y="10800"/>
                </a:moveTo>
                <a:lnTo>
                  <a:pt x="6994" y="17844"/>
                </a:lnTo>
                <a:lnTo>
                  <a:pt x="6994" y="3756"/>
                </a:lnTo>
                <a:close/>
              </a:path>
              <a:path fill="darken" w="28076" h="21600">
                <a:moveTo>
                  <a:pt x="19410" y="3756"/>
                </a:moveTo>
                <a:lnTo>
                  <a:pt x="19410" y="17844"/>
                </a:lnTo>
                <a:lnTo>
                  <a:pt x="21082" y="17844"/>
                </a:lnTo>
                <a:lnTo>
                  <a:pt x="21082" y="37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6095880"/>
            <a:ext cx="990360" cy="762120"/>
          </a:xfrm>
          <a:custGeom>
            <a:avLst/>
            <a:gdLst>
              <a:gd name="textAreaLeft" fmla="*/ 47520 w 990360"/>
              <a:gd name="textAreaRight" fmla="*/ 942840 w 99036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716" y="1350"/>
                </a:lnTo>
                <a:lnTo>
                  <a:pt x="1350" y="135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716" y="20250"/>
                </a:lnTo>
                <a:lnTo>
                  <a:pt x="26716" y="135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716" y="2025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066" h="21600">
                <a:moveTo>
                  <a:pt x="6989" y="7475"/>
                </a:moveTo>
                <a:lnTo>
                  <a:pt x="10515" y="7475"/>
                </a:lnTo>
                <a:lnTo>
                  <a:pt x="10515" y="12839"/>
                </a:lnTo>
                <a:cubicBezTo>
                  <a:pt x="10515" y="13766"/>
                  <a:pt x="11320" y="14501"/>
                  <a:pt x="12362" y="14501"/>
                </a:cubicBezTo>
                <a:lnTo>
                  <a:pt x="14033" y="14501"/>
                </a:lnTo>
                <a:cubicBezTo>
                  <a:pt x="15074" y="14501"/>
                  <a:pt x="15879" y="13766"/>
                  <a:pt x="15879" y="12839"/>
                </a:cubicBezTo>
                <a:lnTo>
                  <a:pt x="15879" y="7475"/>
                </a:lnTo>
                <a:lnTo>
                  <a:pt x="14033" y="7475"/>
                </a:lnTo>
                <a:lnTo>
                  <a:pt x="17559" y="3949"/>
                </a:lnTo>
                <a:lnTo>
                  <a:pt x="21252" y="7475"/>
                </a:lnTo>
                <a:lnTo>
                  <a:pt x="19405" y="7475"/>
                </a:lnTo>
                <a:lnTo>
                  <a:pt x="19405" y="12839"/>
                </a:lnTo>
                <a:cubicBezTo>
                  <a:pt x="19405" y="15621"/>
                  <a:pt x="16815" y="18194"/>
                  <a:pt x="14033" y="18194"/>
                </a:cubicBezTo>
                <a:lnTo>
                  <a:pt x="12362" y="18194"/>
                </a:lnTo>
                <a:cubicBezTo>
                  <a:pt x="9579" y="18194"/>
                  <a:pt x="6989" y="15621"/>
                  <a:pt x="6989" y="12839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56386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6248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精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flipV="1" rot="5400000">
            <a:off x="4201200" y="-1915200"/>
            <a:ext cx="588960" cy="6705720"/>
          </a:xfrm>
          <a:custGeom>
            <a:avLst/>
            <a:gdLst>
              <a:gd name="textAreaLeft" fmla="*/ 376200 w 588960"/>
              <a:gd name="textAreaRight" fmla="*/ 589320 w 58896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rot="5400000">
            <a:off x="4200480" y="2219760"/>
            <a:ext cx="588960" cy="6705720"/>
          </a:xfrm>
          <a:custGeom>
            <a:avLst/>
            <a:gdLst>
              <a:gd name="textAreaLeft" fmla="*/ 376200 w 588960"/>
              <a:gd name="textAreaRight" fmla="*/ 589320 w 58896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7040" y="304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精美的图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3768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98240" y="1905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6840" y="1905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还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1000" y="5881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所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>
            <a:lum bright="-12000"/>
          </a:blip>
          <a:srcRect l="31003" t="24671" r="28003" b="32666"/>
          <a:stretch/>
        </p:blipFill>
        <p:spPr>
          <a:xfrm>
            <a:off x="3429000" y="28954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0" t="0" r="1535" b="1430"/>
          <a:stretch/>
        </p:blipFill>
        <p:spPr>
          <a:xfrm>
            <a:off x="380880" y="2819520"/>
            <a:ext cx="2362320" cy="1981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1"/>
          </p:cNvPr>
          <p:cNvSpPr/>
          <p:nvPr/>
        </p:nvSpPr>
        <p:spPr>
          <a:xfrm>
            <a:off x="0" y="7632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座桥不但（        ），而且（        ）。桥面两侧有石栏，栏板上雕刻着（       ）的图案：有的刻着两条（               ）的龙，嘴里吐出美丽的水花；有的刻着两条飞龙，前爪（               ），各自（               ） ；  还有的刻着（              ）。所有的龙似乎都在（      ），真像（      ）的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50800" y="76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坚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36000" y="838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美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31480" y="1523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精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81760" y="2286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缠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24760" y="3672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抵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7000" y="443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回首遥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32120" y="5181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双龙戏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90240" y="5943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720" y="5958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游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372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4000" y="1557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桥面两侧有石栏，栏板上雕刻着精美的图案：有的刻着两条相互缠绕的龙，嘴里吐出美丽的水花；有的刻着两条飞龙，前爪相互抵着，各自回首遥望；还有的刻着双龙戏珠……所有的龙似乎都在游动，真像活了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40720" y="3573360"/>
            <a:ext cx="71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67640" y="35002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33640" y="981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座桥不但坚固，而且美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1844640"/>
            <a:ext cx="4608720" cy="1944720"/>
          </a:xfrm>
          <a:prstGeom prst="cloudCallout">
            <a:avLst>
              <a:gd name="adj1" fmla="val -52273"/>
              <a:gd name="adj2" fmla="val -54652"/>
            </a:avLst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话这样写，好在哪儿呢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9936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02160" y="98100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45720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2209680"/>
            <a:ext cx="579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5400" spc="-1" strike="noStrike">
                <a:solidFill>
                  <a:srgbClr val="ff99ff"/>
                </a:solidFill>
                <a:latin typeface="Times New Roman"/>
                <a:ea typeface="隶书"/>
              </a:rPr>
              <a:t>赵州桥不但</a:t>
            </a:r>
            <a:r>
              <a:rPr b="0" lang="zh-CN" sz="5400" spc="-1" strike="noStrike" u="sng">
                <a:solidFill>
                  <a:srgbClr val="ff99ff"/>
                </a:solidFill>
                <a:uFillTx/>
                <a:latin typeface="Times New Roman"/>
                <a:ea typeface="隶书"/>
              </a:rPr>
              <a:t>坚固</a:t>
            </a:r>
            <a:r>
              <a:rPr b="0" lang="zh-CN" sz="5400" spc="-1" strike="noStrike">
                <a:solidFill>
                  <a:srgbClr val="ff99ff"/>
                </a:solidFill>
                <a:latin typeface="Times New Roman"/>
                <a:ea typeface="隶书"/>
              </a:rPr>
              <a:t>，而且</a:t>
            </a:r>
            <a:r>
              <a:rPr b="0" lang="zh-CN" sz="5400" spc="-1" strike="noStrike" u="sng">
                <a:solidFill>
                  <a:srgbClr val="ff99ff"/>
                </a:solidFill>
                <a:uFillTx/>
                <a:latin typeface="Times New Roman"/>
                <a:ea typeface="隶书"/>
              </a:rPr>
              <a:t>美观</a:t>
            </a:r>
            <a:r>
              <a:rPr b="0" lang="zh-CN" sz="5400" spc="-1" strike="noStrike">
                <a:solidFill>
                  <a:srgbClr val="ff99ff"/>
                </a:solidFill>
                <a:latin typeface="Times New Roman"/>
                <a:ea typeface="隶书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828800" y="914400"/>
            <a:ext cx="3076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认一认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4419720"/>
            <a:ext cx="669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过渡句（承上启下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87280" y="981000"/>
            <a:ext cx="6264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州桥非常雄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座桥不但坚固，而且美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773360"/>
            <a:ext cx="38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95640" y="3500280"/>
            <a:ext cx="49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4221000"/>
            <a:ext cx="1441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348000" y="5013360"/>
            <a:ext cx="2736720" cy="1033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创举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404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州桥表现了劳动人民的智慧和才干，是我国宝贵的历史遗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05560" cy="5029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55640" y="765000"/>
            <a:ext cx="7632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隋匠天工落奇桥，饮尽世代洪水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骨长虹映燕赵，风雨梳妆岁岁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驾石飞梁尽一虹，苍龙惊蛰背磨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从碧玉环中过，人在苍龙背上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760400" cy="230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411280" y="765000"/>
            <a:ext cx="6400800" cy="4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李春：中国古代第一位桥梁专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5857920" cy="354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476280"/>
            <a:ext cx="813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务院第一批全国重点文物保护单位之一的赵州桥，又名安济桥，也叫大石拱桥，坐落在河北省石家庄东南约四十多公里的赵县洨河之上。它不仅是中国第一座石拱桥，也是当今世界上第一座石拱桥。被誉为“华北四宝”之一，也是中国十大名桥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座桥建于隋开皇大业年间，由一名普通的石匠李春所建，距今已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年的历史。在漫长的岁月中，虽然经历过无数次洪水冲击、风吹雨打、冰雪风霜的侵蚀和八次地震的考验，却仍然安然无恙、巍然挺立在清水河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58920" y="54936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打开书，轻声朗读课文，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生字的音，认清生字的形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课文中找出写赵州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桥特点的句子，用“——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划出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322800"/>
            <a:ext cx="3068640" cy="3535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10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44520" y="105264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赵县            洨河       安济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69120" y="105264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匠         设计          建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4760" y="1773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砌             桥墩             横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34400" y="2565360"/>
            <a:ext cx="62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举        减轻          冲击力          重量          节省        石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6920" y="17002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雕刻          精美           图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66560" y="34290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智慧        才干           历史遗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00000" y="47772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县       洨河      安济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河北省赵县的洨河上，有一座世界闻名的石拱桥，叫安济桥，又名赵州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21300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石匠    设计    建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是隋朝的石匠李春设计和参加建造的，到现在已经有一千三百多年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7T06:47:54Z</dcterms:created>
  <dc:creator>Administrator</dc:creator>
  <dc:description/>
  <dc:language>en-US</dc:language>
  <cp:lastModifiedBy/>
  <dcterms:modified xsi:type="dcterms:W3CDTF">2015-08-20T03:19:23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