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474-BD26-4A83-99D3-14CD9537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F29-1783-470E-89A0-AA0C1B7C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8F6-B50E-41DF-B2E9-A5A0623A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455-4D89-4C99-9A39-D067C6CD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AA75-5BFE-44DC-9F88-CE3ED22B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EA13-CBA3-4E49-87D1-8CC4923A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E7F8-B630-4846-8337-07C99283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23F5-B3FF-4F2A-BF33-2AA5C278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88D9-685E-4244-AA3C-F09AC64C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657B-7524-4A35-9C04-4585A841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5848-EB14-4C7D-A43E-6E1944BC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397-9C37-4194-8F09-67C3F238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AC62-DBD4-47CD-A55E-F9A429D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AA9F-35C9-4A04-A2C6-565900C8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7F64-5183-4B3B-A47F-8F9835D3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82AD-F535-4708-9FAD-E29BA4CA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64D6-4D54-42B6-BF9C-691BDC4D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B331-E0DA-4244-B55D-FEA3049B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C4CE-4DB1-41DB-8DBD-99E6817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FEB2-791B-4E9D-A024-56C8132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78BC-B74F-4FB7-9EF2-7D93BB0D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9574-8237-47C9-906B-4F1F2776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041-68C3-4B17-AC7E-DC81213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83BBC-5C19-4947-A5B5-A881E3DC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4301-6443-44DA-B515-4B9EE835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03CD-9377-4853-BAF5-030BDE8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7A32-1AFA-4D9F-8591-0BC94F9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7DB2-DFAD-4C58-9F47-FC5E4504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4B99-8826-4EB7-A0D4-A0F661B0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D06B-8421-4DC2-A558-EDE1D9DF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AA7E6-F5AF-4726-81BE-0180EA0D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BB5C4-6E8B-45BD-9F67-4738CCE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02E7B-4300-4547-A050-D83C6105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9CF-8C84-4DAF-B52B-F9922BEB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A66A9-5E69-4BE0-A63E-CB3ED957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A8A2-EF88-4DAC-83FD-1EBCB737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BFE7-1639-4E7B-BE27-F22BC69A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68A24-9F62-413D-ADE9-A9042D8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2A53-00F5-4074-99EF-24EC1090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625C-609C-4150-9BBA-190F474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9A35-3732-4800-8A0F-BC75E116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E780-B7AD-4A8C-ABDC-339DDEA5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8E8B-F3A9-404C-84DB-15A1DE0E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74D-F6F1-4D13-85DC-5FCAE65B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4C6-06D4-4063-8B57-DDE0DE10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2A4-8357-4236-9292-57CD3270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8AB-24A3-4C9F-AF2A-74B2632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67D-B14E-4FFE-AE05-0D167C92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619-E109-4D6F-81E4-FD69ADA4E4D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753C-9833-47BF-AF2E-610DB2BB88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2103480" y="1898640"/>
            <a:ext cx="426960" cy="344520"/>
            <a:chOff x="2103480" y="1898640"/>
            <a:chExt cx="426960" cy="344520"/>
          </a:xfrm>
        </p:grpSpPr>
        <p:grpSp>
          <p:nvGrpSpPr>
            <p:cNvPr id="42" name=""/>
            <p:cNvGrpSpPr/>
            <p:nvPr/>
          </p:nvGrpSpPr>
          <p:grpSpPr>
            <a:xfrm>
              <a:off x="2122200" y="1898640"/>
              <a:ext cx="1080" cy="344520"/>
              <a:chOff x="2122200" y="1898640"/>
              <a:chExt cx="1080" cy="344520"/>
            </a:xfrm>
          </p:grpSpPr>
          <p:sp>
            <p:nvSpPr>
              <p:cNvPr id="43" name="Line 5"/>
              <p:cNvSpPr/>
              <p:nvPr/>
            </p:nvSpPr>
            <p:spPr>
              <a:xfrm>
                <a:off x="2122200" y="1898640"/>
                <a:ext cx="1080" cy="344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2122200" y="1898640"/>
                <a:ext cx="1080" cy="34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103480" y="1898640"/>
              <a:ext cx="426960" cy="360"/>
              <a:chOff x="2103480" y="1898640"/>
              <a:chExt cx="426960" cy="360"/>
            </a:xfrm>
          </p:grpSpPr>
          <p:sp>
            <p:nvSpPr>
              <p:cNvPr id="46" name="Line 6"/>
              <p:cNvSpPr/>
              <p:nvPr/>
            </p:nvSpPr>
            <p:spPr>
              <a:xfrm flipH="1">
                <a:off x="2103480" y="1898640"/>
                <a:ext cx="426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 txBox="1"/>
              <p:nvPr/>
            </p:nvSpPr>
            <p:spPr>
              <a:xfrm rot="5400000">
                <a:off x="2316600" y="1685160"/>
                <a:ext cx="36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7"/>
          <p:cNvGrpSpPr/>
          <p:nvPr/>
        </p:nvGrpSpPr>
        <p:grpSpPr>
          <a:xfrm>
            <a:off x="7859880" y="3849840"/>
            <a:ext cx="426960" cy="344160"/>
            <a:chOff x="7859880" y="3849840"/>
            <a:chExt cx="426960" cy="344160"/>
          </a:xfrm>
        </p:grpSpPr>
        <p:grpSp>
          <p:nvGrpSpPr>
            <p:cNvPr id="49" name=""/>
            <p:cNvGrpSpPr/>
            <p:nvPr/>
          </p:nvGrpSpPr>
          <p:grpSpPr>
            <a:xfrm>
              <a:off x="8274600" y="3849840"/>
              <a:ext cx="1080" cy="344160"/>
              <a:chOff x="8274600" y="3849840"/>
              <a:chExt cx="1080" cy="344160"/>
            </a:xfrm>
          </p:grpSpPr>
          <p:sp>
            <p:nvSpPr>
              <p:cNvPr id="50" name="Line 8"/>
              <p:cNvSpPr/>
              <p:nvPr/>
            </p:nvSpPr>
            <p:spPr>
              <a:xfrm flipH="1" flipV="1">
                <a:off x="8274600" y="3849840"/>
                <a:ext cx="1080" cy="344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 txBox="1"/>
              <p:nvPr/>
            </p:nvSpPr>
            <p:spPr>
              <a:xfrm rot="10800000">
                <a:off x="8274600" y="3849840"/>
                <a:ext cx="1080" cy="34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7859880" y="4183560"/>
              <a:ext cx="426960" cy="1800"/>
              <a:chOff x="7859880" y="4183560"/>
              <a:chExt cx="426960" cy="1800"/>
            </a:xfrm>
          </p:grpSpPr>
          <p:sp>
            <p:nvSpPr>
              <p:cNvPr id="53" name="Line 9"/>
              <p:cNvSpPr/>
              <p:nvPr/>
            </p:nvSpPr>
            <p:spPr>
              <a:xfrm flipV="1">
                <a:off x="7859880" y="4183560"/>
                <a:ext cx="426960" cy="1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 txBox="1"/>
              <p:nvPr/>
            </p:nvSpPr>
            <p:spPr>
              <a:xfrm rot="16200000">
                <a:off x="8072280" y="3970800"/>
                <a:ext cx="180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641A-5937-4CE6-B839-3249E424205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712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79DC-2A51-4E0B-BD25-EC033FC91B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"/>
          <p:cNvGrpSpPr/>
          <p:nvPr/>
        </p:nvGrpSpPr>
        <p:grpSpPr>
          <a:xfrm>
            <a:off x="2766600" y="1928880"/>
            <a:ext cx="2578680" cy="1038240"/>
            <a:chOff x="2766600" y="1928880"/>
            <a:chExt cx="2578680" cy="1038240"/>
          </a:xfrm>
        </p:grpSpPr>
        <p:grpSp>
          <p:nvGrpSpPr>
            <p:cNvPr id="97" name="Group 5"/>
            <p:cNvGrpSpPr/>
            <p:nvPr/>
          </p:nvGrpSpPr>
          <p:grpSpPr>
            <a:xfrm>
              <a:off x="2766600" y="1928880"/>
              <a:ext cx="426600" cy="344160"/>
              <a:chOff x="2766600" y="1928880"/>
              <a:chExt cx="426600" cy="3441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785680" y="1928880"/>
                <a:ext cx="1080" cy="344160"/>
                <a:chOff x="2785680" y="1928880"/>
                <a:chExt cx="1080" cy="344160"/>
              </a:xfrm>
            </p:grpSpPr>
            <p:sp>
              <p:nvSpPr>
                <p:cNvPr id="99" name="Line 6"/>
                <p:cNvSpPr/>
                <p:nvPr/>
              </p:nvSpPr>
              <p:spPr>
                <a:xfrm>
                  <a:off x="2785680" y="1928880"/>
                  <a:ext cx="1080" cy="344160"/>
                </a:xfrm>
                <a:prstGeom prst="line">
                  <a:avLst/>
                </a:prstGeom>
                <a:ln w="38160">
                  <a:solidFill>
                    <a:srgbClr val="05c1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 txBox="1"/>
                <p:nvPr/>
              </p:nvSpPr>
              <p:spPr>
                <a:xfrm>
                  <a:off x="2785680" y="1928880"/>
                  <a:ext cx="1080" cy="34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66600" y="1928880"/>
                <a:ext cx="426600" cy="360"/>
                <a:chOff x="2766600" y="1928880"/>
                <a:chExt cx="426600" cy="360"/>
              </a:xfrm>
            </p:grpSpPr>
            <p:sp>
              <p:nvSpPr>
                <p:cNvPr id="102" name="Line 7"/>
                <p:cNvSpPr/>
                <p:nvPr/>
              </p:nvSpPr>
              <p:spPr>
                <a:xfrm flipH="1">
                  <a:off x="2766600" y="1928880"/>
                  <a:ext cx="426600" cy="0"/>
                </a:xfrm>
                <a:prstGeom prst="line">
                  <a:avLst/>
                </a:prstGeom>
                <a:ln w="38160">
                  <a:solidFill>
                    <a:srgbClr val="05c1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 txBox="1"/>
                <p:nvPr/>
              </p:nvSpPr>
              <p:spPr>
                <a:xfrm rot="5400000">
                  <a:off x="2979720" y="1715760"/>
                  <a:ext cx="36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" name="Group 8"/>
            <p:cNvGrpSpPr/>
            <p:nvPr/>
          </p:nvGrpSpPr>
          <p:grpSpPr>
            <a:xfrm>
              <a:off x="4917240" y="2622240"/>
              <a:ext cx="428040" cy="344880"/>
              <a:chOff x="4917240" y="2622240"/>
              <a:chExt cx="428040" cy="34488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5325840" y="2622240"/>
                <a:ext cx="1080" cy="344880"/>
                <a:chOff x="5325840" y="2622240"/>
                <a:chExt cx="1080" cy="344880"/>
              </a:xfrm>
            </p:grpSpPr>
            <p:sp>
              <p:nvSpPr>
                <p:cNvPr id="106" name="Line 9"/>
                <p:cNvSpPr/>
                <p:nvPr/>
              </p:nvSpPr>
              <p:spPr>
                <a:xfrm flipH="1" flipV="1">
                  <a:off x="5325840" y="2622240"/>
                  <a:ext cx="1080" cy="344880"/>
                </a:xfrm>
                <a:prstGeom prst="line">
                  <a:avLst/>
                </a:prstGeom>
                <a:ln w="38160">
                  <a:solidFill>
                    <a:srgbClr val="05c1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 txBox="1"/>
                <p:nvPr/>
              </p:nvSpPr>
              <p:spPr>
                <a:xfrm rot="10800000">
                  <a:off x="5325840" y="2622240"/>
                  <a:ext cx="1080" cy="34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7240" y="2954880"/>
                <a:ext cx="428040" cy="1080"/>
                <a:chOff x="4917240" y="2954880"/>
                <a:chExt cx="428040" cy="1080"/>
              </a:xfrm>
            </p:grpSpPr>
            <p:sp>
              <p:nvSpPr>
                <p:cNvPr id="109" name="Line 10"/>
                <p:cNvSpPr/>
                <p:nvPr/>
              </p:nvSpPr>
              <p:spPr>
                <a:xfrm flipV="1">
                  <a:off x="4917240" y="2954880"/>
                  <a:ext cx="427320" cy="1080"/>
                </a:xfrm>
                <a:prstGeom prst="line">
                  <a:avLst/>
                </a:prstGeom>
                <a:ln w="38160">
                  <a:solidFill>
                    <a:srgbClr val="05c1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 txBox="1"/>
                <p:nvPr/>
              </p:nvSpPr>
              <p:spPr>
                <a:xfrm rot="16200000">
                  <a:off x="5131080" y="2741760"/>
                  <a:ext cx="1080" cy="42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2C71-FB72-406C-BB35-09A5CD8032A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2720" y="647712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01FE-C3BD-4157-96CC-009498FD7F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1"/>
          <p:cNvSpPr/>
          <p:nvPr/>
        </p:nvSpPr>
        <p:spPr>
          <a:xfrm>
            <a:off x="2619360" y="41702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3041280" y="2322360"/>
            <a:ext cx="2577960" cy="1038240"/>
            <a:chOff x="3041280" y="2322360"/>
            <a:chExt cx="2577960" cy="1038240"/>
          </a:xfrm>
        </p:grpSpPr>
        <p:grpSp>
          <p:nvGrpSpPr>
            <p:cNvPr id="154" name="Group 5"/>
            <p:cNvGrpSpPr/>
            <p:nvPr/>
          </p:nvGrpSpPr>
          <p:grpSpPr>
            <a:xfrm>
              <a:off x="3041280" y="2322360"/>
              <a:ext cx="426600" cy="344160"/>
              <a:chOff x="3041280" y="2322360"/>
              <a:chExt cx="426600" cy="3441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3060360" y="2322360"/>
                <a:ext cx="1080" cy="344160"/>
                <a:chOff x="3060360" y="2322360"/>
                <a:chExt cx="1080" cy="344160"/>
              </a:xfrm>
            </p:grpSpPr>
            <p:sp>
              <p:nvSpPr>
                <p:cNvPr id="156" name="Line 6"/>
                <p:cNvSpPr/>
                <p:nvPr/>
              </p:nvSpPr>
              <p:spPr>
                <a:xfrm>
                  <a:off x="3060360" y="2322360"/>
                  <a:ext cx="1080" cy="344160"/>
                </a:xfrm>
                <a:prstGeom prst="line">
                  <a:avLst/>
                </a:prstGeom>
                <a:ln w="38160">
                  <a:solidFill>
                    <a:srgbClr val="05c1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 txBox="1"/>
                <p:nvPr/>
              </p:nvSpPr>
              <p:spPr>
                <a:xfrm>
                  <a:off x="3060360" y="2322360"/>
                  <a:ext cx="1080" cy="34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041280" y="2322360"/>
                <a:ext cx="426600" cy="360"/>
                <a:chOff x="3041280" y="2322360"/>
                <a:chExt cx="426600" cy="360"/>
              </a:xfrm>
            </p:grpSpPr>
            <p:sp>
              <p:nvSpPr>
                <p:cNvPr id="159" name="Line 7"/>
                <p:cNvSpPr/>
                <p:nvPr/>
              </p:nvSpPr>
              <p:spPr>
                <a:xfrm flipH="1">
                  <a:off x="3041280" y="2322360"/>
                  <a:ext cx="426600" cy="0"/>
                </a:xfrm>
                <a:prstGeom prst="line">
                  <a:avLst/>
                </a:prstGeom>
                <a:ln w="38160">
                  <a:solidFill>
                    <a:srgbClr val="05c1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 txBox="1"/>
                <p:nvPr/>
              </p:nvSpPr>
              <p:spPr>
                <a:xfrm rot="5400000">
                  <a:off x="3254400" y="2109240"/>
                  <a:ext cx="36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Group 8"/>
            <p:cNvGrpSpPr/>
            <p:nvPr/>
          </p:nvGrpSpPr>
          <p:grpSpPr>
            <a:xfrm>
              <a:off x="5192280" y="3015720"/>
              <a:ext cx="426960" cy="344880"/>
              <a:chOff x="5192280" y="3015720"/>
              <a:chExt cx="426960" cy="34488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5599800" y="3015720"/>
                <a:ext cx="1080" cy="344880"/>
                <a:chOff x="5599800" y="3015720"/>
                <a:chExt cx="1080" cy="344880"/>
              </a:xfrm>
            </p:grpSpPr>
            <p:sp>
              <p:nvSpPr>
                <p:cNvPr id="163" name="Line 9"/>
                <p:cNvSpPr/>
                <p:nvPr/>
              </p:nvSpPr>
              <p:spPr>
                <a:xfrm flipH="1" flipV="1">
                  <a:off x="5599800" y="3015720"/>
                  <a:ext cx="1080" cy="344880"/>
                </a:xfrm>
                <a:prstGeom prst="line">
                  <a:avLst/>
                </a:prstGeom>
                <a:ln w="38160">
                  <a:solidFill>
                    <a:srgbClr val="05c1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 rot="10800000">
                  <a:off x="5599800" y="3015720"/>
                  <a:ext cx="1080" cy="34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192280" y="3348360"/>
                <a:ext cx="426960" cy="1080"/>
                <a:chOff x="5192280" y="3348360"/>
                <a:chExt cx="426960" cy="1080"/>
              </a:xfrm>
            </p:grpSpPr>
            <p:sp>
              <p:nvSpPr>
                <p:cNvPr id="166" name="Line 10"/>
                <p:cNvSpPr/>
                <p:nvPr/>
              </p:nvSpPr>
              <p:spPr>
                <a:xfrm flipV="1">
                  <a:off x="5192280" y="3348360"/>
                  <a:ext cx="426960" cy="1080"/>
                </a:xfrm>
                <a:prstGeom prst="line">
                  <a:avLst/>
                </a:prstGeom>
                <a:ln w="38160">
                  <a:solidFill>
                    <a:srgbClr val="05c1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 txBox="1"/>
                <p:nvPr/>
              </p:nvSpPr>
              <p:spPr>
                <a:xfrm rot="16200000">
                  <a:off x="5405040" y="3135240"/>
                  <a:ext cx="10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8" name="Text Box 11"/>
          <p:cNvSpPr/>
          <p:nvPr/>
        </p:nvSpPr>
        <p:spPr>
          <a:xfrm>
            <a:off x="2771640" y="43228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47712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3E8C-A596-4339-971D-296138D8FF3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712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59F7-DC90-4BDF-8BEA-16BB547760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b2"/>
          <p:cNvPicPr/>
          <p:nvPr/>
        </p:nvPicPr>
        <p:blipFill>
          <a:blip r:embed="rId2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b3"/>
          <p:cNvPicPr/>
          <p:nvPr/>
        </p:nvPicPr>
        <p:blipFill>
          <a:blip r:embed="rId3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b4"/>
          <p:cNvPicPr/>
          <p:nvPr/>
        </p:nvPicPr>
        <p:blipFill>
          <a:blip r:embed="rId4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b5"/>
          <p:cNvPicPr/>
          <p:nvPr/>
        </p:nvPicPr>
        <p:blipFill>
          <a:blip r:embed="rId5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0"/>
          <p:cNvSpPr txBox="1"/>
          <p:nvPr/>
        </p:nvSpPr>
        <p:spPr>
          <a:xfrm>
            <a:off x="1042920" y="2133720"/>
            <a:ext cx="70581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27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镇定的女主人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16" name="Picture 11" descr="b6"/>
          <p:cNvPicPr/>
          <p:nvPr/>
        </p:nvPicPr>
        <p:blipFill>
          <a:blip r:embed="rId6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  <p:sp>
        <p:nvSpPr>
          <p:cNvPr id="217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二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2484360" y="220500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826920" y="1413000"/>
            <a:ext cx="72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词语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定  保姆  吩咐  脸色煞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迷惑不解  假装  惊吓   佩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9"/>
          <p:cNvSpPr/>
          <p:nvPr/>
        </p:nvSpPr>
        <p:spPr>
          <a:xfrm>
            <a:off x="684360" y="549360"/>
            <a:ext cx="730872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轻声读课文，小组内思考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女主人发现了什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她是怎么想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她又是怎么做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结果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287280" y="1967040"/>
            <a:ext cx="853272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练习说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，女主人发现                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4643280" cy="3027240"/>
          </a:xfrm>
          <a:prstGeom prst="rect">
            <a:avLst/>
          </a:prstGeom>
          <a:ln w="0">
            <a:noFill/>
          </a:ln>
        </p:spPr>
      </p:pic>
      <p:sp>
        <p:nvSpPr>
          <p:cNvPr id="232" name="Line 7"/>
          <p:cNvSpPr/>
          <p:nvPr/>
        </p:nvSpPr>
        <p:spPr>
          <a:xfrm>
            <a:off x="3924360" y="4437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1692360" y="5805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4636080" y="4535640"/>
            <a:ext cx="2527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她把保姆叫来低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4"/>
          <p:cNvGrpSpPr/>
          <p:nvPr/>
        </p:nvGrpSpPr>
        <p:grpSpPr>
          <a:xfrm>
            <a:off x="719280" y="3789360"/>
            <a:ext cx="13861440" cy="1467720"/>
            <a:chOff x="719280" y="3789360"/>
            <a:chExt cx="13861440" cy="1467720"/>
          </a:xfrm>
        </p:grpSpPr>
        <p:sp>
          <p:nvSpPr>
            <p:cNvPr id="236" name="Line 8"/>
            <p:cNvSpPr/>
            <p:nvPr/>
          </p:nvSpPr>
          <p:spPr>
            <a:xfrm>
              <a:off x="719280" y="5157720"/>
              <a:ext cx="273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0"/>
            <p:cNvSpPr/>
            <p:nvPr/>
          </p:nvSpPr>
          <p:spPr>
            <a:xfrm>
              <a:off x="7056360" y="3789360"/>
              <a:ext cx="75243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想：           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3598560" y="4797360"/>
              <a:ext cx="64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15"/>
          <p:cNvSpPr/>
          <p:nvPr/>
        </p:nvSpPr>
        <p:spPr>
          <a:xfrm>
            <a:off x="360360" y="5300640"/>
            <a:ext cx="50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吩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826920" y="1967040"/>
            <a:ext cx="8533080" cy="41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象说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听了，都很佩服女主人的镇定，有的                 ，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2016000" y="333360"/>
            <a:ext cx="4643640" cy="3027240"/>
          </a:xfrm>
          <a:prstGeom prst="rect">
            <a:avLst/>
          </a:prstGeom>
          <a:ln w="0">
            <a:noFill/>
          </a:ln>
        </p:spPr>
      </p:pic>
      <p:sp>
        <p:nvSpPr>
          <p:cNvPr id="245" name="Line 7"/>
          <p:cNvSpPr/>
          <p:nvPr/>
        </p:nvSpPr>
        <p:spPr>
          <a:xfrm>
            <a:off x="5435640" y="5084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1330200" y="51577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2122560" y="595008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503280" y="44280"/>
            <a:ext cx="85327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一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读出不同的语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人迷惑不解，问女主人到底发生了什么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人迷惑不解，问女主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底发生了什么事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503280" y="44280"/>
            <a:ext cx="85327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一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读出不同的语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人迷惑不解，问女主人到底发生了什么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人迷惑不解，问女主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底发生了什么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539640" y="620640"/>
            <a:ext cx="813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累文中描写人物动作和神态的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有关眼镜蛇的资料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539640" y="620640"/>
            <a:ext cx="8136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吩咐说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几个表示说的词语，选一个说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几个表示说的词语，分别用这些词语说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611280" y="1341360"/>
            <a:ext cx="1150920" cy="432000"/>
            <a:chOff x="611280" y="1341360"/>
            <a:chExt cx="1150920" cy="432000"/>
          </a:xfrm>
        </p:grpSpPr>
        <p:sp>
          <p:nvSpPr>
            <p:cNvPr id="265" name="AutoShape 10"/>
            <p:cNvSpPr/>
            <p:nvPr/>
          </p:nvSpPr>
          <p:spPr>
            <a:xfrm>
              <a:off x="611280" y="1341360"/>
              <a:ext cx="358560" cy="43200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11"/>
            <p:cNvSpPr/>
            <p:nvPr/>
          </p:nvSpPr>
          <p:spPr>
            <a:xfrm>
              <a:off x="1042920" y="1341360"/>
              <a:ext cx="358920" cy="43200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12"/>
            <p:cNvSpPr/>
            <p:nvPr/>
          </p:nvSpPr>
          <p:spPr>
            <a:xfrm>
              <a:off x="1403280" y="1341360"/>
              <a:ext cx="358920" cy="43200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611280" y="2637000"/>
            <a:ext cx="1654200" cy="431640"/>
            <a:chOff x="611280" y="2637000"/>
            <a:chExt cx="1654200" cy="431640"/>
          </a:xfrm>
        </p:grpSpPr>
        <p:sp>
          <p:nvSpPr>
            <p:cNvPr id="269" name="AutoShape 14"/>
            <p:cNvSpPr/>
            <p:nvPr/>
          </p:nvSpPr>
          <p:spPr>
            <a:xfrm>
              <a:off x="611280" y="2637000"/>
              <a:ext cx="358560" cy="43164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15"/>
            <p:cNvSpPr/>
            <p:nvPr/>
          </p:nvSpPr>
          <p:spPr>
            <a:xfrm>
              <a:off x="1042920" y="2637000"/>
              <a:ext cx="358920" cy="43164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16"/>
            <p:cNvSpPr/>
            <p:nvPr/>
          </p:nvSpPr>
          <p:spPr>
            <a:xfrm>
              <a:off x="1474560" y="2637000"/>
              <a:ext cx="358920" cy="43164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utoShape 17"/>
            <p:cNvSpPr/>
            <p:nvPr/>
          </p:nvSpPr>
          <p:spPr>
            <a:xfrm>
              <a:off x="1906560" y="2637000"/>
              <a:ext cx="358920" cy="43164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18"/>
          <p:cNvGrpSpPr/>
          <p:nvPr/>
        </p:nvGrpSpPr>
        <p:grpSpPr>
          <a:xfrm>
            <a:off x="617400" y="3933720"/>
            <a:ext cx="1798560" cy="431640"/>
            <a:chOff x="617400" y="3933720"/>
            <a:chExt cx="1798560" cy="431640"/>
          </a:xfrm>
        </p:grpSpPr>
        <p:sp>
          <p:nvSpPr>
            <p:cNvPr id="274" name="AutoShape 19"/>
            <p:cNvSpPr/>
            <p:nvPr/>
          </p:nvSpPr>
          <p:spPr>
            <a:xfrm>
              <a:off x="617400" y="3933720"/>
              <a:ext cx="358560" cy="43164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20"/>
            <p:cNvSpPr/>
            <p:nvPr/>
          </p:nvSpPr>
          <p:spPr>
            <a:xfrm>
              <a:off x="975960" y="3933720"/>
              <a:ext cx="358920" cy="43164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21"/>
            <p:cNvSpPr/>
            <p:nvPr/>
          </p:nvSpPr>
          <p:spPr>
            <a:xfrm>
              <a:off x="1336320" y="3933720"/>
              <a:ext cx="358920" cy="43164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2"/>
            <p:cNvSpPr/>
            <p:nvPr/>
          </p:nvSpPr>
          <p:spPr>
            <a:xfrm>
              <a:off x="1696680" y="3933720"/>
              <a:ext cx="358920" cy="43164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AutoShape 23"/>
            <p:cNvSpPr/>
            <p:nvPr/>
          </p:nvSpPr>
          <p:spPr>
            <a:xfrm>
              <a:off x="2057040" y="3933720"/>
              <a:ext cx="358920" cy="431640"/>
            </a:xfrm>
            <a:custGeom>
              <a:avLst/>
              <a:gdLst/>
              <a:ahLst/>
              <a:rect l="l" t="t" r="r" b="b"/>
              <a:pathLst>
                <a:path w="226" h="272">
                  <a:moveTo>
                    <a:pt x="0" y="103"/>
                  </a:moveTo>
                  <a:lnTo>
                    <a:pt x="86" y="103"/>
                  </a:lnTo>
                  <a:lnTo>
                    <a:pt x="113" y="0"/>
                  </a:lnTo>
                  <a:lnTo>
                    <a:pt x="139" y="103"/>
                  </a:lnTo>
                  <a:lnTo>
                    <a:pt x="225" y="103"/>
                  </a:lnTo>
                  <a:lnTo>
                    <a:pt x="156" y="168"/>
                  </a:lnTo>
                  <a:lnTo>
                    <a:pt x="182" y="271"/>
                  </a:lnTo>
                  <a:lnTo>
                    <a:pt x="113" y="207"/>
                  </a:lnTo>
                  <a:lnTo>
                    <a:pt x="43" y="271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e71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9:21:13Z</dcterms:created>
  <dc:creator/>
  <dc:description/>
  <dc:language>en-US</dc:language>
  <cp:lastModifiedBy>Administrator</cp:lastModifiedBy>
  <dcterms:modified xsi:type="dcterms:W3CDTF">2017-02-16T09:21:5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