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9A99-7542-4E27-BC18-F42FA2FE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719C-89EC-4646-B53F-86523DE9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7AF-3FD7-4CCF-B290-021AA96F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844-2147-49C9-887E-E5B87B98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DE9-4077-43D0-9552-A05F45E0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9129-0BEE-41EC-A0D0-58D1F7C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ED5-6734-40C8-A193-2CD75FC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A84-AB4F-4A96-9C7D-20F2FCAA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C699-AA72-4EFE-B74E-1AD3EFB3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F478-C0FF-403B-8177-51B1682E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30ED-B2B3-48F3-AB54-ECD3CD3B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DE3-2F25-480A-B304-78B42C5E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7CB-E5F3-42FD-815D-846F0FC2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A73E-6749-4DD9-852A-F5DDBE1D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67BD-9336-4512-B1DD-5998E125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DEE4-56AF-4B49-A754-B75F61BE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8451-0BC9-475B-B6A5-53E35FBE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E49E-1B14-477A-8684-7C2257F9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BFE19-B563-4C32-B515-ACECA04C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969C5-FACA-451C-B39D-630866DD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6DD2-05BE-4E1B-9DC3-73661D2D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9C363-8AA8-45A4-95F8-6F43A0D3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972-7B73-4BA3-87AB-669767C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AE56-7BC8-41A4-B21A-18E62B1D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C140-5D23-4D55-A2B7-750AAFA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505A-3213-48AE-AA6C-23C632F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DAB2-D26F-4689-BE6A-8025B480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FEA6-7CEB-49B5-A8E7-F8C271E3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A92D-2063-45F6-B9FE-FB83D293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07F2A-2698-460F-96CD-FD86C486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9542-B844-4AAF-855C-B019BB84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D5E5-9F84-4999-AAD5-EE24C628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131F-9845-4045-8AEB-0320BEF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1B8-0A24-4F23-A285-58CE32A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664DF-5AF1-46F0-9280-3BE423A8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42AA-922F-4D56-9ADC-99F3F38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884BE-5F02-478E-B83F-F392AC0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894B4-37DC-4C05-A88B-64660C8F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6AD4-3631-4903-85FE-196D464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BB99-8CEF-430E-94EB-D2E2ED73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9327-1122-4B7E-9C75-07A45602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6D43-8A0A-49E7-93FE-87EC3FCA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05A3-5931-4EBF-B829-A7754BB0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C46DC-0037-4CCF-8410-7A7E25D6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A28-518C-4A3E-A8E6-12E8E51B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5E5CD-5FCE-4D69-B70B-0C18872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1A825-77E8-49FE-A00A-ED139691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510C-9A4F-419F-9603-6787968E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A2873-E49B-4EC4-8561-28BED057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5B7A-4138-4509-A3C2-6B8CCF9B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3DB4-6AFF-4611-A299-20962FAF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D7006-22BC-413D-BFC5-298B946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7059-8345-460F-8F9C-72E5BEA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3967D-0A2B-4B59-AB56-BA60BCC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FF4F-8CE0-4A42-B544-CCF130BD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800-A02C-45B5-8794-B50DEA2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B6A33-0549-4557-A257-F810AA95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68B5-8FDC-491A-9186-88FF8630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831A-2CEF-4B08-A205-4F9B0B47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928E-CBA1-42D7-96C5-938B94D6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5320B-7D4A-44CD-B478-48C8428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58792-73D3-4FCF-83AB-0ACE707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5A65-E034-4BF7-8637-203A976A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721E-E022-4649-A022-95D8C6AD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3698-F3B2-4D95-AD37-F4E9233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46F1A-3C2D-4EB0-BE7A-B7DFB2B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52D-83C0-4263-BBBC-A6FD7DF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CF8E-D1A7-4B06-BC6B-7BC64F52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F6E6-BFF3-4312-AD37-23D519B4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7FBB5-1641-4390-A386-7FFC8593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1898B-F539-4148-B500-03845EBD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848B-FF6C-4FFC-A585-019EDB0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7B240-5130-4C1B-9AB3-3F53A6B6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614F-8A89-4013-B95E-5C6859AE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1B6B7-CE60-43FE-A4DC-707C23DC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332000" y="517680"/>
            <a:ext cx="718344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D944-C475-4F7E-8E7E-14CAE4F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DC470-8717-4D80-975D-A35BE86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407-C45E-447E-B154-92AB8929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A0B23-DBCA-4BA4-ACEF-11C099D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DD60B-9888-40E9-AE87-6A32C86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6947-60EE-4D48-896B-0FFFB3B2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0500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D50D9-3F67-4455-B1EC-3E76E8CE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63008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05000"/>
            <a:ext cx="253944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E4B97-938B-4704-866C-A1126C7C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630080"/>
            <a:ext cx="384876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05000"/>
            <a:ext cx="78868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0FC-E645-4452-A113-67071AF5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191-5FD4-42AD-92E1-D331815A878D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3DD2-C392-41D7-8C56-170645106C65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5"/>
          <p:cNvGrpSpPr/>
          <p:nvPr/>
        </p:nvGrpSpPr>
        <p:grpSpPr>
          <a:xfrm>
            <a:off x="401400" y="517680"/>
            <a:ext cx="811440" cy="652320"/>
            <a:chOff x="401400" y="517680"/>
            <a:chExt cx="811440" cy="652320"/>
          </a:xfrm>
        </p:grpSpPr>
        <p:sp>
          <p:nvSpPr>
            <p:cNvPr id="6" name="等腰三角形 7"/>
            <p:cNvSpPr/>
            <p:nvPr/>
          </p:nvSpPr>
          <p:spPr>
            <a:xfrm rot="10800000">
              <a:off x="401400" y="517320"/>
              <a:ext cx="757800" cy="6523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等腰三角形 8"/>
            <p:cNvSpPr/>
            <p:nvPr/>
          </p:nvSpPr>
          <p:spPr>
            <a:xfrm rot="10800000">
              <a:off x="729000" y="754560"/>
              <a:ext cx="483840" cy="415440"/>
            </a:xfrm>
            <a:prstGeom prst="triangle">
              <a:avLst>
                <a:gd name="adj" fmla="val 50000"/>
              </a:avLst>
            </a:prstGeom>
            <a:solidFill>
              <a:srgbClr val="ffbf2b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0"/>
          <p:cNvSpPr/>
          <p:nvPr/>
        </p:nvSpPr>
        <p:spPr>
          <a:xfrm>
            <a:off x="0" y="2266920"/>
            <a:ext cx="9144000" cy="2476440"/>
          </a:xfrm>
          <a:prstGeom prst="rect">
            <a:avLst/>
          </a:prstGeom>
          <a:solidFill>
            <a:srgbClr val="ffbf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圆角矩形 11"/>
          <p:cNvSpPr/>
          <p:nvPr/>
        </p:nvSpPr>
        <p:spPr>
          <a:xfrm>
            <a:off x="4192560" y="3825720"/>
            <a:ext cx="4356000" cy="466920"/>
          </a:xfrm>
          <a:prstGeom prst="roundRect">
            <a:avLst>
              <a:gd name="adj" fmla="val 16667"/>
            </a:avLst>
          </a:prstGeom>
          <a:solidFill>
            <a:srgbClr val="29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组合 15"/>
          <p:cNvGrpSpPr/>
          <p:nvPr/>
        </p:nvGrpSpPr>
        <p:grpSpPr>
          <a:xfrm>
            <a:off x="495360" y="1650960"/>
            <a:ext cx="3606840" cy="3471840"/>
            <a:chOff x="495360" y="1650960"/>
            <a:chExt cx="3606840" cy="3471840"/>
          </a:xfrm>
        </p:grpSpPr>
        <p:sp>
          <p:nvSpPr>
            <p:cNvPr id="47" name="椭圆 12"/>
            <p:cNvSpPr/>
            <p:nvPr/>
          </p:nvSpPr>
          <p:spPr>
            <a:xfrm>
              <a:off x="495360" y="1650960"/>
              <a:ext cx="3472200" cy="3471840"/>
            </a:xfrm>
            <a:prstGeom prst="ellipse">
              <a:avLst/>
            </a:prstGeom>
            <a:solidFill>
              <a:srgbClr val="29304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图片 5" descr=""/>
            <p:cNvPicPr/>
            <p:nvPr/>
          </p:nvPicPr>
          <p:blipFill>
            <a:blip r:embed="rId3"/>
            <a:stretch/>
          </p:blipFill>
          <p:spPr>
            <a:xfrm>
              <a:off x="616680" y="1784160"/>
              <a:ext cx="3485520" cy="32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3319-4A94-4E32-99B7-82680462FF51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152-1A8E-4641-9CDE-B575D4B38D1F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28"/>
          <p:cNvGrpSpPr/>
          <p:nvPr/>
        </p:nvGrpSpPr>
        <p:grpSpPr>
          <a:xfrm>
            <a:off x="954000" y="851040"/>
            <a:ext cx="6207120" cy="5022360"/>
            <a:chOff x="954000" y="851040"/>
            <a:chExt cx="6207120" cy="5022360"/>
          </a:xfrm>
        </p:grpSpPr>
        <p:grpSp>
          <p:nvGrpSpPr>
            <p:cNvPr id="91" name="组合 18"/>
            <p:cNvGrpSpPr/>
            <p:nvPr/>
          </p:nvGrpSpPr>
          <p:grpSpPr>
            <a:xfrm>
              <a:off x="954000" y="851040"/>
              <a:ext cx="6207120" cy="5022360"/>
              <a:chOff x="954000" y="851040"/>
              <a:chExt cx="6207120" cy="5022360"/>
            </a:xfrm>
          </p:grpSpPr>
          <p:grpSp>
            <p:nvGrpSpPr>
              <p:cNvPr id="92" name="组合 3"/>
              <p:cNvGrpSpPr/>
              <p:nvPr/>
            </p:nvGrpSpPr>
            <p:grpSpPr>
              <a:xfrm>
                <a:off x="954000" y="851040"/>
                <a:ext cx="6207120" cy="5022360"/>
                <a:chOff x="954000" y="851040"/>
                <a:chExt cx="6207120" cy="5022360"/>
              </a:xfrm>
            </p:grpSpPr>
            <p:grpSp>
              <p:nvGrpSpPr>
                <p:cNvPr id="93" name="组合 4"/>
                <p:cNvGrpSpPr/>
                <p:nvPr/>
              </p:nvGrpSpPr>
              <p:grpSpPr>
                <a:xfrm>
                  <a:off x="2232000" y="1009440"/>
                  <a:ext cx="4929120" cy="4863960"/>
                  <a:chOff x="2232000" y="1009440"/>
                  <a:chExt cx="4929120" cy="4863960"/>
                </a:xfrm>
              </p:grpSpPr>
              <p:grpSp>
                <p:nvGrpSpPr>
                  <p:cNvPr id="94" name="组合 7"/>
                  <p:cNvGrpSpPr/>
                  <p:nvPr/>
                </p:nvGrpSpPr>
                <p:grpSpPr>
                  <a:xfrm>
                    <a:off x="2232000" y="1009440"/>
                    <a:ext cx="4929120" cy="4863960"/>
                    <a:chOff x="2232000" y="1009440"/>
                    <a:chExt cx="4929120" cy="4863960"/>
                  </a:xfrm>
                </p:grpSpPr>
                <p:grpSp>
                  <p:nvGrpSpPr>
                    <p:cNvPr id="95" name="组合 9"/>
                    <p:cNvGrpSpPr/>
                    <p:nvPr/>
                  </p:nvGrpSpPr>
                  <p:grpSpPr>
                    <a:xfrm>
                      <a:off x="2232000" y="1009440"/>
                      <a:ext cx="4929120" cy="4863960"/>
                      <a:chOff x="2232000" y="1009440"/>
                      <a:chExt cx="4929120" cy="4863960"/>
                    </a:xfrm>
                  </p:grpSpPr>
                  <p:sp>
                    <p:nvSpPr>
                      <p:cNvPr id="96" name="等腰三角形 18"/>
                      <p:cNvSpPr/>
                      <p:nvPr/>
                    </p:nvSpPr>
                    <p:spPr>
                      <a:xfrm rot="10800000">
                        <a:off x="2232000" y="1625040"/>
                        <a:ext cx="4929120" cy="4248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" name="等腰三角形 19"/>
                      <p:cNvSpPr/>
                      <p:nvPr/>
                    </p:nvSpPr>
                    <p:spPr>
                      <a:xfrm rot="10800000">
                        <a:off x="4813560" y="4084560"/>
                        <a:ext cx="1494360" cy="1287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" name="直接连接符 20"/>
                      <p:cNvSpPr/>
                      <p:nvPr/>
                    </p:nvSpPr>
                    <p:spPr>
                      <a:xfrm>
                        <a:off x="2232000" y="1009440"/>
                        <a:ext cx="1494360" cy="2691000"/>
                      </a:xfrm>
                      <a:prstGeom prst="line">
                        <a:avLst/>
                      </a:prstGeom>
                      <a:ln w="648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9" name="等腰三角形 17"/>
                    <p:cNvSpPr/>
                    <p:nvPr/>
                  </p:nvSpPr>
                  <p:spPr>
                    <a:xfrm rot="10800000">
                      <a:off x="6211080" y="3012480"/>
                      <a:ext cx="660600" cy="569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bf2b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0" name="直接连接符 15"/>
                  <p:cNvSpPr/>
                  <p:nvPr/>
                </p:nvSpPr>
                <p:spPr>
                  <a:xfrm>
                    <a:off x="2689200" y="1245960"/>
                    <a:ext cx="196920" cy="379440"/>
                  </a:xfrm>
                  <a:prstGeom prst="line">
                    <a:avLst/>
                  </a:prstGeom>
                  <a:ln w="6480">
                    <a:solidFill>
                      <a:srgbClr val="ffd9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" name="椭圆 12"/>
                <p:cNvSpPr/>
                <p:nvPr/>
              </p:nvSpPr>
              <p:spPr>
                <a:xfrm>
                  <a:off x="1330200" y="1817640"/>
                  <a:ext cx="1076400" cy="1076040"/>
                </a:xfrm>
                <a:prstGeom prst="ellipse">
                  <a:avLst/>
                </a:prstGeom>
                <a:solidFill>
                  <a:srgbClr val="ffbf2b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椭圆 13"/>
                <p:cNvSpPr/>
                <p:nvPr/>
              </p:nvSpPr>
              <p:spPr>
                <a:xfrm>
                  <a:off x="954000" y="851040"/>
                  <a:ext cx="563400" cy="561960"/>
                </a:xfrm>
                <a:prstGeom prst="ellipse">
                  <a:avLst/>
                </a:prstGeom>
                <a:solidFill>
                  <a:srgbClr val="000000">
                    <a:alpha val="5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直接连接符 10"/>
              <p:cNvSpPr/>
              <p:nvPr/>
            </p:nvSpPr>
            <p:spPr>
              <a:xfrm>
                <a:off x="2895840" y="1625760"/>
                <a:ext cx="422280" cy="8096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Freeform 93"/>
            <p:cNvSpPr/>
            <p:nvPr/>
          </p:nvSpPr>
          <p:spPr>
            <a:xfrm>
              <a:off x="4427280" y="1743120"/>
              <a:ext cx="526320" cy="7074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188" y="126"/>
                  </a:moveTo>
                  <a:cubicBezTo>
                    <a:pt x="188" y="79"/>
                    <a:pt x="188" y="79"/>
                    <a:pt x="188" y="79"/>
                  </a:cubicBezTo>
                  <a:cubicBezTo>
                    <a:pt x="188" y="36"/>
                    <a:pt x="152" y="0"/>
                    <a:pt x="109" y="0"/>
                  </a:cubicBezTo>
                  <a:cubicBezTo>
                    <a:pt x="109" y="0"/>
                    <a:pt x="108" y="0"/>
                    <a:pt x="108" y="0"/>
                  </a:cubicBezTo>
                  <a:cubicBezTo>
                    <a:pt x="107" y="0"/>
                    <a:pt x="107" y="0"/>
                    <a:pt x="106" y="0"/>
                  </a:cubicBezTo>
                  <a:cubicBezTo>
                    <a:pt x="63" y="0"/>
                    <a:pt x="28" y="36"/>
                    <a:pt x="28" y="79"/>
                  </a:cubicBezTo>
                  <a:cubicBezTo>
                    <a:pt x="28" y="126"/>
                    <a:pt x="28" y="126"/>
                    <a:pt x="28" y="126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288"/>
                    <a:pt x="0" y="288"/>
                    <a:pt x="0" y="288"/>
                  </a:cubicBezTo>
                  <a:cubicBezTo>
                    <a:pt x="216" y="288"/>
                    <a:pt x="216" y="288"/>
                    <a:pt x="216" y="288"/>
                  </a:cubicBezTo>
                  <a:cubicBezTo>
                    <a:pt x="216" y="126"/>
                    <a:pt x="216" y="126"/>
                    <a:pt x="216" y="126"/>
                  </a:cubicBezTo>
                  <a:lnTo>
                    <a:pt x="188" y="126"/>
                  </a:lnTo>
                  <a:close/>
                  <a:moveTo>
                    <a:pt x="133" y="259"/>
                  </a:moveTo>
                  <a:cubicBezTo>
                    <a:pt x="84" y="259"/>
                    <a:pt x="84" y="259"/>
                    <a:pt x="84" y="259"/>
                  </a:cubicBezTo>
                  <a:cubicBezTo>
                    <a:pt x="96" y="206"/>
                    <a:pt x="96" y="206"/>
                    <a:pt x="96" y="206"/>
                  </a:cubicBezTo>
                  <a:cubicBezTo>
                    <a:pt x="88" y="202"/>
                    <a:pt x="84" y="194"/>
                    <a:pt x="84" y="185"/>
                  </a:cubicBezTo>
                  <a:cubicBezTo>
                    <a:pt x="84" y="172"/>
                    <a:pt x="95" y="161"/>
                    <a:pt x="108" y="161"/>
                  </a:cubicBezTo>
                  <a:cubicBezTo>
                    <a:pt x="122" y="161"/>
                    <a:pt x="133" y="172"/>
                    <a:pt x="133" y="185"/>
                  </a:cubicBezTo>
                  <a:cubicBezTo>
                    <a:pt x="133" y="194"/>
                    <a:pt x="128" y="202"/>
                    <a:pt x="120" y="206"/>
                  </a:cubicBezTo>
                  <a:lnTo>
                    <a:pt x="133" y="259"/>
                  </a:lnTo>
                  <a:close/>
                  <a:moveTo>
                    <a:pt x="148" y="126"/>
                  </a:moveTo>
                  <a:cubicBezTo>
                    <a:pt x="67" y="126"/>
                    <a:pt x="67" y="126"/>
                    <a:pt x="67" y="126"/>
                  </a:cubicBezTo>
                  <a:cubicBezTo>
                    <a:pt x="67" y="79"/>
                    <a:pt x="67" y="79"/>
                    <a:pt x="67" y="79"/>
                  </a:cubicBezTo>
                  <a:cubicBezTo>
                    <a:pt x="67" y="57"/>
                    <a:pt x="85" y="40"/>
                    <a:pt x="106" y="40"/>
                  </a:cubicBezTo>
                  <a:cubicBezTo>
                    <a:pt x="107" y="40"/>
                    <a:pt x="108" y="40"/>
                    <a:pt x="108" y="40"/>
                  </a:cubicBezTo>
                  <a:cubicBezTo>
                    <a:pt x="108" y="40"/>
                    <a:pt x="109" y="40"/>
                    <a:pt x="109" y="40"/>
                  </a:cubicBezTo>
                  <a:cubicBezTo>
                    <a:pt x="131" y="40"/>
                    <a:pt x="148" y="57"/>
                    <a:pt x="148" y="79"/>
                  </a:cubicBezTo>
                  <a:lnTo>
                    <a:pt x="14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5CAC-7677-4F64-B26D-9BD75B31C4BE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7EBB-6E8A-4F4D-BC3F-FE38563A1695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5"/>
          <p:cNvGrpSpPr/>
          <p:nvPr/>
        </p:nvGrpSpPr>
        <p:grpSpPr>
          <a:xfrm>
            <a:off x="401400" y="517680"/>
            <a:ext cx="811440" cy="652320"/>
            <a:chOff x="401400" y="517680"/>
            <a:chExt cx="811440" cy="652320"/>
          </a:xfrm>
        </p:grpSpPr>
        <p:sp>
          <p:nvSpPr>
            <p:cNvPr id="147" name="等腰三角形 7"/>
            <p:cNvSpPr/>
            <p:nvPr/>
          </p:nvSpPr>
          <p:spPr>
            <a:xfrm rot="10800000">
              <a:off x="401400" y="517320"/>
              <a:ext cx="757800" cy="6523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等腰三角形 8"/>
            <p:cNvSpPr/>
            <p:nvPr/>
          </p:nvSpPr>
          <p:spPr>
            <a:xfrm rot="10800000">
              <a:off x="729000" y="754560"/>
              <a:ext cx="483840" cy="415440"/>
            </a:xfrm>
            <a:prstGeom prst="triangle">
              <a:avLst>
                <a:gd name="adj" fmla="val 50000"/>
              </a:avLst>
            </a:prstGeom>
            <a:solidFill>
              <a:srgbClr val="ffbf2b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组合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图片 3" descr=""/>
            <p:cNvPicPr/>
            <p:nvPr/>
          </p:nvPicPr>
          <p:blipFill>
            <a:blip r:embed="rId3"/>
            <a:srcRect l="0" t="0" r="0" b="1506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矩形 2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组合 6"/>
            <p:cNvGrpSpPr/>
            <p:nvPr/>
          </p:nvGrpSpPr>
          <p:grpSpPr>
            <a:xfrm>
              <a:off x="547560" y="1191960"/>
              <a:ext cx="6203880" cy="5022720"/>
              <a:chOff x="547560" y="1191960"/>
              <a:chExt cx="6203880" cy="5022720"/>
            </a:xfrm>
          </p:grpSpPr>
          <p:grpSp>
            <p:nvGrpSpPr>
              <p:cNvPr id="153" name="组合 9"/>
              <p:cNvGrpSpPr/>
              <p:nvPr/>
            </p:nvGrpSpPr>
            <p:grpSpPr>
              <a:xfrm>
                <a:off x="547560" y="1191960"/>
                <a:ext cx="6203880" cy="5022720"/>
                <a:chOff x="547560" y="1191960"/>
                <a:chExt cx="6203880" cy="5022720"/>
              </a:xfrm>
            </p:grpSpPr>
            <p:grpSp>
              <p:nvGrpSpPr>
                <p:cNvPr id="154" name="组合 11"/>
                <p:cNvGrpSpPr/>
                <p:nvPr/>
              </p:nvGrpSpPr>
              <p:grpSpPr>
                <a:xfrm>
                  <a:off x="1824480" y="1350720"/>
                  <a:ext cx="4926960" cy="4863960"/>
                  <a:chOff x="1824480" y="1350720"/>
                  <a:chExt cx="4926960" cy="4863960"/>
                </a:xfrm>
              </p:grpSpPr>
              <p:grpSp>
                <p:nvGrpSpPr>
                  <p:cNvPr id="155" name="组合 14"/>
                  <p:cNvGrpSpPr/>
                  <p:nvPr/>
                </p:nvGrpSpPr>
                <p:grpSpPr>
                  <a:xfrm>
                    <a:off x="1824480" y="1350720"/>
                    <a:ext cx="4926960" cy="4863960"/>
                    <a:chOff x="1824480" y="1350720"/>
                    <a:chExt cx="4926960" cy="4863960"/>
                  </a:xfrm>
                </p:grpSpPr>
                <p:grpSp>
                  <p:nvGrpSpPr>
                    <p:cNvPr id="156" name="组合 16"/>
                    <p:cNvGrpSpPr/>
                    <p:nvPr/>
                  </p:nvGrpSpPr>
                  <p:grpSpPr>
                    <a:xfrm>
                      <a:off x="1824480" y="1350720"/>
                      <a:ext cx="4926960" cy="4863960"/>
                      <a:chOff x="1824480" y="1350720"/>
                      <a:chExt cx="4926960" cy="4863960"/>
                    </a:xfrm>
                  </p:grpSpPr>
                  <p:sp>
                    <p:nvSpPr>
                      <p:cNvPr id="157" name="等腰三角形 34"/>
                      <p:cNvSpPr/>
                      <p:nvPr/>
                    </p:nvSpPr>
                    <p:spPr>
                      <a:xfrm rot="10800000">
                        <a:off x="1824480" y="1966320"/>
                        <a:ext cx="4926960" cy="4248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等腰三角形 35"/>
                      <p:cNvSpPr/>
                      <p:nvPr/>
                    </p:nvSpPr>
                    <p:spPr>
                      <a:xfrm rot="10800000">
                        <a:off x="4406400" y="4425840"/>
                        <a:ext cx="1492560" cy="1287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808080">
                          <a:alpha val="57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直接连接符 36"/>
                      <p:cNvSpPr/>
                      <p:nvPr/>
                    </p:nvSpPr>
                    <p:spPr>
                      <a:xfrm>
                        <a:off x="1824480" y="1350720"/>
                        <a:ext cx="1494000" cy="2691000"/>
                      </a:xfrm>
                      <a:prstGeom prst="line">
                        <a:avLst/>
                      </a:prstGeom>
                      <a:ln w="64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" name="等腰三角形 33"/>
                    <p:cNvSpPr/>
                    <p:nvPr/>
                  </p:nvSpPr>
                  <p:spPr>
                    <a:xfrm rot="10800000">
                      <a:off x="5803920" y="3353760"/>
                      <a:ext cx="658800" cy="5698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d980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" name="直接连接符 31"/>
                  <p:cNvSpPr/>
                  <p:nvPr/>
                </p:nvSpPr>
                <p:spPr>
                  <a:xfrm>
                    <a:off x="2282400" y="1586880"/>
                    <a:ext cx="196560" cy="379440"/>
                  </a:xfrm>
                  <a:prstGeom prst="line">
                    <a:avLst/>
                  </a:prstGeom>
                  <a:ln w="6480">
                    <a:solidFill>
                      <a:srgbClr val="ffde0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椭圆 28"/>
                <p:cNvSpPr/>
                <p:nvPr/>
              </p:nvSpPr>
              <p:spPr>
                <a:xfrm>
                  <a:off x="923760" y="2158560"/>
                  <a:ext cx="1076040" cy="1076400"/>
                </a:xfrm>
                <a:prstGeom prst="ellipse">
                  <a:avLst/>
                </a:prstGeom>
                <a:solidFill>
                  <a:srgbClr val="ffbf2b">
                    <a:alpha val="8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椭圆 29"/>
                <p:cNvSpPr/>
                <p:nvPr/>
              </p:nvSpPr>
              <p:spPr>
                <a:xfrm>
                  <a:off x="547560" y="1191960"/>
                  <a:ext cx="561960" cy="561960"/>
                </a:xfrm>
                <a:prstGeom prst="ellipse">
                  <a:avLst/>
                </a:prstGeom>
                <a:solidFill>
                  <a:srgbClr val="000000">
                    <a:alpha val="5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直接连接符 26"/>
              <p:cNvSpPr/>
              <p:nvPr/>
            </p:nvSpPr>
            <p:spPr>
              <a:xfrm>
                <a:off x="2468520" y="1966680"/>
                <a:ext cx="422280" cy="80964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010-8BB0-4588-B970-9E8FCACF000D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B2C-B8A2-4A4E-A87D-5C1573F28F97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B8AC-25B0-44F4-A290-C4A946BBFFC1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8ABB-8297-4008-81FC-ADA444664C92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6AA-CD20-4EAF-900B-076A093BA991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81CB-C339-4C02-9D92-95B832D7FEA0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32000" y="517680"/>
            <a:ext cx="718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9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f9c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28560" y="1630080"/>
            <a:ext cx="788688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39D-EBE6-432F-988B-8D37246D9A99}" type="datetime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405C-BA8E-40FE-A0F1-6F891866520C}" type="slidenum">
              <a:rPr b="0" lang="zh-CN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b6"/>
          <p:cNvPicPr/>
          <p:nvPr/>
        </p:nvPicPr>
        <p:blipFill>
          <a:blip r:embed="rId2"/>
          <a:stretch/>
        </p:blipFill>
        <p:spPr>
          <a:xfrm>
            <a:off x="753588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"/>
          <p:cNvSpPr txBox="1"/>
          <p:nvPr/>
        </p:nvSpPr>
        <p:spPr>
          <a:xfrm>
            <a:off x="1116000" y="2133720"/>
            <a:ext cx="691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40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智烧敌舰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36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二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5"/>
          <p:cNvSpPr/>
          <p:nvPr/>
        </p:nvSpPr>
        <p:spPr>
          <a:xfrm>
            <a:off x="318456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24000" y="981000"/>
            <a:ext cx="8280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句子，用带点的词造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岸上的希腊人欣喜若狂，围着阿基米德欢呼起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基米德真有本事！真了不起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8" descr="add"/>
          <p:cNvPicPr/>
          <p:nvPr/>
        </p:nvPicPr>
        <p:blipFill>
          <a:blip r:embed="rId4"/>
          <a:stretch/>
        </p:blipFill>
        <p:spPr>
          <a:xfrm>
            <a:off x="7885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388" name="Oval 9"/>
          <p:cNvSpPr/>
          <p:nvPr/>
        </p:nvSpPr>
        <p:spPr>
          <a:xfrm>
            <a:off x="41418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4500720" y="2565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3708360" y="25639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611280" y="414972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4861080" y="256536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318456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900000" y="2422440"/>
            <a:ext cx="77043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积累表示时间短的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顷刻间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       ________   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讲一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智烧敌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故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1023840" y="1092240"/>
            <a:ext cx="18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back"/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5"/>
          <p:cNvSpPr/>
          <p:nvPr/>
        </p:nvSpPr>
        <p:spPr>
          <a:xfrm>
            <a:off x="318456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900000" y="24224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课文第六节的内容，具体说一说第二艘军舰被烧的经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023840" y="109224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小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1332000" y="1052640"/>
            <a:ext cx="5976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词语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力壮   牺牲   军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惊慌失措   桅杆   顷刻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头烂额   欣喜若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5"/>
          <p:cNvSpPr/>
          <p:nvPr/>
        </p:nvSpPr>
        <p:spPr>
          <a:xfrm>
            <a:off x="611280" y="2236680"/>
            <a:ext cx="763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慌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要慌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忽然有个人大声喊叫起来。大家一看，都认得他，他就是阿基米德。阿基米德跳到一块高高的石头上，睁大眼睛对大家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回家去，把你们家里的镜子全拿来。快，快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6227640" y="278136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7"/>
          <p:cNvSpPr/>
          <p:nvPr/>
        </p:nvSpPr>
        <p:spPr>
          <a:xfrm>
            <a:off x="7236000" y="321300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8"/>
          <p:cNvSpPr/>
          <p:nvPr/>
        </p:nvSpPr>
        <p:spPr>
          <a:xfrm>
            <a:off x="3132000" y="371628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6"/>
          <p:cNvSpPr/>
          <p:nvPr/>
        </p:nvSpPr>
        <p:spPr>
          <a:xfrm>
            <a:off x="755640" y="2133720"/>
            <a:ext cx="712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候，太阳高高地挂在天空，阿基米德就指挥大家一字儿排开，拿起镜子把反射阳光集中对准第一艘军舰的布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1692360" y="314172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6443640" y="314172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1"/>
          <p:cNvSpPr/>
          <p:nvPr/>
        </p:nvSpPr>
        <p:spPr>
          <a:xfrm>
            <a:off x="2771640" y="364500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9"/>
          <p:cNvSpPr/>
          <p:nvPr/>
        </p:nvSpPr>
        <p:spPr>
          <a:xfrm>
            <a:off x="82692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基米德笑眯眯地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什么本事？是太阳帮了咱们的忙。你们想，咱们上千面镜子把太阳光反射到布帆上去，这么高的温度，布帆当然就会着火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971640" y="2924280"/>
            <a:ext cx="7129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1"/>
          <p:cNvSpPr/>
          <p:nvPr/>
        </p:nvSpPr>
        <p:spPr>
          <a:xfrm>
            <a:off x="971640" y="3357720"/>
            <a:ext cx="71294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"/>
          <p:cNvSpPr/>
          <p:nvPr/>
        </p:nvSpPr>
        <p:spPr>
          <a:xfrm>
            <a:off x="1042920" y="3789360"/>
            <a:ext cx="3384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6"/>
          <p:cNvSpPr/>
          <p:nvPr/>
        </p:nvSpPr>
        <p:spPr>
          <a:xfrm>
            <a:off x="1187280" y="155736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烧得焦头烂额的罗马士兵狂呼乱叫，纷纷跳水逃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1258920" y="328464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样，第三、第四艘军舰相继被烧，吓得后面几艘军舰掉头就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5"/>
          <p:cNvSpPr/>
          <p:nvPr/>
        </p:nvSpPr>
        <p:spPr>
          <a:xfrm>
            <a:off x="755640" y="2349360"/>
            <a:ext cx="712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187280" y="2060640"/>
            <a:ext cx="6913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胜利了！海岸上的希腊人欣喜若狂，围着阿基米德欢呼起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基米德真有本事！真了不起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755640" y="981000"/>
            <a:ext cx="763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慌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要慌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忽然有个人大声喊叫起来。大家一看，都认得他，他就是阿基米德。阿基米德跳到一块高高的石头上，睁大眼睛对大家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回家去，把你们家里的镜子全拿来。快，快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684360" y="3213000"/>
            <a:ext cx="7775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基米德笑眯眯地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有什么本事？是太阳帮了咱们的忙。你们想，咱们上千面镜子把太阳光反射到布帆上去，这么高的温度，布帆当然就会着火了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7"/>
          <p:cNvSpPr/>
          <p:nvPr/>
        </p:nvSpPr>
        <p:spPr>
          <a:xfrm>
            <a:off x="755640" y="1413000"/>
            <a:ext cx="712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候，太阳高高地挂在天空，阿基米德就指挥大家一字儿排开，拿起镜子把反射阳光集中对准第一艘军舰的布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684360" y="3141720"/>
            <a:ext cx="727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基米德又指挥大家用镜子把反射的阳光对准第二艘军舰。第二艘军舰也着火了。就这样，第三、第四艘军舰相继被烧，吓得后面几艘军舰掉头就逃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20:21Z</dcterms:created>
  <dc:creator/>
  <dc:description/>
  <dc:language>en-US</dc:language>
  <cp:lastModifiedBy>Administrator</cp:lastModifiedBy>
  <dcterms:modified xsi:type="dcterms:W3CDTF">2017-02-16T09:20:38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