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B120-141F-4B48-B41B-6FBD6FD7E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E63A-5077-4F9F-B7A3-F1334749D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FE38-B3A3-42AC-8FD3-99ABDE45C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73CF-DFCF-4D37-8CD1-1B3281C59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F85E-BFEF-4CDC-9FDB-3E66197F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5725-275E-4A5E-B77A-1F8B69782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D757-8178-41B0-921D-92D5F26AF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03C1-5064-4FD6-84BC-F9B04FD54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AB50-81D4-47CB-B63C-FC1B4719E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9B31-F7DF-47AA-9DF1-FAE49167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51FF-039E-4527-8C48-BAE6F522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BD4F-6FBB-4EF5-BC10-AB08A49D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4AB0F-7AC5-41AC-8A39-B7371E3D4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096"/>
          <p:cNvPicPr/>
          <p:nvPr/>
        </p:nvPicPr>
        <p:blipFill>
          <a:blip r:embed="rId1"/>
          <a:srcRect l="0" t="0" r="19598" b="0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Object 3"/>
          <p:cNvGraphicFramePr/>
          <p:nvPr/>
        </p:nvGraphicFramePr>
        <p:xfrm>
          <a:off x="1828800" y="990720"/>
          <a:ext cx="6324480" cy="160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990720"/>
                    <a:ext cx="632448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Text Box 4"/>
          <p:cNvSpPr/>
          <p:nvPr/>
        </p:nvSpPr>
        <p:spPr>
          <a:xfrm>
            <a:off x="1219320" y="213372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5</a:t>
            </a:r>
            <a:r>
              <a:rPr b="1" lang="zh-CN" sz="7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走路的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奥秘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Object 5"/>
          <p:cNvGraphicFramePr/>
          <p:nvPr/>
        </p:nvGraphicFramePr>
        <p:xfrm>
          <a:off x="7629480" y="2666880"/>
          <a:ext cx="1514520" cy="1562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29480" y="2666880"/>
                    <a:ext cx="1514520" cy="15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6"/>
          <p:cNvGraphicFramePr/>
          <p:nvPr/>
        </p:nvGraphicFramePr>
        <p:xfrm>
          <a:off x="1523880" y="3352680"/>
          <a:ext cx="5888160" cy="2438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8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23880" y="3352680"/>
                    <a:ext cx="588816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096"/>
          <p:cNvPicPr/>
          <p:nvPr/>
        </p:nvPicPr>
        <p:blipFill>
          <a:blip r:embed="rId1"/>
          <a:srcRect l="0" t="0" r="19598" b="0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533520" y="609480"/>
            <a:ext cx="5105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选词填空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1523880" y="1676520"/>
            <a:ext cx="541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惊喜  惊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914400" y="2590920"/>
            <a:ext cx="75438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老爷爷终于认出了我，他（     ）地说：“啊！是你啊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林萍看到蝇虎逮住了苍蝇，（    ）地想：“不会飞的怎么能抓住会飞的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6858000" y="38862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惊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6477120" y="25146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惊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096"/>
          <p:cNvPicPr/>
          <p:nvPr/>
        </p:nvPicPr>
        <p:blipFill>
          <a:blip r:embed="rId1"/>
          <a:srcRect l="0" t="0" r="19598" b="0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33520" y="609480"/>
            <a:ext cx="5105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选词填空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1447920" y="182880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奥秘  秘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914400" y="2895480"/>
            <a:ext cx="77724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这是一份（      ）文件，你应当妥善保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大自然无穷的（      ）等着我们去探索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3352680" y="281952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秘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4267080" y="419112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奥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096"/>
          <p:cNvPicPr/>
          <p:nvPr/>
        </p:nvPicPr>
        <p:blipFill>
          <a:blip r:embed="rId1"/>
          <a:srcRect l="0" t="0" r="19598" b="0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914400" y="762120"/>
            <a:ext cx="7761240" cy="72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蚂蚁  顺序</a:t>
            </a:r>
            <a:r>
              <a:rPr b="1" lang="zh-CN" sz="6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</a:t>
            </a:r>
            <a:r>
              <a:rPr b="1" lang="zh-CN" sz="6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嘟</a:t>
            </a: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囔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蘸</a:t>
            </a:r>
            <a:r>
              <a:rPr b="1" lang="zh-CN" sz="6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墨水</a:t>
            </a:r>
            <a:r>
              <a:rPr b="1" lang="zh-CN" sz="6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</a:t>
            </a:r>
            <a:r>
              <a:rPr b="1" lang="zh-CN" sz="6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面面相觑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凑</a:t>
            </a:r>
            <a:r>
              <a:rPr b="1" lang="zh-CN" sz="6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合</a:t>
            </a:r>
            <a:r>
              <a:rPr b="1" lang="zh-CN" sz="6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</a:t>
            </a:r>
            <a:r>
              <a:rPr b="1" lang="zh-CN" sz="6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奥秘  惊喜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提醒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6781680" y="3505320"/>
            <a:ext cx="16416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096"/>
          <p:cNvPicPr/>
          <p:nvPr/>
        </p:nvPicPr>
        <p:blipFill>
          <a:blip r:embed="rId1"/>
          <a:srcRect l="0" t="0" r="19598" b="0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Object 3"/>
          <p:cNvGraphicFramePr/>
          <p:nvPr/>
        </p:nvGraphicFramePr>
        <p:xfrm>
          <a:off x="1752480" y="1219320"/>
          <a:ext cx="5486400" cy="4111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1219320"/>
                    <a:ext cx="548640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096"/>
          <p:cNvPicPr/>
          <p:nvPr/>
        </p:nvPicPr>
        <p:blipFill>
          <a:blip r:embed="rId1"/>
          <a:srcRect l="0" t="0" r="19598" b="0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Object 3"/>
          <p:cNvGraphicFramePr/>
          <p:nvPr/>
        </p:nvGraphicFramePr>
        <p:xfrm>
          <a:off x="2057400" y="1143000"/>
          <a:ext cx="4724280" cy="449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7400" y="1143000"/>
                    <a:ext cx="472428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116000" y="260280"/>
            <a:ext cx="6338880" cy="47545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826920" y="5157720"/>
            <a:ext cx="74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原来，蚂蚁走路时，一边的前足、后足和另一边的中足同时着地，仿佛一个“三角架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096"/>
          <p:cNvPicPr/>
          <p:nvPr/>
        </p:nvPicPr>
        <p:blipFill>
          <a:blip r:embed="rId1"/>
          <a:srcRect l="0" t="0" r="19598" b="0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3276720" y="1413000"/>
            <a:ext cx="259236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发现问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观察实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决问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096"/>
          <p:cNvPicPr/>
          <p:nvPr/>
        </p:nvPicPr>
        <p:blipFill>
          <a:blip r:embed="rId1"/>
          <a:srcRect l="0" t="0" r="19598" b="0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3"/>
          <p:cNvSpPr/>
          <p:nvPr/>
        </p:nvSpPr>
        <p:spPr>
          <a:xfrm>
            <a:off x="3044520" y="292320"/>
            <a:ext cx="25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由读课文第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节，思考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用了哪些来观察，结果如何，填在表格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755640" y="1773360"/>
          <a:ext cx="7201080" cy="2211120"/>
        </p:xfrm>
        <a:graphic>
          <a:graphicData uri="http://schemas.openxmlformats.org/drawingml/2006/table">
            <a:tbl>
              <a:tblPr/>
              <a:tblGrid>
                <a:gridCol w="1592280"/>
                <a:gridCol w="2576520"/>
                <a:gridCol w="30322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观察次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观察方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结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一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二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三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AutoShape 26">
            <a:hlinkClick r:id="" action="ppaction://hlinkshowjump?jump=nextslide"/>
          </p:cNvPr>
          <p:cNvSpPr/>
          <p:nvPr/>
        </p:nvSpPr>
        <p:spPr>
          <a:xfrm flipV="1">
            <a:off x="7596360" y="2708280"/>
            <a:ext cx="288720" cy="216000"/>
          </a:xfrm>
          <a:custGeom>
            <a:avLst/>
            <a:gdLst>
              <a:gd name="textAreaLeft" fmla="*/ 13680 w 288720"/>
              <a:gd name="textAreaRight" fmla="*/ 275040 w 288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860" h="21600">
                <a:moveTo>
                  <a:pt x="0" y="0"/>
                </a:moveTo>
                <a:lnTo>
                  <a:pt x="28860" y="0"/>
                </a:lnTo>
                <a:lnTo>
                  <a:pt x="28860" y="21600"/>
                </a:lnTo>
                <a:lnTo>
                  <a:pt x="0" y="21600"/>
                </a:lnTo>
                <a:close/>
              </a:path>
              <a:path fill="lightenLess" w="28860" h="21600">
                <a:moveTo>
                  <a:pt x="0" y="0"/>
                </a:moveTo>
                <a:lnTo>
                  <a:pt x="28860" y="0"/>
                </a:lnTo>
                <a:lnTo>
                  <a:pt x="27460" y="1400"/>
                </a:lnTo>
                <a:lnTo>
                  <a:pt x="1400" y="1400"/>
                </a:lnTo>
                <a:close/>
              </a:path>
              <a:path fill="darken" w="28860" h="21600">
                <a:moveTo>
                  <a:pt x="28860" y="0"/>
                </a:moveTo>
                <a:lnTo>
                  <a:pt x="28860" y="21600"/>
                </a:lnTo>
                <a:lnTo>
                  <a:pt x="27460" y="20200"/>
                </a:lnTo>
                <a:lnTo>
                  <a:pt x="27460" y="1400"/>
                </a:lnTo>
                <a:close/>
              </a:path>
              <a:path fill="darkenLess" w="28860" h="21600">
                <a:moveTo>
                  <a:pt x="288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60" y="20200"/>
                </a:lnTo>
                <a:close/>
              </a:path>
              <a:path fill="lighten" w="288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60" h="21600">
                <a:moveTo>
                  <a:pt x="7423" y="3794"/>
                </a:moveTo>
                <a:lnTo>
                  <a:pt x="21436" y="10800"/>
                </a:lnTo>
                <a:lnTo>
                  <a:pt x="742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096"/>
          <p:cNvPicPr/>
          <p:nvPr/>
        </p:nvPicPr>
        <p:blipFill>
          <a:blip r:embed="rId1"/>
          <a:srcRect l="0" t="0" r="19598" b="0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"/>
          <p:cNvSpPr/>
          <p:nvPr/>
        </p:nvSpPr>
        <p:spPr>
          <a:xfrm>
            <a:off x="3044520" y="292320"/>
            <a:ext cx="25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由读课文第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节，思考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用了哪些来观察，结果如何，填在表格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755640" y="1773360"/>
          <a:ext cx="7201080" cy="2560680"/>
        </p:xfrm>
        <a:graphic>
          <a:graphicData uri="http://schemas.openxmlformats.org/drawingml/2006/table">
            <a:tbl>
              <a:tblPr/>
              <a:tblGrid>
                <a:gridCol w="1592280"/>
                <a:gridCol w="2576520"/>
                <a:gridCol w="30322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观察次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观察方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结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一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瞪大眼睛盯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谁也没有看出究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二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蘸上墨水看脚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看不出有什么脚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三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拿来了放大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脚印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“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品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”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字形排列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AutoShape 26">
            <a:hlinkClick r:id="" action="ppaction://hlinkshowjump?jump=nextslide"/>
          </p:cNvPr>
          <p:cNvSpPr/>
          <p:nvPr/>
        </p:nvSpPr>
        <p:spPr>
          <a:xfrm flipV="1">
            <a:off x="7596360" y="3213000"/>
            <a:ext cx="288720" cy="216000"/>
          </a:xfrm>
          <a:custGeom>
            <a:avLst/>
            <a:gdLst>
              <a:gd name="textAreaLeft" fmla="*/ 13680 w 288720"/>
              <a:gd name="textAreaRight" fmla="*/ 275040 w 288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860" h="21600">
                <a:moveTo>
                  <a:pt x="0" y="0"/>
                </a:moveTo>
                <a:lnTo>
                  <a:pt x="28860" y="0"/>
                </a:lnTo>
                <a:lnTo>
                  <a:pt x="28860" y="21600"/>
                </a:lnTo>
                <a:lnTo>
                  <a:pt x="0" y="21600"/>
                </a:lnTo>
                <a:close/>
              </a:path>
              <a:path fill="lightenLess" w="28860" h="21600">
                <a:moveTo>
                  <a:pt x="0" y="0"/>
                </a:moveTo>
                <a:lnTo>
                  <a:pt x="28860" y="0"/>
                </a:lnTo>
                <a:lnTo>
                  <a:pt x="27460" y="1400"/>
                </a:lnTo>
                <a:lnTo>
                  <a:pt x="1400" y="1400"/>
                </a:lnTo>
                <a:close/>
              </a:path>
              <a:path fill="darken" w="28860" h="21600">
                <a:moveTo>
                  <a:pt x="28860" y="0"/>
                </a:moveTo>
                <a:lnTo>
                  <a:pt x="28860" y="21600"/>
                </a:lnTo>
                <a:lnTo>
                  <a:pt x="27460" y="20200"/>
                </a:lnTo>
                <a:lnTo>
                  <a:pt x="27460" y="1400"/>
                </a:lnTo>
                <a:close/>
              </a:path>
              <a:path fill="darkenLess" w="28860" h="21600">
                <a:moveTo>
                  <a:pt x="288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60" y="20200"/>
                </a:lnTo>
                <a:close/>
              </a:path>
              <a:path fill="lighten" w="288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60" h="21600">
                <a:moveTo>
                  <a:pt x="7423" y="3794"/>
                </a:moveTo>
                <a:lnTo>
                  <a:pt x="21436" y="10800"/>
                </a:lnTo>
                <a:lnTo>
                  <a:pt x="742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096"/>
          <p:cNvPicPr/>
          <p:nvPr/>
        </p:nvPicPr>
        <p:blipFill>
          <a:blip r:embed="rId1"/>
          <a:srcRect l="0" t="0" r="19598" b="0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1187280" y="1413000"/>
            <a:ext cx="705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们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面面相觑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想不出什么再好的法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cp:keywords/>
  <dc:language>en-US</dc:language>
  <cp:lastModifiedBy>Bonny</cp:lastModifiedBy>
  <dcterms:modified xsi:type="dcterms:W3CDTF">2015-10-05T14:40:03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