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A06-BA18-43C9-821C-F6E02A03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866-C6D9-4530-965B-E78EBF7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310-52D9-46C5-B67B-64E771A5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155-2DC6-4B95-9EDE-E1C580C0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085-A4A2-4935-BC28-E3B6BD33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FB4-9571-4B93-A4C7-228A4CE0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78B-5637-4717-B6A6-C4A4235B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9DB-268F-46C3-98EC-A5842750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C9E-A6FF-48E1-BCE4-A946E7F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A2E-8163-4245-9214-9E24C3A5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499-2B46-46C1-92EF-F6992EF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29B-C49A-4BD1-A941-5776E24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7FD-6AF4-4B1E-BA6F-12527CD34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image" Target="../media/image5.png"/><Relationship Id="rId8" Type="http://schemas.openxmlformats.org/officeDocument/2006/relationships/slide" Target="slide6.xm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" Target="slide10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103400" y="2120760"/>
            <a:ext cx="6931080" cy="2067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b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b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5"/>
          <p:cNvPicPr/>
          <p:nvPr/>
        </p:nvPicPr>
        <p:blipFill>
          <a:blip r:embed="rId10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back"/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1258920" y="2205000"/>
            <a:ext cx="6932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了解什么动物的奥秘吗？和同学或家长交流一下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45440" y="76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ack"/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76508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371760" y="2392920"/>
            <a:ext cx="11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生字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熟读课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5"/>
          <p:cNvSpPr/>
          <p:nvPr/>
        </p:nvSpPr>
        <p:spPr>
          <a:xfrm>
            <a:off x="2409840" y="2665440"/>
            <a:ext cx="504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    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2556000" y="146700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宋体"/>
                <a:ea typeface="Times New Roman"/>
              </a:rPr>
              <a:t>ào    m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2124000" y="414972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秘  密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039_JPG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761080"/>
          </a:xfrm>
          <a:prstGeom prst="rect">
            <a:avLst/>
          </a:prstGeom>
          <a:ln w="0">
            <a:noFill/>
          </a:ln>
        </p:spPr>
      </p:pic>
      <p:pic>
        <p:nvPicPr>
          <p:cNvPr id="55" name="WordArt 13" descr=""/>
          <p:cNvPicPr/>
          <p:nvPr/>
        </p:nvPicPr>
        <p:blipFill>
          <a:blip r:embed="rId2"/>
          <a:stretch/>
        </p:blipFill>
        <p:spPr>
          <a:xfrm>
            <a:off x="1596960" y="1444680"/>
            <a:ext cx="5900760" cy="209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back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up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39640" y="1484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预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轻读课文，读准字音，读通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思考：蚂蚁走路的奥秘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8"/>
          <p:cNvSpPr/>
          <p:nvPr/>
        </p:nvSpPr>
        <p:spPr>
          <a:xfrm>
            <a:off x="1042920" y="1052640"/>
            <a:ext cx="7292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826920" y="1773360"/>
            <a:ext cx="73933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读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秘  蚂蚁  逃窜   顺序   嘟囔   提醒    议论纷纷  面面相觑  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5"/>
          <p:cNvSpPr/>
          <p:nvPr/>
        </p:nvSpPr>
        <p:spPr>
          <a:xfrm>
            <a:off x="925560" y="981000"/>
            <a:ext cx="753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1"/>
          <p:cNvSpPr/>
          <p:nvPr/>
        </p:nvSpPr>
        <p:spPr>
          <a:xfrm>
            <a:off x="1547640" y="1773360"/>
            <a:ext cx="612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，蚂蚁走路时，一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足、后足和另一边的中足同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地，仿佛一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7"/>
          <p:cNvSpPr/>
          <p:nvPr/>
        </p:nvSpPr>
        <p:spPr>
          <a:xfrm>
            <a:off x="1116000" y="7650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看了半天，眼花了，腰酸了，谁也没有看出究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6516720" y="141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懊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900000" y="242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么办呢？我们面面相觑，想不出什么再好的法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6156360" y="3213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奈 失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1116000" y="4076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，脚印！”不知谁惊喜得大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4211640" y="4797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惊 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25560" y="981000"/>
            <a:ext cx="753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403280" y="25506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科学奥秘仅仅靠好奇是远远不够的，还需要毅力和智慧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25560" y="981000"/>
            <a:ext cx="753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26920" y="1773360"/>
            <a:ext cx="73933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正确读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秘  蚂蚁  逃窜   顺序   嘟囔   提醒    议论纷纷  面面相觑  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3-27T07:04:48Z</dcterms:modified>
  <cp:revision>75</cp:revision>
  <dc:subject/>
  <dc:title>PowerPoint Presentation</dc:title>
</cp:coreProperties>
</file>