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19EC-C06E-44CE-913E-A8CB9F6D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9AB-3197-4B78-9B70-C1D7650F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41BA-ECBE-41F8-A506-142A26D3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F55-9A84-4C15-85B2-879DE4E9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960-EC29-4C63-87DC-DA9491BA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139-E92C-472C-8857-EDD174F3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701-181C-4C4C-832D-C9CFEBF2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6DD-0819-4E2A-8913-5DE8FCA5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A16-5F53-4F5F-98E0-D5C45E60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2EF-F0FF-45F8-BDAB-63253FA8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0AB6-4000-41D3-9D38-CC206E84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A48-28D3-4726-9F67-EE22E34F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1A3A-C088-41B6-8F08-085565466A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Administrator\Desktop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1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1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1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1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1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1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矩形 1" descr=""/>
          <p:cNvPicPr/>
          <p:nvPr/>
        </p:nvPicPr>
        <p:blipFill>
          <a:blip r:embed="rId1"/>
          <a:stretch/>
        </p:blipFill>
        <p:spPr>
          <a:xfrm>
            <a:off x="19080" y="2554200"/>
            <a:ext cx="7624800" cy="27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内容占位符 3" descr="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01:13:05Z</dcterms:created>
  <dc:creator/>
  <dc:description/>
  <dc:language>en-US</dc:language>
  <cp:lastModifiedBy/>
  <dcterms:modified xsi:type="dcterms:W3CDTF">2014-04-22T01:13:10Z</dcterms:modified>
  <cp:revision>1</cp:revision>
  <dc:subject/>
  <dc:title/>
</cp:coreProperties>
</file>