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4.wmf" ContentType="image/x-wmf"/>
  <Override PartName="/ppt/media/image13.jpeg" ContentType="image/jpeg"/>
  <Override PartName="/ppt/media/image24.gif" ContentType="image/gif"/>
  <Override PartName="/ppt/media/image16.png" ContentType="image/png"/>
  <Override PartName="/ppt/media/image23.gif" ContentType="image/gif"/>
  <Override PartName="/ppt/media/image21.jpeg" ContentType="image/jpeg"/>
  <Override PartName="/ppt/media/image22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21C-FFCF-42B1-ABDA-834A4D64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B07-98A0-4557-A89F-FFE76D99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D36-D690-4877-917A-22C4BD86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140-96C4-4349-92FD-215DFB7C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FB2-CA26-4172-BC68-ADB8D005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4E1-7B92-45E9-BF3D-44A5529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F4C-C6C2-49A9-9B85-CF760CFC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A8C-6FF1-4CFC-BD32-18F3B680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5AD-B850-472F-968F-BDDD2A7B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4B3-5839-4DCF-B27B-E0755C93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32F-F0AD-4102-9E27-44A6EBC5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552-B130-45DB-A5D0-FC045EE5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7179-4E42-40AF-9548-2F1E031FB3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23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568240" y="289548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奶奶最喜欢的铃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71640" y="1630440"/>
            <a:ext cx="72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华文仿宋"/>
                <a:ea typeface="华文仿宋"/>
              </a:rPr>
              <a:t>奶奶把冬冬一把</a:t>
            </a:r>
            <a:r>
              <a:rPr b="1" lang="zh-CN" sz="3200" spc="-1" strike="noStrike">
                <a:solidFill>
                  <a:srgbClr val="0000cc"/>
                </a:solidFill>
                <a:latin typeface="华文仿宋"/>
                <a:ea typeface="华文仿宋"/>
              </a:rPr>
              <a:t>揽在</a:t>
            </a:r>
            <a:r>
              <a:rPr b="1" lang="zh-CN" sz="3200" spc="-1" strike="noStrike">
                <a:solidFill>
                  <a:srgbClr val="cc0000"/>
                </a:solidFill>
                <a:latin typeface="华文仿宋"/>
                <a:ea typeface="华文仿宋"/>
              </a:rPr>
              <a:t>怀里，紧紧地</a:t>
            </a:r>
            <a:r>
              <a:rPr b="1" lang="zh-CN" sz="3200" spc="-1" strike="noStrike">
                <a:solidFill>
                  <a:srgbClr val="0000cc"/>
                </a:solidFill>
                <a:latin typeface="华文仿宋"/>
                <a:ea typeface="华文仿宋"/>
              </a:rPr>
              <a:t>搂着</a:t>
            </a:r>
            <a:r>
              <a:rPr b="1" lang="zh-CN" sz="3200" spc="-1" strike="noStrike">
                <a:solidFill>
                  <a:srgbClr val="cc0000"/>
                </a:solidFill>
                <a:latin typeface="华文仿宋"/>
                <a:ea typeface="华文仿宋"/>
              </a:rPr>
              <a:t>她说：“我最喜欢的是每个星期六早晨听见你按响的那只门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295280" y="372888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仿宋"/>
                <a:ea typeface="华文仿宋"/>
              </a:rPr>
              <a:t>动作描写：揽在、搂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967040" y="45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语言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5667480" y="3770280"/>
            <a:ext cx="215640" cy="12254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146640" y="345744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都表达了奶奶对冬冬的疼爱。（表达的感情是一致的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23640" y="2565360"/>
            <a:ext cx="698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认真阅读课文，想一想，冬冬对奶奶的感情是怎样的？你从哪里可以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矩形 3" descr=""/>
          <p:cNvPicPr/>
          <p:nvPr/>
        </p:nvPicPr>
        <p:blipFill>
          <a:blip r:embed="rId1"/>
          <a:stretch/>
        </p:blipFill>
        <p:spPr>
          <a:xfrm>
            <a:off x="2736720" y="6480"/>
            <a:ext cx="3614760" cy="149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1"/>
          <p:cNvSpPr/>
          <p:nvPr/>
        </p:nvSpPr>
        <p:spPr>
          <a:xfrm>
            <a:off x="1403280" y="1628640"/>
            <a:ext cx="68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冬冬喜欢奶奶、关心奶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00000" y="2852640"/>
            <a:ext cx="705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每星期六早晨，冬冬都要去看望奶奶，陪奶奶说说话，并捎去爸爸妈妈的问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冬冬笑了，她也紧紧地抱了一下奶奶，说：“那也是我最喜欢的铃儿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371600" y="1066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冬冬为什么要那样回答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2895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让奶奶高兴，表现了冬冬的懂事和孝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Users\Administrator\Desktop\北师3B\语文北师大三年级下册\奶奶最喜欢的铃儿\《奶奶最喜欢的铃儿》文章写法分析.jpg"/>
          <p:cNvPicPr/>
          <p:nvPr/>
        </p:nvPicPr>
        <p:blipFill>
          <a:blip r:embed="rId2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09680" y="1143000"/>
            <a:ext cx="3598920" cy="3598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00174757"/>
          <p:cNvPicPr/>
          <p:nvPr/>
        </p:nvPicPr>
        <p:blipFill>
          <a:blip r:embed="rId2"/>
          <a:stretch/>
        </p:blipFill>
        <p:spPr>
          <a:xfrm>
            <a:off x="2803680" y="1482840"/>
            <a:ext cx="1296720" cy="28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00174757"/>
          <p:cNvPicPr/>
          <p:nvPr/>
        </p:nvPicPr>
        <p:blipFill>
          <a:blip r:embed="rId3"/>
          <a:stretch/>
        </p:blipFill>
        <p:spPr>
          <a:xfrm>
            <a:off x="2801880" y="1467000"/>
            <a:ext cx="2340000" cy="280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0174757"/>
          <p:cNvPicPr/>
          <p:nvPr/>
        </p:nvPicPr>
        <p:blipFill>
          <a:blip r:embed="rId4"/>
          <a:stretch/>
        </p:blipFill>
        <p:spPr>
          <a:xfrm>
            <a:off x="4100400" y="1500120"/>
            <a:ext cx="10432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2 0.00301 L -0.11233 0.00301 E">
                                      <p:cBhvr>
                                        <p:cTn id="227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87 0.00047 L -0.03559 0.00047 E">
                                      <p:cBhvr>
                                        <p:cTn id="229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55760" y="1839960"/>
            <a:ext cx="363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rcRect l="49006" t="0" r="0" b="0"/>
          <a:stretch/>
        </p:blipFill>
        <p:spPr>
          <a:xfrm>
            <a:off x="4037040" y="1838160"/>
            <a:ext cx="1855800" cy="314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rcRect l="0" t="0" r="50005" b="0"/>
          <a:stretch/>
        </p:blipFill>
        <p:spPr>
          <a:xfrm>
            <a:off x="2254320" y="1838160"/>
            <a:ext cx="1819080" cy="3143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357360" y="457200"/>
            <a:ext cx="152100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a0000"/>
                </a:solidFill>
                <a:latin typeface="黑体"/>
                <a:ea typeface="黑体"/>
              </a:rPr>
              <a:t>亲   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8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0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990720" y="17524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我们应该怎样对待自己的亲人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2"/>
          <p:cNvSpPr/>
          <p:nvPr/>
        </p:nvSpPr>
        <p:spPr>
          <a:xfrm>
            <a:off x="838080" y="228600"/>
            <a:ext cx="7669440" cy="6330960"/>
          </a:xfrm>
          <a:custGeom>
            <a:avLst/>
            <a:gdLst>
              <a:gd name="textAreaLeft" fmla="*/ 0 w 7669440"/>
              <a:gd name="textAreaRight" fmla="*/ 7669800 w 7669440"/>
              <a:gd name="textAreaTop" fmla="*/ 0 h 6330960"/>
              <a:gd name="textAreaBottom" fmla="*/ 6331320 h 6330960"/>
            </a:gdLst>
            <a:ahLst/>
            <a:rect l="textAreaLeft" t="textAreaTop" r="textAreaRight" b="textAreaBottom"/>
            <a:pathLst>
              <a:path w="4831" h="3988">
                <a:moveTo>
                  <a:pt x="2314" y="502"/>
                </a:moveTo>
                <a:cubicBezTo>
                  <a:pt x="2129" y="525"/>
                  <a:pt x="1962" y="222"/>
                  <a:pt x="1747" y="162"/>
                </a:cubicBezTo>
                <a:cubicBezTo>
                  <a:pt x="1532" y="102"/>
                  <a:pt x="1236" y="116"/>
                  <a:pt x="1021" y="139"/>
                </a:cubicBezTo>
                <a:cubicBezTo>
                  <a:pt x="806" y="162"/>
                  <a:pt x="605" y="222"/>
                  <a:pt x="454" y="298"/>
                </a:cubicBezTo>
                <a:cubicBezTo>
                  <a:pt x="303" y="374"/>
                  <a:pt x="190" y="480"/>
                  <a:pt x="114" y="593"/>
                </a:cubicBezTo>
                <a:cubicBezTo>
                  <a:pt x="38" y="706"/>
                  <a:pt x="0" y="831"/>
                  <a:pt x="0" y="978"/>
                </a:cubicBezTo>
                <a:cubicBezTo>
                  <a:pt x="0" y="1125"/>
                  <a:pt x="22" y="1266"/>
                  <a:pt x="114" y="1477"/>
                </a:cubicBezTo>
                <a:cubicBezTo>
                  <a:pt x="206" y="1688"/>
                  <a:pt x="374" y="2005"/>
                  <a:pt x="555" y="2247"/>
                </a:cubicBezTo>
                <a:cubicBezTo>
                  <a:pt x="736" y="2489"/>
                  <a:pt x="1003" y="2736"/>
                  <a:pt x="1202" y="2929"/>
                </a:cubicBezTo>
                <a:cubicBezTo>
                  <a:pt x="1401" y="3122"/>
                  <a:pt x="1573" y="3250"/>
                  <a:pt x="1747" y="3405"/>
                </a:cubicBezTo>
                <a:cubicBezTo>
                  <a:pt x="1921" y="3560"/>
                  <a:pt x="2148" y="3783"/>
                  <a:pt x="2246" y="3859"/>
                </a:cubicBezTo>
                <a:cubicBezTo>
                  <a:pt x="2344" y="3935"/>
                  <a:pt x="2168" y="3988"/>
                  <a:pt x="2336" y="3859"/>
                </a:cubicBezTo>
                <a:cubicBezTo>
                  <a:pt x="2504" y="3730"/>
                  <a:pt x="2994" y="3316"/>
                  <a:pt x="3255" y="3087"/>
                </a:cubicBezTo>
                <a:cubicBezTo>
                  <a:pt x="3516" y="2858"/>
                  <a:pt x="3671" y="2729"/>
                  <a:pt x="3903" y="2487"/>
                </a:cubicBezTo>
                <a:cubicBezTo>
                  <a:pt x="4135" y="2245"/>
                  <a:pt x="4499" y="1891"/>
                  <a:pt x="4650" y="1636"/>
                </a:cubicBezTo>
                <a:cubicBezTo>
                  <a:pt x="4801" y="1381"/>
                  <a:pt x="4831" y="1171"/>
                  <a:pt x="4808" y="956"/>
                </a:cubicBezTo>
                <a:cubicBezTo>
                  <a:pt x="4785" y="741"/>
                  <a:pt x="4688" y="494"/>
                  <a:pt x="4514" y="343"/>
                </a:cubicBezTo>
                <a:cubicBezTo>
                  <a:pt x="4340" y="192"/>
                  <a:pt x="4003" y="94"/>
                  <a:pt x="3765" y="49"/>
                </a:cubicBezTo>
                <a:cubicBezTo>
                  <a:pt x="3527" y="4"/>
                  <a:pt x="3329" y="0"/>
                  <a:pt x="3087" y="75"/>
                </a:cubicBezTo>
                <a:cubicBezTo>
                  <a:pt x="2845" y="150"/>
                  <a:pt x="2475" y="413"/>
                  <a:pt x="2314" y="502"/>
                </a:cubicBezTo>
                <a:close/>
              </a:path>
            </a:pathLst>
          </a:cu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rcRect l="49006" t="0" r="0" b="0"/>
          <a:stretch/>
        </p:blipFill>
        <p:spPr>
          <a:xfrm>
            <a:off x="7288200" y="8001000"/>
            <a:ext cx="185580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rcRect l="0" t="0" r="50005" b="0"/>
          <a:stretch/>
        </p:blipFill>
        <p:spPr>
          <a:xfrm>
            <a:off x="2556000" y="8829720"/>
            <a:ext cx="1819080" cy="3143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515320" y="476280"/>
            <a:ext cx="2861640" cy="5797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ee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a0000"/>
                </a:solidFill>
                <a:latin typeface="黑体"/>
                <a:ea typeface="黑体"/>
              </a:rPr>
              <a:t>珍惜关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104 -0.89769 L -0.05104 -0.89769 E">
                                      <p:cBhvr>
                                        <p:cTn id="263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-1.01667 L -0.22847 -1.01667 E">
                                      <p:cBhvr>
                                        <p:cTn id="265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2260440" cy="206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5029200" cy="2006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76520" y="21337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我懂得了我们要孝顺亲人</a:t>
            </a:r>
            <a:r>
              <a:rPr b="1" lang="en-US" sz="3200" spc="-1" strike="noStrike">
                <a:solidFill>
                  <a:srgbClr val="6600cc"/>
                </a:solidFill>
                <a:latin typeface="宋体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2819520" y="1371600"/>
            <a:ext cx="3924360" cy="24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11" name="Picture 5" descr="星星1"/>
          <p:cNvPicPr/>
          <p:nvPr/>
        </p:nvPicPr>
        <p:blipFill>
          <a:blip r:embed="rId4"/>
          <a:stretch/>
        </p:blipFill>
        <p:spPr>
          <a:xfrm>
            <a:off x="533520" y="762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小女孩"/>
          <p:cNvPicPr/>
          <p:nvPr/>
        </p:nvPicPr>
        <p:blipFill>
          <a:blip r:embed="rId5"/>
          <a:stretch/>
        </p:blipFill>
        <p:spPr>
          <a:xfrm>
            <a:off x="0" y="4648320"/>
            <a:ext cx="1460520" cy="1752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星星1"/>
          <p:cNvPicPr/>
          <p:nvPr/>
        </p:nvPicPr>
        <p:blipFill>
          <a:blip r:embed="rId6"/>
          <a:stretch/>
        </p:blipFill>
        <p:spPr>
          <a:xfrm>
            <a:off x="2743200" y="609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星星1"/>
          <p:cNvPicPr/>
          <p:nvPr/>
        </p:nvPicPr>
        <p:blipFill>
          <a:blip r:embed="rId7"/>
          <a:stretch/>
        </p:blipFill>
        <p:spPr>
          <a:xfrm>
            <a:off x="914400" y="2362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</a:rPr>
              <a:t>字词讲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79520" y="3166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华文楷体"/>
                <a:ea typeface="华文楷体"/>
              </a:rPr>
              <a:t>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79520" y="431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华文楷体"/>
                <a:ea typeface="华文楷体"/>
              </a:rPr>
              <a:t>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641960" y="26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98808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皮带、领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806480" y="3281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作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246560" y="328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表示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527120" y="4010040"/>
            <a:ext cx="68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戴帽子、戴红领巾、戴眼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2370600" y="1052640"/>
            <a:ext cx="39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带”的东西一般都不固定在身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32160" y="184464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带苹果、带钱、带行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775520" y="4970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尊奉，拥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5895720" y="49705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爱戴、拥戴、感恩戴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55680" y="1728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华文楷体"/>
                <a:ea typeface="华文楷体"/>
              </a:rPr>
              <a:t>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07520" y="620640"/>
            <a:ext cx="140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宋体"/>
              </a:rPr>
              <a:t>m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07520" y="1989000"/>
            <a:ext cx="140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宋体"/>
              </a:rPr>
              <a:t>m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13640" y="3357720"/>
            <a:ext cx="138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宋体"/>
              </a:rPr>
              <a:t>m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07080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涂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091200" y="4968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仿宋"/>
                <a:ea typeface="华文仿宋"/>
              </a:rPr>
              <a:t>涂抹、抹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3070800" y="119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擦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241240" y="1144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仿宋"/>
                <a:ea typeface="华文仿宋"/>
              </a:rPr>
              <a:t>抹眼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144480" y="25909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仿宋"/>
                <a:ea typeface="华文仿宋"/>
              </a:rPr>
              <a:t>抹墙、抹石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2692440" y="21016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把和好了的泥或灰涂上后弄平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6169320" y="4068720"/>
            <a:ext cx="12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华文仿宋"/>
                <a:ea typeface="华文仿宋"/>
              </a:rPr>
              <a:t>抹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191040" y="4221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擦器物用的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5076720" y="3500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仿宋"/>
                <a:ea typeface="华文仿宋"/>
              </a:rPr>
              <a:t>抹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3077280" y="35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擦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5715000" y="457200"/>
            <a:ext cx="3075120" cy="253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6705720" y="3352680"/>
            <a:ext cx="1224000" cy="1700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1219320" y="1920960"/>
            <a:ext cx="5257800" cy="2109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752480" y="2286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奶奶最喜欢的铃儿是什么？读课文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1855800" cy="1695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4038480" cy="2428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295280" y="228600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奶奶最喜欢的铃儿为什么是门铃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523880" y="24382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当奶奶说自己最喜欢的铃儿是门铃时，冬冬是怎么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15640" y="2276640"/>
            <a:ext cx="708804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    </a:t>
            </a:r>
            <a:r>
              <a:rPr b="1" lang="zh-CN" sz="4400" spc="-1" strike="noStrike">
                <a:solidFill>
                  <a:srgbClr val="0000cc"/>
                </a:solidFill>
                <a:latin typeface="华文楷体"/>
                <a:ea typeface="华文楷体"/>
              </a:rPr>
              <a:t>认真阅读课文，想一想，从哪些地方可以看出奶奶很爱冬冬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矩形 3" descr=""/>
          <p:cNvPicPr/>
          <p:nvPr/>
        </p:nvPicPr>
        <p:blipFill>
          <a:blip r:embed="rId1"/>
          <a:stretch/>
        </p:blipFill>
        <p:spPr>
          <a:xfrm>
            <a:off x="2298600" y="139680"/>
            <a:ext cx="36259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5640" y="177336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奶奶总是先给她烤一片热乎乎的奶油面包，还给她那片面包撒上砂糖、肉桂什么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奶奶把冬冬一把揽在怀里，紧紧地搂着她说：“我最喜欢的是每个星期六早晨听见你按响的那只门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1:31:59Z</dcterms:created>
  <dc:creator/>
  <dc:description/>
  <dc:language>en-US</dc:language>
  <cp:lastModifiedBy/>
  <dcterms:modified xsi:type="dcterms:W3CDTF">2014-04-22T01:32:10Z</dcterms:modified>
  <cp:revision>1</cp:revision>
  <dc:subject/>
  <dc:title/>
</cp:coreProperties>
</file>