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007-6944-493A-8EC6-D9478FD9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133-BE21-4007-91B8-5CC525C5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3AD-AB5E-448B-A5DB-D281F570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25E-953E-40F1-B63E-8070BE5C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9945-A85D-4DD8-B1B4-9FFA5004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E303-757E-4CCB-AEC8-CD9AB5D9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C8E-F52A-4914-9CAC-14F8D83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D47-AD9A-45D8-9DDA-25B4AE5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2024-BBF2-4A90-8D55-8425F7B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CEC0-EC6F-45C1-8193-500197F6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2CC-4F85-4E95-B7DF-04ED41D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4BC-B7BA-48B0-A5DF-DA6E5A78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90A-F974-486E-8250-8B19F11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A3EE-D591-491F-BEB4-8CABD1E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7ED-EBC0-42B2-8877-B46F218A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76D-B7FD-4700-AD32-A6F52B0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FB7-615C-46C5-80B6-E8439E27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018A-5E9F-406C-83E1-A4C2D6E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1EDC-D5C7-468B-ACA4-EE8DC93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F634-3830-4A73-8E92-6C0FCF63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C965-7147-41DB-920B-28484A3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7A09-96E4-4CC8-92E3-9083727A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B3C-8591-46B4-B077-861B097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EDDE-258E-4DD0-8559-1A62C5FD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B021-99CC-4F96-BE98-207320B1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92C5-F535-4518-8868-DB4061B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95F5-B6C6-4A80-BA3E-3B41FF8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8A01-165E-48AA-8716-E9D1049E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883E-566D-46FE-9B3C-4F82969D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2EFA-7E28-455C-8403-59FE7607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1265-3844-4B4B-8909-0FD5AEB2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7F50-967D-4616-92DF-CB3009C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58AE-0508-417E-A890-2196DE31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FBB-45CF-4CB7-BCAA-F02F4E89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BBF6-C496-46B8-831A-421B1BFF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EBDE-E504-44B6-A732-B020E179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B604-A468-4534-8FD7-4C18FAE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7DD9-2CE3-4C4B-8311-6D17DA0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9605-9D7B-4441-9349-36EB61D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D856-3013-40DF-BDCC-C343C92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F7E0-972C-46E0-97A0-F321E8C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5904-7491-4E81-8C38-21FBB9B8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D0DD-3892-42AE-84F0-42A2B57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8979-D6B6-4BCD-976B-1BAE3210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86E-37AD-4D7E-8765-9B1F5A9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1AC9-C7E3-468C-9A89-02321CA9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13E0-74F5-4610-972D-638FF3C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BE5D-ECEB-4F85-86D2-C63BF61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1C45-F1B6-420A-96DC-4CBFD48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8C6A-638E-4977-AF15-9D981AFB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2671-20D9-420A-B592-4FA84DA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115A-3A50-4367-BD3D-0D1A001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25C1-226A-4C79-BC39-93AEAFB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642E-1524-4FC2-8B74-2C8E0462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2F92-09D1-4574-8EEB-2A710C3E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44A-CEC2-4E4F-8DE3-3B523E0D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59C03-751E-4CD3-ABD0-44B8D999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762-46B5-43FD-97F4-5AFAB4A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2FC-25C5-42AB-814D-14B3389B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1DB-8244-459D-BBED-3F5A13F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1B7-1DCD-46F0-AFB7-DE7378226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Picture 7" descr="图标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C8E-D838-4AA0-9468-FAE2F654D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BA6-95B7-4549-AFD2-B95321EBF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2A2B-58BF-4975-834C-AE0B87C77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74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75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178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图标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1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矩形 12">
            <a:hlinkClick r:id="" action="ppaction://hlinkshowjump?jump=nextslide"/>
          </p:cNvPr>
          <p:cNvSpPr/>
          <p:nvPr/>
        </p:nvSpPr>
        <p:spPr>
          <a:xfrm>
            <a:off x="6726240" y="601200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>
            <a:hlinkClick r:id="" action="ppaction://hlinkshowjump?jump=previousslide"/>
          </p:cNvPr>
          <p:cNvSpPr/>
          <p:nvPr/>
        </p:nvSpPr>
        <p:spPr>
          <a:xfrm>
            <a:off x="4308480" y="601200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0DC-9293-4571-86B2-FBED99282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Maiandra GD"/>
              </a:rPr>
              <a:t>平分生命</a:t>
            </a:r>
            <a:endParaRPr b="0" lang="en-US" sz="96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这真是个勇敢、善良的孩子。人生命只有一次，对谁都是宝贵的，更何况是个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岁的孩子，所以一开始他犹豫了，因为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他认为抽血的同时会失去生命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但是他只是犹豫了“一会儿”。在这短短的“一会儿”中，亲情促使他下定了死亡的决心，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为了妹妹，他付出了一生的勇敢，要有自己的生命换回妹妹</a:t>
            </a:r>
            <a:r>
              <a:rPr b="1" lang="en-US" sz="3200" spc="-1" strike="noStrike">
                <a:solidFill>
                  <a:srgbClr val="ff0066"/>
                </a:solidFill>
                <a:latin typeface="华文楷体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他唯一的亲人的生命。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</a:rPr>
              <a:t>他爱妹妹，胜过爱他自己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</a:rPr>
              <a:t>你们打过针，抽过血吗？还记得当时你的表现吗？</a:t>
            </a:r>
            <a:br>
              <a:rPr sz="4900"/>
            </a:b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是啊，会紧张，会害怕，甚至还会哭闹着不愿打针、不肯抽血。故事中与你们同龄的男孩又是怎样的一种表现呢？画出有关的词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0" name="Picture 6" descr="u=2135532379,161514100&amp;fm=0&amp;gp=0"/>
          <p:cNvPicPr/>
          <p:nvPr/>
        </p:nvPicPr>
        <p:blipFill>
          <a:blip r:embed="rId1"/>
          <a:stretch/>
        </p:blipFill>
        <p:spPr>
          <a:xfrm>
            <a:off x="457200" y="16765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抽血时，男孩一直在微笑，但是，我们能感受到他的内心在流泪。这十岁的男孩有男子汉的坚强和勇敢，用这世间最美的微笑为妹妹点燃了生的希望，犹如冬日里一束温暖的阳光，温暖着妹妹，温暖着所有的人。同学们走进男孩的内心世界，感受这颗不平凡的心，用心来读一读这部分内容吧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当抽血完毕后，男孩立刻停止了微笑，躺在床上一动不动，声音颤抖地问：“医生叔叔，我还能活多久？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Cambria"/>
              </a:rPr>
              <a:t>猜想一下，小男孩心里在想些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放心吧！输血不会丢掉生命！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真的？那我还能活多少年？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你能活到一百岁。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此时，小男孩心情怎样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58" name="内容占位符 3" descr="QQ截图2014041010524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从床上跳到地上，高兴得又蹦又跳，他在地上转了几圈，确认真的没事，就又一次伸出胳膊，挽起袖子，昂起头，郑重其事地对医生说：“请您把我的血抽一半给妹妹吧，我们俩各活五十岁！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找出这段话中的动词。从这些动词中，你能体会出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201052623382850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666880" y="266688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高兴的不是自己不会死，能长寿，百是他可以跟妹妹平分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爱惜自己的生命吗？为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那他为什么还要将自己宝贵的生命分一半给妹妹呢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多伟大无私的男孩，谁愿意读一读男孩的话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66" name="内容占位符 3" descr="QQ截图201404101057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什么叫“平分”？世界上哪些事物可以平分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读了题目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你有什么问题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68" name="内容占位符 3" descr="QQ截图20140410105718.pn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0" name="内容占位符 3" descr="QQ截图20140410105923.pn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2" name="内容占位符 3" descr="QQ截图20140410105640.png"/>
          <p:cNvPicPr/>
          <p:nvPr/>
        </p:nvPicPr>
        <p:blipFill>
          <a:blip r:embed="rId1"/>
          <a:stretch/>
        </p:blipFill>
        <p:spPr>
          <a:xfrm>
            <a:off x="0" y="-4284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4" name="内容占位符 3" descr="QQ截图20140410110046.png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6" name="内容占位符 3" descr="QQ截图2014041011014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8" name="内容占位符 3" descr="QQ截图2014041010492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7790040" y="4114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标题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把不认识的字或不理解的词语用三角形作上标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★思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谁和谁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为什么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怎样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标题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一    血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征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求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震撼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出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挽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起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子    降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临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邻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床    停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死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谁和谁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为什么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怎样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请根据这三个问题来概括课文主要写了一件什么事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</a:rPr>
              <a:t>课文记叙了一个年仅</a:t>
            </a:r>
            <a:r>
              <a:rPr b="1" lang="en-US" sz="5400" spc="-1" strike="noStrike">
                <a:solidFill>
                  <a:srgbClr val="000000"/>
                </a:solidFill>
                <a:latin typeface="华文楷体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</a:rPr>
              <a:t>岁的哥哥为重病的妹妹勇敢地献出了自己的鲜血，要与妹妹平分剩下的生命的感人故事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38" name="内容占位符 2" descr=""/>
          <p:cNvPicPr/>
          <p:nvPr/>
        </p:nvPicPr>
        <p:blipFill>
          <a:blip r:embed="rId1"/>
          <a:stretch/>
        </p:blipFill>
        <p:spPr>
          <a:xfrm>
            <a:off x="231840" y="2584440"/>
            <a:ext cx="838188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楷体"/>
              </a:rPr>
              <a:t>文中很多地方写出了他的勇敢和无私，同学们找出来画一画，反复读一读，用心体会，也可以和同桌说一说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犹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了一会儿，最后点了点头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990720" y="3060720"/>
            <a:ext cx="4038480" cy="2428920"/>
          </a:xfrm>
          <a:prstGeom prst="rect">
            <a:avLst/>
          </a:prstGeom>
          <a:ln w="0">
            <a:noFill/>
          </a:ln>
        </p:spPr>
      </p:pic>
      <p:sp>
        <p:nvSpPr>
          <p:cNvPr id="244" name="矩形 4"/>
          <p:cNvSpPr/>
          <p:nvPr/>
        </p:nvSpPr>
        <p:spPr>
          <a:xfrm>
            <a:off x="1219320" y="3657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为什么犹豫，他在思考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1855800" cy="1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2:04:39Z</dcterms:created>
  <dc:creator/>
  <dc:description/>
  <dc:language>en-US</dc:language>
  <cp:lastModifiedBy/>
  <dcterms:modified xsi:type="dcterms:W3CDTF">2014-04-22T02:04:46Z</dcterms:modified>
  <cp:revision>1</cp:revision>
  <dc:subject/>
  <dc:title/>
</cp:coreProperties>
</file>