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C53-D43A-483F-B883-3CD1D90B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A78-1143-445B-A439-62F31E9B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4D0-11CB-4C6A-AA37-334A3F0C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386-6837-4193-8E90-CD53CE30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A03D-04BB-4D6B-A483-A598BDCE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A470-4B67-4533-B1FD-57089A3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CE94-8724-4EE4-B159-E8D0CE7C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39C-0F3A-4204-BE3E-D6E39F9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E9F-7360-4009-A167-B7DC227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F9B-B646-48A9-875E-A6362CD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D92-4B11-4E41-85E1-757C815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4A1-5D43-464F-A8B5-50C9B142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14A-A5A7-4291-8AE7-EF25545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42B7-8D3D-46D4-9E38-75DBC4A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231-6976-4B49-8D3F-45F6507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586-CF30-4933-99C1-EBB445B9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F9F-2B25-4022-9D8B-F5239A0C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B613-619C-4FC9-9403-DD3E83B7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78F3-A008-46B5-A85F-8F2A4AC0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2FE1-EE21-419D-B7EF-5E991FBC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C3FE-6D7F-4302-8AD8-E7DD135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1508-311A-42B4-93A0-5143183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CE7-7F2D-435C-AC6E-C668A71A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63B0-689E-4856-B6D0-FB16934F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2781-ADA4-4521-8AFD-90CE7DD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2905-7665-4B31-8C9D-4E3AC35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CCC3-76BF-4FE5-ADA5-A1F794A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9D64-B6A5-457F-A9CF-3D5B379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B1DB-9A5E-4AA9-A86E-D92310C8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F7C1-4463-4AD0-BDA1-56219E5B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E4AC-BC4B-4492-8BD4-D72F06B1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1C97-C302-405E-8C0B-166A1E2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882D-8F15-40A5-A80F-AEC6DC91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B0C-DA73-4153-87FF-154B54D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3E64-33DD-49CF-8EF0-5E0DE9D0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A217F-7F11-4952-8B19-816B4FE6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E45D-339D-46B1-A696-A8A471E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4316-BADE-481B-800B-2A96276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B8FF-4240-4A36-A228-669DCD8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6497-9365-43E9-9FC0-E401201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48DC-016A-4883-89C1-30AF6D05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85E7-B1A7-49B3-8C40-2D1D7BFA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3376-94CC-4C62-AD03-34AACFC1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F1AA-9275-4C24-98F5-7C31AB8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56E-DD21-4420-B859-7F83557D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62B6-2C2D-47C8-8F4B-F2FE6C5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FFA6-3EC1-453D-B970-271203B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4F55-8623-45B6-AB17-8E11D598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4D92-ECBA-4D0D-83BF-4D84EBE5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885E-E20A-4BBD-AE99-9D281AC1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AD7B-250A-4435-B456-88C66D4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5B52-F509-46C8-B07A-C969A26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2F9C-FD0A-4C32-9D3C-E17355B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E755-7CB9-49D5-A80A-21A6ACE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4D3A2-C7A4-4342-B487-02E7D74E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836-BBE5-490D-81BB-2180FF8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3D39-9DA5-45C4-8A52-91A90308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958-97EC-4B3B-97BD-DF15F5A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F28-0984-4805-B365-2553446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761-4AD3-45A3-BD73-8FB7529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039-1CEA-4A0C-8264-613B8F489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Picture 7" descr="图标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3AB-A373-403E-9309-9CE334BEA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40F2-2B86-46C3-B6CA-F08C09DB6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FBF9-E259-4186-84BE-4F50FC9BA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74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175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178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图标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1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矩形 12">
            <a:hlinkClick r:id="" action="ppaction://hlinkshowjump?jump=nextslide"/>
          </p:cNvPr>
          <p:cNvSpPr/>
          <p:nvPr/>
        </p:nvSpPr>
        <p:spPr>
          <a:xfrm>
            <a:off x="6726240" y="601200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>
            <a:hlinkClick r:id="" action="ppaction://hlinkshowjump?jump=previousslide"/>
          </p:cNvPr>
          <p:cNvSpPr/>
          <p:nvPr/>
        </p:nvSpPr>
        <p:spPr>
          <a:xfrm>
            <a:off x="4308480" y="601200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FF4-8E60-4069-8BD3-5B1C16CE6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Maiandra GD"/>
              </a:rPr>
              <a:t>平分生命</a:t>
            </a:r>
            <a:endParaRPr b="0" lang="en-US" sz="96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这真是个勇敢、善良的孩子。人生命只有一次，对谁都是宝贵的，更何况是个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岁的孩子，所以一开始他犹豫了，因为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他认为抽血的同时会失去生命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但是他只是犹豫了“一会儿”。在这短短的“一会儿”中，亲情促使他下定了死亡的决心，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为了妹妹，他付出了一生的勇敢，要有自己的生命换回妹妹</a:t>
            </a:r>
            <a:r>
              <a:rPr b="1" lang="en-US" sz="3200" spc="-1" strike="noStrike">
                <a:solidFill>
                  <a:srgbClr val="ff0066"/>
                </a:solidFill>
                <a:latin typeface="华文楷体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他唯一的亲人的生命。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</a:rPr>
              <a:t>他爱妹妹，胜过爱他自己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</a:rPr>
              <a:t>你们打过针，抽过血吗？还记得当时你的表现吗？</a:t>
            </a:r>
            <a:br>
              <a:rPr sz="4900"/>
            </a:b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是啊，会紧张，会害怕，甚至还会哭闹着不愿打针、不肯抽血。故事中与你们同龄的男孩又是怎样的一种表现呢？画出有关的词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0" name="Picture 6" descr="u=2135532379,161514100&amp;fm=0&amp;gp=0"/>
          <p:cNvPicPr/>
          <p:nvPr/>
        </p:nvPicPr>
        <p:blipFill>
          <a:blip r:embed="rId1"/>
          <a:stretch/>
        </p:blipFill>
        <p:spPr>
          <a:xfrm>
            <a:off x="457200" y="16765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抽血时，男孩一直在微笑，但是，我们能感受到他的内心在流泪。这十岁的男孩有男子汉的坚强和勇敢，用这世间最美的微笑为妹妹点燃了生的希望，犹如冬日里一束温暖的阳光，温暖着妹妹，温暖着所有的人。同学们走进男孩的内心世界，感受这颗不平凡的心，用心来读一读这部分内容吧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当抽血完毕后，男孩立刻停止了微笑，躺在床上一动不动，声音颤抖地问：“医生叔叔，我还能活多久？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Cambria"/>
              </a:rPr>
              <a:t>猜想一下，小男孩心里在想些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放心吧！输血不会丢掉生命！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真的？那我还能活多少年？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mbria"/>
              </a:rPr>
              <a:t>你能活到一百岁。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此时，小男孩心情怎样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58" name="内容占位符 3" descr="QQ截图2014041010524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从床上跳到地上，高兴得又蹦又跳，他在地上转了几圈，确认真的没事，就又一次伸出胳膊，挽起袖子，昂起头，郑重其事地对医生说：“请您把我的血抽一半给妹妹吧，我们俩各活五十岁！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找出这段话中的动词。从这些动词中，你能体会出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201052623382850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666880" y="266688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高兴的不是自己不会死，能长寿，百是他可以跟妹妹平分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爱惜自己的生命吗？为什么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那他为什么还要将自己宝贵的生命分一半给妹妹呢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多伟大无私的男孩，谁愿意读一读男孩的话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66" name="内容占位符 3" descr="QQ截图201404101057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什么叫“平分”？世界上哪些事物可以平分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读了题目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你有什么问题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68" name="内容占位符 3" descr="QQ截图20140410105718.pn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0" name="内容占位符 3" descr="QQ截图20140410105923.pn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2" name="内容占位符 3" descr="QQ截图20140410105640.png"/>
          <p:cNvPicPr/>
          <p:nvPr/>
        </p:nvPicPr>
        <p:blipFill>
          <a:blip r:embed="rId1"/>
          <a:stretch/>
        </p:blipFill>
        <p:spPr>
          <a:xfrm>
            <a:off x="0" y="-4284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4" name="内容占位符 3" descr="QQ截图20140410110046.png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6" name="内容占位符 3" descr="QQ截图2014041011014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78" name="内容占位符 3" descr="QQ截图2014041010492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7790040" y="4114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标题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把不认识的字或不理解的词语用三角形作上标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★思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谁和谁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为什么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怎样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标题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一    血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征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求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震撼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出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挽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起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子    降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临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邻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床    停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死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谁和谁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为什么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怎样平分生命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请根据这三个问题来概括课文主要写了一件什么事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</a:rPr>
              <a:t>课文记叙了一个年仅</a:t>
            </a:r>
            <a:r>
              <a:rPr b="1" lang="en-US" sz="5400" spc="-1" strike="noStrike">
                <a:solidFill>
                  <a:srgbClr val="000000"/>
                </a:solidFill>
                <a:latin typeface="华文楷体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</a:rPr>
              <a:t>岁的哥哥为重病的妹妹勇敢地献出了自己的鲜血，要与妹妹平分剩下的生命的感人故事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238" name="内容占位符 2" descr=""/>
          <p:cNvPicPr/>
          <p:nvPr/>
        </p:nvPicPr>
        <p:blipFill>
          <a:blip r:embed="rId1"/>
          <a:stretch/>
        </p:blipFill>
        <p:spPr>
          <a:xfrm>
            <a:off x="231840" y="2584440"/>
            <a:ext cx="838188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楷体"/>
              </a:rPr>
              <a:t>文中很多地方写出了他的勇敢和无私，同学们找出来画一画，反复读一读，用心体会，也可以和同桌说一说。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男孩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</a:rPr>
              <a:t>犹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了一会儿，最后点了点头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990720" y="3060720"/>
            <a:ext cx="4038480" cy="2428920"/>
          </a:xfrm>
          <a:prstGeom prst="rect">
            <a:avLst/>
          </a:prstGeom>
          <a:ln w="0">
            <a:noFill/>
          </a:ln>
        </p:spPr>
      </p:pic>
      <p:sp>
        <p:nvSpPr>
          <p:cNvPr id="244" name="矩形 4"/>
          <p:cNvSpPr/>
          <p:nvPr/>
        </p:nvSpPr>
        <p:spPr>
          <a:xfrm>
            <a:off x="1219320" y="3657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为什么犹豫，他在思考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1855800" cy="1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2:04:39Z</dcterms:created>
  <dc:creator/>
  <dc:description/>
  <dc:language>en-US</dc:language>
  <cp:lastModifiedBy/>
  <dcterms:modified xsi:type="dcterms:W3CDTF">2014-04-22T02:04:46Z</dcterms:modified>
  <cp:revision>1</cp:revision>
  <dc:subject/>
  <dc:title/>
</cp:coreProperties>
</file>