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2DB-4ED3-42CB-91F6-D7B1451F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B8B-E615-4A36-9BCB-FD34995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26E-F732-4EFA-95A9-E83F188D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9F8-3791-4B22-A16B-D73CECC8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E71-F354-44C8-A972-0189667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7E6-65BD-46A9-8CDB-6B74BA8A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2A1-7FB9-42CF-827B-8C72B4C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E94-F088-48E0-84F5-3E19D0B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ADC-EF8C-42D4-A2B3-3135D5F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D80-C1DA-4BD0-A7E8-D071A691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D1C-0681-4510-892F-84F4AD5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656-AA77-4EBD-A553-8F55A42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9337-08A2-43B4-9C0B-62AA910B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236232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春天的雨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553080" y="6095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562720" y="6172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143000" y="14479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040" y="1219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“～～～”划出最能看出达丽玛知错就改的句子进行研究、感悟、交流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例：①放学后，孩子们背着书包蹦蹦跳跳地回家去，达丽玛低着头走进了办公室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什么地方看出达丽玛知错了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丽玛低着头走进办公室，她心里在想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说春天的雨点会落在达丽玛的心里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感受老师的爱犹如春雨一般，滋润着孩子的心里，使新一代茁壮成长）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14400" y="17524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理解“春天的雨点”的深刻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真挚、淳朴、深厚的师生情就像绵绵的春雨滋润着师生的心田，使人感到温暖、感动，并为拥有这样的爱感到欣慰、幸福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>
            <a:hlinkClick r:id="rId1" action="ppaction://hlinksldjump"/>
          </p:cNvPr>
          <p:cNvSpPr/>
          <p:nvPr/>
        </p:nvSpPr>
        <p:spPr>
          <a:xfrm>
            <a:off x="0" y="6400800"/>
            <a:ext cx="3049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QQ截图2014041511263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295280" y="1905120"/>
            <a:ext cx="7086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着我们感受的爱再读课文中最让你感动的那一部分，读出浓浓的师生情谊，读出春雨的甜美和珍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着达丽玛和老师的浓浓深情，同学们也谈谈自己和老师之间发生的故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（老师对学生的关爱。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373840" y="11584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再读课文，升华感悟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914400" y="22096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完课文，你有什么要说的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一说在你的身上有没有发生过类似这样的事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666880" y="1447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拓展延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矩形 3" descr=""/>
          <p:cNvPicPr/>
          <p:nvPr/>
        </p:nvPicPr>
        <p:blipFill>
          <a:blip r:embed="rId1"/>
          <a:stretch/>
        </p:blipFill>
        <p:spPr>
          <a:xfrm>
            <a:off x="658800" y="281160"/>
            <a:ext cx="5181480" cy="1206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411280" y="2492280"/>
            <a:ext cx="54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传授知识启蒙思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带领我们扬帆起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又像蜡烛又似春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生之中最是难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矩形 7" descr=""/>
          <p:cNvPicPr/>
          <p:nvPr/>
        </p:nvPicPr>
        <p:blipFill>
          <a:blip r:embed="rId2"/>
          <a:stretch/>
        </p:blipFill>
        <p:spPr>
          <a:xfrm>
            <a:off x="3164040" y="1316160"/>
            <a:ext cx="2225520" cy="14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3772080" y="501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华文仿宋"/>
                <a:ea typeface="华文仿宋"/>
              </a:rPr>
              <a:t>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会本课的生字，通过理解重点句从而理解课文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懂得学习要专心致志，感受教师对学生关心和爱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羔   跪   竭  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搂   朦   胧  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蒙   萌   溜  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忍   偏   哑  疲  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838080" y="121932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隶书"/>
                <a:ea typeface="隶书"/>
              </a:rPr>
              <a:t>自读探究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天的雨点指的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讲述什么时间、什么地方的哪几件事？谁是主要人物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QQ截图2014041511254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QQ截图201404151126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8960" y="16765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分小组讨论交流：“达丽玛是个怎样的孩子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知错就改）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14400" y="1371600"/>
            <a:ext cx="74674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集体交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文章哪一些部分最让你感动？找出来并读一读，再说说令你感动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感动的原因是体会到师生之间深厚的感情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2:45:41Z</dcterms:created>
  <dc:creator/>
  <dc:description/>
  <dc:language>en-US</dc:language>
  <cp:lastModifiedBy/>
  <dcterms:modified xsi:type="dcterms:W3CDTF">2014-04-22T02:45:47Z</dcterms:modified>
  <cp:revision>1</cp:revision>
  <dc:subject/>
  <dc:title/>
</cp:coreProperties>
</file>