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amera.wav" ContentType="audio/x-wav"/>
  <Override PartName="/ppt/media/image7.jpeg" ContentType="image/jpeg"/>
  <Override PartName="/ppt/media/image11.png" ContentType="image/png"/>
  <Override PartName="/ppt/media/image5.jpeg" ContentType="image/jpeg"/>
  <Override PartName="/ppt/media/image10.jpeg" ContentType="image/jpeg"/>
  <Override PartName="/ppt/media/whoosh.wav" ContentType="audio/x-wav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319-7AF8-492F-9578-B3D49F13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999-4B18-462D-800C-33120D17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435-6329-4A71-B3DD-866924CA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248-4AE5-49DB-98E9-65A32AC6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A83-BA67-4BA9-908B-311C00FB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42A-6EEF-4AA7-A8F3-31820BDB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B68-AA83-44AB-9565-0C8BC39A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D84-E5C4-4C91-B5C0-64D7E70F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281-8798-47C6-B2B1-F98651C5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357-7571-4CD2-A06D-1AACFDCA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51A-6843-4035-B711-B983A1CE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748-BB69-4B36-9803-2F09490C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FA79-7F81-4DB3-AF41-92072873C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56000" y="3068640"/>
            <a:ext cx="4343400" cy="1557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</a:t>
            </a: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松  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95280" y="90792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04920" y="380880"/>
            <a:ext cx="3352680" cy="100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思维拓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1557360"/>
            <a:ext cx="72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除了文章中介绍的松鼠特点外，你认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松鼠还具有哪些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2771640" y="3068640"/>
            <a:ext cx="36720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80880" y="304920"/>
            <a:ext cx="3429000" cy="100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揣摩运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048120" y="1828800"/>
            <a:ext cx="53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说明文的语言要求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准确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，本文除了符合这一基本要求外，它的语言还非常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生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，请从文章中找出相应的例句来分别说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赤喉松鼠"/>
          <p:cNvPicPr/>
          <p:nvPr/>
        </p:nvPicPr>
        <p:blipFill>
          <a:blip r:embed="rId2"/>
          <a:stretch/>
        </p:blipFill>
        <p:spPr>
          <a:xfrm>
            <a:off x="380880" y="1905120"/>
            <a:ext cx="2820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267720" y="2286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准确的语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05264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松鼠不躲藏在地底下，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经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高处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637880" y="2565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经常：指大多数时间，而非全部时间都在高处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84360" y="29973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松鼠喜欢在树枝上跳来跳去，十分机灵。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只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人触动一下树干，它们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就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树枝底下，或者连蹦带跳地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别的树上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11280" y="458136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　　用</a:t>
            </a:r>
            <a:r>
              <a:rPr b="1" lang="zh-CN" sz="24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只要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就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……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这一句式来表现松鼠灵敏的反应与动作。</a:t>
            </a:r>
            <a:r>
              <a:rPr b="1" lang="zh-CN" sz="24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逃</a:t>
            </a:r>
            <a:r>
              <a:rPr b="1" lang="zh-CN" sz="2400" spc="-1" strike="noStrike">
                <a:solidFill>
                  <a:srgbClr val="ff3300"/>
                </a:solidFill>
                <a:latin typeface="Arial Unicode MS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来表示松鼠对微小危险的快速应变能力，从而更显出它</a:t>
            </a:r>
            <a:r>
              <a:rPr b="1" lang="zh-CN" sz="24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十分机灵</a:t>
            </a:r>
            <a:r>
              <a:rPr b="1" lang="zh-CN" sz="2400" spc="-1" strike="noStrike">
                <a:solidFill>
                  <a:srgbClr val="ff3300"/>
                </a:solidFill>
                <a:latin typeface="Arial Unicode MS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的灵性，由此强调它的</a:t>
            </a:r>
            <a:r>
              <a:rPr b="1" lang="zh-CN" sz="24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乖巧</a:t>
            </a:r>
            <a:r>
              <a:rPr b="1" lang="zh-CN" sz="2400" spc="-1" strike="noStrike">
                <a:solidFill>
                  <a:srgbClr val="ff3300"/>
                </a:solidFill>
                <a:latin typeface="Arial Unicode MS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058920" y="457200"/>
            <a:ext cx="26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</a:rPr>
              <a:t>生动的语言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1600200"/>
            <a:ext cx="90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运用拟人手法对松鼠作了人格化的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258920" y="3213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　　在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闪闪发光的小眼睛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华文中宋"/>
              </a:rPr>
              <a:t>”“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玲珑的小面孔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华文中宋"/>
              </a:rPr>
              <a:t>”“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上翘的尾巴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中，用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闪闪发光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华文中宋"/>
              </a:rPr>
              <a:t>”“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玲珑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华文中宋"/>
              </a:rPr>
              <a:t>”“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上翘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对松鼠作了人格化的描写，突出它的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漂亮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。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04920" y="2666880"/>
            <a:ext cx="28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矩形 3" descr=""/>
          <p:cNvPicPr/>
          <p:nvPr/>
        </p:nvPicPr>
        <p:blipFill>
          <a:blip r:embed="rId1"/>
          <a:stretch/>
        </p:blipFill>
        <p:spPr>
          <a:xfrm>
            <a:off x="2724120" y="463680"/>
            <a:ext cx="3206880" cy="1322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332000" y="198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684360" y="245592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阅读课文最后一自然段，想一想，文中三个“它们”分别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一个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它们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是指“松鼠”，指代上一句中提到的“松鼠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二个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它们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是指“松鼠储藏过冬的食物”，只有食物才会被塞进老树的缝隙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三个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它们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还是指“松鼠”，松鼠在冬天寻找食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304920"/>
            <a:ext cx="3352680" cy="100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布置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403280" y="3500280"/>
            <a:ext cx="73011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漂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驯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乖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个特点介绍身边的某一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左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42400" y="2819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65480" y="160020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仿照课文写一篇短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700360" y="220500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北师3B\语文北师大三年级下册\松鼠\《松鼠》课文导入.jpg"/>
          <p:cNvPicPr/>
          <p:nvPr/>
        </p:nvPicPr>
        <p:blipFill>
          <a:blip r:embed="rId1"/>
          <a:stretch/>
        </p:blipFill>
        <p:spPr>
          <a:xfrm>
            <a:off x="-314280" y="-223920"/>
            <a:ext cx="977256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457200" y="1371600"/>
            <a:ext cx="5627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你能读准下列生字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57200" y="2438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981080" y="243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886200" y="2438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638680" y="2438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苔   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335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ù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98108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8862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7150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án  xi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539640" y="4221000"/>
            <a:ext cx="860436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认为本文的段落是怎样划分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为什么说松鼠是讨人喜欢的一种小动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611280" y="3429000"/>
            <a:ext cx="15238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839880" y="152280"/>
            <a:ext cx="2009520" cy="100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3520" y="1143000"/>
            <a:ext cx="152388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总括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429000" y="1143000"/>
            <a:ext cx="152388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具体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324480" y="1143000"/>
            <a:ext cx="152424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补充说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2362320" y="182880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5257800" y="1828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62120" y="312408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505320" y="31240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--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629400" y="3124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1219320" y="42670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4038480" y="4267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 flipV="1">
            <a:off x="4114800" y="426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4191120" y="42670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 flipV="1">
            <a:off x="72388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2133720" y="4724280"/>
            <a:ext cx="359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层次结构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5105520" y="48006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由总到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2" descr="可爱的松鼠1"/>
          <p:cNvPicPr/>
          <p:nvPr/>
        </p:nvPicPr>
        <p:blipFill>
          <a:blip r:embed="rId1"/>
          <a:stretch/>
        </p:blipFill>
        <p:spPr>
          <a:xfrm>
            <a:off x="228600" y="5105520"/>
            <a:ext cx="18288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105520" y="14479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漂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105520" y="320040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驯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105520" y="4800600"/>
            <a:ext cx="220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乖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冬天的松鼠"/>
          <p:cNvPicPr/>
          <p:nvPr/>
        </p:nvPicPr>
        <p:blipFill>
          <a:blip r:embed="rId1"/>
          <a:stretch/>
        </p:blipFill>
        <p:spPr>
          <a:xfrm>
            <a:off x="152280" y="1295280"/>
            <a:ext cx="4876920" cy="5181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7257960" y="2438280"/>
            <a:ext cx="152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讨 人 喜 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238880" y="2057400"/>
            <a:ext cx="609840" cy="3429000"/>
          </a:xfrm>
          <a:custGeom>
            <a:avLst/>
            <a:gdLst>
              <a:gd name="textAreaLeft" fmla="*/ 0 w 609840"/>
              <a:gd name="textAreaRight" fmla="*/ 220320 w 6098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14400" y="2286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松鼠的特征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80880" y="304920"/>
            <a:ext cx="3429000" cy="100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合作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167652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假如你是一只可爱的小松鼠，你该如何向你的同伴介绍自己的三个特点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6"/>
          <p:cNvGraphicFramePr/>
          <p:nvPr/>
        </p:nvGraphicFramePr>
        <p:xfrm>
          <a:off x="4038480" y="1523880"/>
          <a:ext cx="4648320" cy="487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523880"/>
                    <a:ext cx="4648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7"/>
          <p:cNvSpPr/>
          <p:nvPr/>
        </p:nvSpPr>
        <p:spPr>
          <a:xfrm>
            <a:off x="0" y="530064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提示：结合文章内容，确定好自己的思路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85800" y="838080"/>
            <a:ext cx="75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先介绍自己的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漂亮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03640" y="234936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面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991400" y="238284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眼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434280" y="23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身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35760" y="360684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四肢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994280" y="357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944120" y="360684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吃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507360" y="357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坐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可爱的松鼠2"/>
          <p:cNvPicPr/>
          <p:nvPr/>
        </p:nvPicPr>
        <p:blipFill>
          <a:blip r:embed="rId1"/>
          <a:stretch/>
        </p:blipFill>
        <p:spPr>
          <a:xfrm>
            <a:off x="152280" y="1981080"/>
            <a:ext cx="304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333880" y="641520"/>
            <a:ext cx="40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再说说我的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驯良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104640" y="22096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活动范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104640" y="2971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活动时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04640" y="3657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常吃食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193000" y="23130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树 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193000" y="29988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晚 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02920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松子、榛子和橡栗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680160" y="2209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不侵犯人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680160" y="2971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不骚扰人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680160" y="4292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不伤害人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北京街头不怕人的松鼠"/>
          <p:cNvPicPr/>
          <p:nvPr/>
        </p:nvPicPr>
        <p:blipFill>
          <a:blip r:embed="rId1"/>
          <a:stretch/>
        </p:blipFill>
        <p:spPr>
          <a:xfrm>
            <a:off x="228600" y="2209680"/>
            <a:ext cx="2209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745640" y="533520"/>
            <a:ext cx="44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最后说说我的“乖巧”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960520" y="16002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动作、行为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998240" y="328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搭窝特点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20956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警觉性强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78168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跑跳敏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429520" y="41688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选择窝址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562880" y="41688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搭窝过程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4829040" y="48816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窝口设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在樹上的松鼠"/>
          <p:cNvPicPr/>
          <p:nvPr/>
        </p:nvPicPr>
        <p:blipFill>
          <a:blip r:embed="rId1"/>
          <a:stretch/>
        </p:blipFill>
        <p:spPr>
          <a:xfrm>
            <a:off x="228600" y="1828800"/>
            <a:ext cx="38098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1:25:24Z</dcterms:created>
  <dc:creator/>
  <dc:description/>
  <dc:language>en-US</dc:language>
  <cp:lastModifiedBy/>
  <dcterms:modified xsi:type="dcterms:W3CDTF">2014-04-24T01:25:32Z</dcterms:modified>
  <cp:revision>1</cp:revision>
  <dc:subject/>
  <dc:title/>
</cp:coreProperties>
</file>