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F05-088B-479C-84F1-9E119B70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1BD-82C7-41F5-B09B-8DB8F1DB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A34-CA92-440C-8D2F-BF4A99E2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E2F-CC71-443A-AF45-70C1BCD0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F2D-9CB2-4C6D-B530-A8838080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234-20BA-4438-92EE-E871CB47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7C8-A97B-4328-BDC5-142E52A8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5E5-9C92-4DB4-AAB5-B6B20A96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AAA-C172-45DF-AB2B-6B4C6A6A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1DA-D451-4F72-8DB5-45EECBF2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559-DDD6-4AA5-A403-F248BBBB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A0D-843B-41DF-8427-164EF59D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B075-BB51-41C9-B5A3-FC74030526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1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1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1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内容占位符 4" descr="1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2" descr="C:\Users\Administrator\Desktop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5.pn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2:07:50Z</dcterms:created>
  <dc:creator/>
  <dc:description/>
  <dc:language>en-US</dc:language>
  <cp:lastModifiedBy/>
  <dcterms:modified xsi:type="dcterms:W3CDTF">2014-04-24T02:07:52Z</dcterms:modified>
  <cp:revision>1</cp:revision>
  <dc:subject/>
  <dc:title/>
</cp:coreProperties>
</file>