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13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6.wmf" ContentType="image/x-wmf"/>
  <Override PartName="/ppt/media/image7.jpeg" ContentType="image/jpeg"/>
  <Override PartName="/ppt/media/image15.gif" ContentType="image/gif"/>
  <Override PartName="/ppt/media/image5.jpeg" ContentType="image/jpeg"/>
  <Override PartName="/ppt/media/laser.wav" ContentType="audio/x-wav"/>
  <Override PartName="/ppt/media/image24.gif" ContentType="image/gif"/>
  <Override PartName="/ppt/media/image4.jpeg" ContentType="image/jpeg"/>
  <Override PartName="/ppt/media/chimes.wav" ContentType="audio/x-wav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7688-165B-40DC-BBD0-088E818F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11E-8BC5-4C4E-9063-45D2CC59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D1D3-697E-4958-9D52-5C95714E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00D-B9B8-4CB6-AC05-69B817D1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ED5B-19B4-457B-B79C-8D08E797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0257-3696-42E3-90B1-F1ED75A3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247C-0A10-4664-BC7E-B5C79926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2D87-F15E-44AB-A773-E3FCD8EE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4D33-7412-4F5E-9366-20AEEFFF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B415-5FE8-4AD8-A5E8-A3272EAA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A2AE-C034-433E-A818-057929DC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88D-090A-45AC-8611-95B057D2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EEBF-A72E-4A1F-A609-E8EC6153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FAEB-BFF6-47D7-8C44-2D87E5C0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CB97-B2EE-427B-A548-CB25DBCE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D44F-A4AA-4B5F-9021-793657F3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FDBB-B8EA-4215-96B2-932F7704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247-AE25-401A-818C-8917747F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9E8-1F5A-41B7-9D60-548FB1A2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4DA-794A-49C6-B3D1-14A9F74D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4C72-ECF6-4814-8907-976B3E6C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C28-FA44-4597-8227-B99F9231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C423-B6E3-4B3D-AA6B-9C6CB89A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260-9094-429A-AD13-5794E63E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3CB5-C3A4-4519-94CB-73ED6F284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B855-E8D1-4118-8CD1-89BABA5F92CF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2.xml"/><Relationship Id="rId3" Type="http://schemas.openxmlformats.org/officeDocument/2006/relationships/slide" Target="slide16.xml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3962520" y="2133720"/>
            <a:ext cx="4800600" cy="21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捞铁牛</a:t>
            </a:r>
            <a:endParaRPr b="1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736080" y="304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10-1"/>
          <p:cNvPicPr/>
          <p:nvPr/>
        </p:nvPicPr>
        <p:blipFill>
          <a:blip r:embed="rId1"/>
          <a:stretch/>
        </p:blipFill>
        <p:spPr>
          <a:xfrm>
            <a:off x="2881440" y="2160720"/>
            <a:ext cx="6262560" cy="4697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10"/>
          <p:cNvPicPr/>
          <p:nvPr/>
        </p:nvPicPr>
        <p:blipFill>
          <a:blip r:embed="rId2"/>
          <a:stretch/>
        </p:blipFill>
        <p:spPr>
          <a:xfrm>
            <a:off x="0" y="0"/>
            <a:ext cx="5940360" cy="4549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6980400" y="260280"/>
            <a:ext cx="1095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和尚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出家修行的男佛教徒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、谁去捞铁牛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、为什么要捞铁牛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、怎么捞铁牛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、学习了这篇课文，你从中受到什么启发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81796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怀丙和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979640" y="61596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</a:rPr>
              <a:t>自读课文，思考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Fr6032"/>
          <p:cNvPicPr/>
          <p:nvPr/>
        </p:nvPicPr>
        <p:blipFill>
          <a:blip r:embed="rId1"/>
          <a:stretch/>
        </p:blipFill>
        <p:spPr>
          <a:xfrm>
            <a:off x="-227160" y="722160"/>
            <a:ext cx="9371160" cy="61884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2286000" y="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Times New Roman"/>
              </a:rPr>
              <a:t>背景资料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523880" y="1905120"/>
            <a:ext cx="58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33cc"/>
                </a:solidFill>
                <a:latin typeface="Times New Roman"/>
              </a:rPr>
              <a:t>怀丙和尚：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 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北宋出色的工程家。据史书记载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怀丙和尚聪明善思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曾多次解决当时谁也解决不了的工程难题。真定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级宝塔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中间的柱子坏了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宝塔向西北倾斜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怀丙和尚另做一根柱子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把坏柱子换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把宝塔扶正了。赵州泼河石桥歪斜欲倒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怀丙和尚说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往桥下石头中灌铁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可以扶正。乡民们踊跃捐助石块。怀丙和尚在石头上凿洞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溶化铁水横贯其中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果然扶正了石桥</a:t>
            </a:r>
            <a:r>
              <a:rPr b="1" lang="zh-CN" sz="1000" spc="-1" strike="noStrike">
                <a:solidFill>
                  <a:srgbClr val="0033cc"/>
                </a:solidFill>
                <a:latin typeface="Times New Roman"/>
              </a:rPr>
              <a:t>。</a:t>
            </a:r>
            <a:r>
              <a:rPr b="1" lang="zh-CN" sz="11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0" lang="zh-CN" sz="6000" spc="-1" strike="noStrike">
                <a:solidFill>
                  <a:srgbClr val="007572"/>
                </a:solidFill>
                <a:latin typeface="Arial"/>
              </a:rPr>
              <a:t>、为什么要捞铁牛？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5720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宋朝的时候，有一回黄河发大水，冲断了河中府城外的一座浮桥。河两岸拴住浮桥的八只大铁牛，也被大水冲走了，陷在河底的淤泥里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洪水退了，马上要重修浮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683800" y="48769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cc0066"/>
                </a:solidFill>
                <a:latin typeface="Arial"/>
              </a:rPr>
              <a:t>铁牛陷在淤泥里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1" name="Group 10"/>
          <p:cNvGrpSpPr/>
          <p:nvPr/>
        </p:nvGrpSpPr>
        <p:grpSpPr>
          <a:xfrm>
            <a:off x="3886200" y="4191120"/>
            <a:ext cx="762120" cy="228600"/>
            <a:chOff x="3886200" y="4191120"/>
            <a:chExt cx="762120" cy="228600"/>
          </a:xfrm>
        </p:grpSpPr>
        <p:sp>
          <p:nvSpPr>
            <p:cNvPr id="152" name="AutoShape 8"/>
            <p:cNvSpPr/>
            <p:nvPr/>
          </p:nvSpPr>
          <p:spPr>
            <a:xfrm>
              <a:off x="3886200" y="419112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" name="AutoShape 9"/>
            <p:cNvSpPr/>
            <p:nvPr/>
          </p:nvSpPr>
          <p:spPr>
            <a:xfrm>
              <a:off x="4419720" y="419112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54" name="Text Box 12"/>
          <p:cNvSpPr/>
          <p:nvPr/>
        </p:nvSpPr>
        <p:spPr>
          <a:xfrm>
            <a:off x="3124080" y="43434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说明时间紧，捞铁牛是个艰难而紧迫的任务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572"/>
                </a:solidFill>
                <a:latin typeface="Arial"/>
              </a:rPr>
              <a:t>3</a:t>
            </a:r>
            <a:r>
              <a:rPr b="0" lang="zh-CN" sz="6000" spc="-1" strike="noStrike">
                <a:solidFill>
                  <a:srgbClr val="007572"/>
                </a:solidFill>
                <a:latin typeface="Arial"/>
              </a:rPr>
              <a:t>、怎么捞铁牛？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准备工作（捞之前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打捞工作（捞之时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33520" y="2057400"/>
            <a:ext cx="8076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为了捞铁牛，怀丙和尚做了哪些准备？读第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自然段，用序号给准备步骤做上记号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8" name="Picture 3" descr="72"/>
          <p:cNvPicPr/>
          <p:nvPr/>
        </p:nvPicPr>
        <p:blipFill>
          <a:blip r:embed="rId1"/>
          <a:stretch/>
        </p:blipFill>
        <p:spPr>
          <a:xfrm>
            <a:off x="6629400" y="5181480"/>
            <a:ext cx="1828800" cy="1222560"/>
          </a:xfrm>
          <a:prstGeom prst="rect">
            <a:avLst/>
          </a:prstGeom>
          <a:ln w="0">
            <a:noFill/>
          </a:ln>
        </p:spPr>
      </p:pic>
      <p:sp>
        <p:nvSpPr>
          <p:cNvPr id="159" name="WordArt 4"/>
          <p:cNvSpPr txBox="1"/>
          <p:nvPr/>
        </p:nvSpPr>
        <p:spPr>
          <a:xfrm>
            <a:off x="990720" y="609480"/>
            <a:ext cx="2743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04920" y="11430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怀丙先请熟悉水性的人潜到水底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摸清了铁牛沉在哪儿。他让人准备两只很大的木船，船上装满泥沙，慢慢行驶到铁牛沉没的地方。船停稳了，他叫人把两只船并排栓得紧紧的，用结实的木料搭个架子，跨在两只船上。又请熟悉水性的人带了很粗的绳子潜到水底，把绳子的一头牢牢地拴住铁牛， 绳子的另一头绑在两只大船之间的架子上。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154240" y="9907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4136040" y="297180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041160" y="396252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648320" y="16765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Oval 12"/>
          <p:cNvSpPr/>
          <p:nvPr/>
        </p:nvSpPr>
        <p:spPr>
          <a:xfrm>
            <a:off x="5943600" y="1066680"/>
            <a:ext cx="609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Oval 13"/>
          <p:cNvSpPr/>
          <p:nvPr/>
        </p:nvSpPr>
        <p:spPr>
          <a:xfrm>
            <a:off x="7162920" y="2209680"/>
            <a:ext cx="10666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952880" y="2743200"/>
            <a:ext cx="5335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Oval 15"/>
          <p:cNvSpPr/>
          <p:nvPr/>
        </p:nvSpPr>
        <p:spPr>
          <a:xfrm>
            <a:off x="304920" y="1676520"/>
            <a:ext cx="609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Oval 16"/>
          <p:cNvSpPr/>
          <p:nvPr/>
        </p:nvSpPr>
        <p:spPr>
          <a:xfrm>
            <a:off x="3048120" y="3352680"/>
            <a:ext cx="609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Oval 17"/>
          <p:cNvSpPr/>
          <p:nvPr/>
        </p:nvSpPr>
        <p:spPr>
          <a:xfrm>
            <a:off x="6248520" y="1600200"/>
            <a:ext cx="11430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Oval 18"/>
          <p:cNvSpPr/>
          <p:nvPr/>
        </p:nvSpPr>
        <p:spPr>
          <a:xfrm>
            <a:off x="838080" y="3886200"/>
            <a:ext cx="60984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Oval 19"/>
          <p:cNvSpPr/>
          <p:nvPr/>
        </p:nvSpPr>
        <p:spPr>
          <a:xfrm>
            <a:off x="3048120" y="3886200"/>
            <a:ext cx="609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Oval 20"/>
          <p:cNvSpPr/>
          <p:nvPr/>
        </p:nvSpPr>
        <p:spPr>
          <a:xfrm>
            <a:off x="5334120" y="4419720"/>
            <a:ext cx="609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Oval 21"/>
          <p:cNvSpPr/>
          <p:nvPr/>
        </p:nvSpPr>
        <p:spPr>
          <a:xfrm>
            <a:off x="3962520" y="4952880"/>
            <a:ext cx="609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Oval 22"/>
          <p:cNvSpPr/>
          <p:nvPr/>
        </p:nvSpPr>
        <p:spPr>
          <a:xfrm>
            <a:off x="1219320" y="5562720"/>
            <a:ext cx="609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Oval 23"/>
          <p:cNvSpPr/>
          <p:nvPr/>
        </p:nvSpPr>
        <p:spPr>
          <a:xfrm>
            <a:off x="3962520" y="2286000"/>
            <a:ext cx="609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112480" y="10144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第一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969920" y="2081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第二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968480" y="3224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第三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968480" y="4443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第四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486400" y="1081080"/>
            <a:ext cx="18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大船装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5473800" y="2133720"/>
            <a:ext cx="19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潜水摸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556240" y="3290760"/>
            <a:ext cx="18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拴牛连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5562720" y="4433760"/>
            <a:ext cx="19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并船搭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Line 10"/>
          <p:cNvSpPr/>
          <p:nvPr/>
        </p:nvSpPr>
        <p:spPr>
          <a:xfrm>
            <a:off x="3048120" y="1295280"/>
            <a:ext cx="2361960" cy="11430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 flipV="1">
            <a:off x="3048120" y="1447920"/>
            <a:ext cx="2514600" cy="9144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Line 12"/>
          <p:cNvSpPr/>
          <p:nvPr/>
        </p:nvSpPr>
        <p:spPr>
          <a:xfrm>
            <a:off x="2971800" y="3505320"/>
            <a:ext cx="259092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Line 13"/>
          <p:cNvSpPr/>
          <p:nvPr/>
        </p:nvSpPr>
        <p:spPr>
          <a:xfrm flipV="1">
            <a:off x="3048120" y="3581280"/>
            <a:ext cx="2514600" cy="1067040"/>
          </a:xfrm>
          <a:prstGeom prst="line">
            <a:avLst/>
          </a:prstGeom>
          <a:ln w="381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WordArt 14"/>
          <p:cNvSpPr txBox="1"/>
          <p:nvPr/>
        </p:nvSpPr>
        <p:spPr>
          <a:xfrm>
            <a:off x="6877080" y="5877000"/>
            <a:ext cx="1533600" cy="63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连连看</a:t>
            </a:r>
            <a:endParaRPr b="1" i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304920" y="11430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怀丙先请熟悉水性的人潜到水底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摸清了铁牛沉在哪儿。他让人准备两只很大的木船，船上装满泥沙，慢慢行驶到铁牛沉没的地方。船停稳了，他叫人把两只船并排栓得紧紧的，用结实的木料搭个架子，跨在两只船上。又请熟悉水性的人带了很粗的绳子潜到水底，把绳子的一头牢牢地拴住铁牛， 绳子的另一头绑在两只大船之间的架子上。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228600" y="7621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准备工作做好了，怀丙请水手们一起动手，把船上的泥沙都铲到黄河里去。船里的泥沙渐渐地少了，船身慢慢向上浮，栓住铁牛的绳子越绷越紧。铁牛一点儿一点儿地从淤泥里向上拔。船上的泥沙铲空了，铁牛也离开了河底。和尚让水手们使劲划桨，两只大船终于把水里的铁牛拖回到岸边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4876920" y="1371600"/>
            <a:ext cx="53316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7620120" y="1905120"/>
            <a:ext cx="53316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Oval 12"/>
          <p:cNvSpPr/>
          <p:nvPr/>
        </p:nvSpPr>
        <p:spPr>
          <a:xfrm>
            <a:off x="3962520" y="2438280"/>
            <a:ext cx="53316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Oval 13"/>
          <p:cNvSpPr/>
          <p:nvPr/>
        </p:nvSpPr>
        <p:spPr>
          <a:xfrm>
            <a:off x="4419720" y="2971800"/>
            <a:ext cx="53316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Oval 14"/>
          <p:cNvSpPr/>
          <p:nvPr/>
        </p:nvSpPr>
        <p:spPr>
          <a:xfrm>
            <a:off x="762120" y="4038480"/>
            <a:ext cx="53316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Oval 15"/>
          <p:cNvSpPr/>
          <p:nvPr/>
        </p:nvSpPr>
        <p:spPr>
          <a:xfrm>
            <a:off x="7620120" y="4114800"/>
            <a:ext cx="53316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2133720" y="1905120"/>
            <a:ext cx="99036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5791320" y="1905120"/>
            <a:ext cx="99036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6781680" y="2514600"/>
            <a:ext cx="18288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304920" y="3048120"/>
            <a:ext cx="99036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1316160" y="137160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7696080" y="1295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4974480" y="350532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698920" y="326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铁牛资料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685800" y="1295280"/>
            <a:ext cx="8001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黄河大铁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　　铸造于唐开元年间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作浮桥的锚用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宋末，浮桥被金军烧毁。后来，大铁牛渐被泥沙埋没。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989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年从黄河古道中挖出四只大铁牛。最轻的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6.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吨。最重的达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5.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吨。四只铁牛一只只膘肥体壮、肌肉隆起、圆目怒睁、威风凛凛，相貌彼此相似而又各有差别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99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日，江泽民总书记到蒲津桥遗址视察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并题词留念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6" name="Picture 4" descr="学习"/>
          <p:cNvPicPr/>
          <p:nvPr/>
        </p:nvPicPr>
        <p:blipFill>
          <a:blip r:embed="rId1"/>
          <a:stretch/>
        </p:blipFill>
        <p:spPr>
          <a:xfrm>
            <a:off x="7315200" y="609480"/>
            <a:ext cx="1219320" cy="8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捞铁牛02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20040203165237(3)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273720"/>
          </a:xfrm>
          <a:prstGeom prst="rect">
            <a:avLst/>
          </a:prstGeom>
          <a:ln w="0">
            <a:noFill/>
          </a:ln>
        </p:spPr>
      </p:pic>
      <p:sp>
        <p:nvSpPr>
          <p:cNvPr id="207" name="WordArt 3"/>
          <p:cNvSpPr txBox="1"/>
          <p:nvPr/>
        </p:nvSpPr>
        <p:spPr>
          <a:xfrm rot="5400000">
            <a:off x="-113760" y="3085200"/>
            <a:ext cx="327492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填一填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268360" y="1484280"/>
            <a:ext cx="483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准备工作做好了和尚先让水手                        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再                               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最后                             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>
            <a:off x="3924360" y="2781360"/>
            <a:ext cx="251928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3059280" y="3860640"/>
            <a:ext cx="324144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3276720" y="5084640"/>
            <a:ext cx="3168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443448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铲沙入河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4005720" y="321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船浮拔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4150440" y="4365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拖牛回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Text Box 11">
            <a:hlinkClick r:id="rId2" action="ppaction://hlinksldjump"/>
          </p:cNvPr>
          <p:cNvSpPr/>
          <p:nvPr/>
        </p:nvSpPr>
        <p:spPr>
          <a:xfrm>
            <a:off x="7164360" y="4568760"/>
            <a:ext cx="1979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Text Box 12">
            <a:hlinkClick r:id="rId3" action="ppaction://hlinksldjump"/>
          </p:cNvPr>
          <p:cNvSpPr/>
          <p:nvPr/>
        </p:nvSpPr>
        <p:spPr>
          <a:xfrm>
            <a:off x="6516720" y="4568760"/>
            <a:ext cx="262728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    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 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                                                      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28600" y="7621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准备工作做好了，怀丙请水手们一起动手，把船上的泥沙都铲到黄河里去。船里的泥沙渐渐地少了，船身慢慢向上浮，栓住铁牛的绳子越绷越紧。铁牛一点儿一点儿地从淤泥里向上拔。船上的泥沙铲空了，铁牛也离开了河底。和尚让水手们使劲划桨，两只大船终于把水里的铁牛拖回到岸边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1"/>
          <p:cNvPicPr/>
          <p:nvPr/>
        </p:nvPicPr>
        <p:blipFill>
          <a:blip r:embed="rId1"/>
          <a:stretch/>
        </p:blipFill>
        <p:spPr>
          <a:xfrm>
            <a:off x="250920" y="549360"/>
            <a:ext cx="8893080" cy="63086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4136760" y="5943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潜水摸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2"/>
          <p:cNvPicPr/>
          <p:nvPr/>
        </p:nvPicPr>
        <p:blipFill>
          <a:blip r:embed="rId1"/>
          <a:stretch/>
        </p:blipFill>
        <p:spPr>
          <a:xfrm>
            <a:off x="684360" y="836640"/>
            <a:ext cx="8208720" cy="5400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1393560" y="1981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备船装沙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3"/>
          <p:cNvPicPr/>
          <p:nvPr/>
        </p:nvPicPr>
        <p:blipFill>
          <a:blip r:embed="rId1"/>
          <a:stretch/>
        </p:blipFill>
        <p:spPr>
          <a:xfrm>
            <a:off x="826920" y="620640"/>
            <a:ext cx="7632720" cy="5688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>
            <a:hlinkClick r:id="rId2" action="ppaction://hlinksldjump"/>
          </p:cNvPr>
          <p:cNvSpPr/>
          <p:nvPr/>
        </p:nvSpPr>
        <p:spPr>
          <a:xfrm>
            <a:off x="2328840" y="16495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并）栓船搭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4"/>
          <p:cNvPicPr/>
          <p:nvPr/>
        </p:nvPicPr>
        <p:blipFill>
          <a:blip r:embed="rId1"/>
          <a:stretch/>
        </p:blipFill>
        <p:spPr>
          <a:xfrm>
            <a:off x="685800" y="609480"/>
            <a:ext cx="7920000" cy="5759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>
            <a:hlinkClick r:id="rId2" action="ppaction://hlinksldjump"/>
          </p:cNvPr>
          <p:cNvSpPr/>
          <p:nvPr/>
        </p:nvSpPr>
        <p:spPr>
          <a:xfrm>
            <a:off x="4038480" y="16765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牛船（架）相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5"/>
          <p:cNvPicPr/>
          <p:nvPr/>
        </p:nvPicPr>
        <p:blipFill>
          <a:blip r:embed="rId1"/>
          <a:stretch/>
        </p:blipFill>
        <p:spPr>
          <a:xfrm>
            <a:off x="838080" y="457200"/>
            <a:ext cx="7777440" cy="57610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>
            <a:hlinkClick r:id="rId2" action="ppaction://hlinksldjump"/>
          </p:cNvPr>
          <p:cNvSpPr/>
          <p:nvPr/>
        </p:nvSpPr>
        <p:spPr>
          <a:xfrm>
            <a:off x="4038480" y="1676520"/>
            <a:ext cx="26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铲沙入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6"/>
          <p:cNvPicPr/>
          <p:nvPr/>
        </p:nvPicPr>
        <p:blipFill>
          <a:blip r:embed="rId1"/>
          <a:stretch/>
        </p:blipFill>
        <p:spPr>
          <a:xfrm>
            <a:off x="900000" y="333360"/>
            <a:ext cx="7848720" cy="60483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>
            <a:hlinkClick r:id="rId2" action="ppaction://hlinksldjump"/>
          </p:cNvPr>
          <p:cNvSpPr/>
          <p:nvPr/>
        </p:nvSpPr>
        <p:spPr>
          <a:xfrm>
            <a:off x="4038480" y="1676520"/>
            <a:ext cx="26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船浮牛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7"/>
          <p:cNvPicPr/>
          <p:nvPr/>
        </p:nvPicPr>
        <p:blipFill>
          <a:blip r:embed="rId1"/>
          <a:stretch/>
        </p:blipFill>
        <p:spPr>
          <a:xfrm>
            <a:off x="380880" y="685800"/>
            <a:ext cx="8650440" cy="568944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>
            <a:hlinkClick r:id="rId2" action="ppaction://hlinksldjump"/>
          </p:cNvPr>
          <p:cNvSpPr/>
          <p:nvPr/>
        </p:nvSpPr>
        <p:spPr>
          <a:xfrm>
            <a:off x="6019920" y="2057400"/>
            <a:ext cx="26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划桨拖回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007413164614472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572"/>
                </a:solidFill>
                <a:latin typeface="Arial"/>
              </a:rPr>
              <a:t>黄河大铁牛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kuang246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1219320" y="1828800"/>
            <a:ext cx="69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指挥捞铁牛的怀丙和尚是一个怎样的人呢？他怎么会想到这样的方法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WordArt 4"/>
          <p:cNvSpPr txBox="1"/>
          <p:nvPr/>
        </p:nvSpPr>
        <p:spPr>
          <a:xfrm>
            <a:off x="3200400" y="152280"/>
            <a:ext cx="2819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思考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35" name="Picture 5" descr="tutu36"/>
          <p:cNvPicPr/>
          <p:nvPr/>
        </p:nvPicPr>
        <p:blipFill>
          <a:blip r:embed="rId2"/>
          <a:stretch/>
        </p:blipFill>
        <p:spPr>
          <a:xfrm>
            <a:off x="228600" y="0"/>
            <a:ext cx="102888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2531520" y="434340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（聪明，充满智慧，出色）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359440" y="5311800"/>
            <a:ext cx="481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怀丙的办法，来源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生活经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85800" y="2209680"/>
            <a:ext cx="7620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572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7572"/>
                </a:solidFill>
                <a:latin typeface="Times New Roman"/>
              </a:rPr>
              <a:t>怀丙和尚是个出色的工程家，他打捞铁牛的办法确实好，不过，他捞一只铁牛需要两船泥沙，捞八只铁牛就得</a:t>
            </a:r>
            <a:r>
              <a:rPr b="1" lang="en-US" sz="3200" spc="-1" strike="noStrike">
                <a:solidFill>
                  <a:srgbClr val="007572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007572"/>
                </a:solidFill>
                <a:latin typeface="Times New Roman"/>
              </a:rPr>
              <a:t>船泥沙，以现代的环保观点看，有没有什么问题？我们想想，有没有什么办法既能捞出铁牛，又注意了环保？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WordArt 3"/>
          <p:cNvSpPr txBox="1"/>
          <p:nvPr/>
        </p:nvSpPr>
        <p:spPr>
          <a:xfrm>
            <a:off x="228600" y="533520"/>
            <a:ext cx="32767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来说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40" name="Picture 4" descr="tutu12"/>
          <p:cNvPicPr/>
          <p:nvPr/>
        </p:nvPicPr>
        <p:blipFill>
          <a:blip r:embed="rId1"/>
          <a:stretch/>
        </p:blipFill>
        <p:spPr>
          <a:xfrm>
            <a:off x="7543800" y="60948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4101120" y="571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用吊车吊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19120" y="113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28600" y="68580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铁牛是水送回来的，你认为是水的力量大还是人的力量大？为什么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04920" y="1981080"/>
            <a:ext cx="858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水的力量是很大，可是人有智慧，可以利用水，所以人的力量更大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80880" y="4572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我们要体会到古代劳动人民的聪明智慧，我们要从小爱科学、学科学、懂科学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654280" y="35812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你从这篇课文受到了什么启发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10-2"/>
          <p:cNvPicPr/>
          <p:nvPr/>
        </p:nvPicPr>
        <p:blipFill>
          <a:blip r:embed="rId1"/>
          <a:stretch/>
        </p:blipFill>
        <p:spPr>
          <a:xfrm>
            <a:off x="1330200" y="1006560"/>
            <a:ext cx="7813800" cy="58514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9800" y="208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浮桥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523880" y="15228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并列的船或筏子上铺上木板造成的桥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850040" y="990720"/>
            <a:ext cx="5654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捞铁牛    拴住    陷在    淤泥    洪水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笨重    议论纷纷    和尚    熟悉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性    潜水   沉没   停稳   木料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搭架子    跨在   绑在   铲泥沙   划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越绷越紧    怀丙    出色    工程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072080" y="53352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宋体"/>
              </a:rPr>
              <a:t>lāotiě   shuān   xiàn     yū     hón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298520" y="1676520"/>
            <a:ext cx="41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宋体"/>
              </a:rPr>
              <a:t>bèn                   shàn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711080" y="2895480"/>
            <a:ext cx="53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宋体"/>
              </a:rPr>
              <a:t>xìnɡ  qián      mò           liào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327320" y="4114800"/>
            <a:ext cx="69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宋体"/>
              </a:rPr>
              <a:t>dāo       kuà   bǎnɡ   chǎn        jiǎn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735560" y="5334120"/>
            <a:ext cx="54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宋体"/>
              </a:rPr>
              <a:t>bēnɡ         bǐnɡ           chén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田字格"/>
          <p:cNvPicPr/>
          <p:nvPr/>
        </p:nvPicPr>
        <p:blipFill>
          <a:blip r:embed="rId1"/>
          <a:stretch/>
        </p:blipFill>
        <p:spPr>
          <a:xfrm>
            <a:off x="3174840" y="160020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174840" y="146052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Arial"/>
                <a:ea typeface="楷体_GB2312"/>
              </a:rPr>
              <a:t>铁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Picture 4" descr="田字格"/>
          <p:cNvPicPr/>
          <p:nvPr/>
        </p:nvPicPr>
        <p:blipFill>
          <a:blip r:embed="rId2"/>
          <a:stretch/>
        </p:blipFill>
        <p:spPr>
          <a:xfrm>
            <a:off x="1638360" y="159228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1638360" y="148896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Arial"/>
                <a:ea typeface="楷体_GB2312"/>
              </a:rPr>
              <a:t>捞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2" name="Picture 6" descr="田字格"/>
          <p:cNvPicPr/>
          <p:nvPr/>
        </p:nvPicPr>
        <p:blipFill>
          <a:blip r:embed="rId3"/>
          <a:stretch/>
        </p:blipFill>
        <p:spPr>
          <a:xfrm>
            <a:off x="4660920" y="158904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4660920" y="144936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Arial"/>
                <a:ea typeface="楷体_GB2312"/>
              </a:rPr>
              <a:t>笨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Picture 8" descr="田字格"/>
          <p:cNvPicPr/>
          <p:nvPr/>
        </p:nvPicPr>
        <p:blipFill>
          <a:blip r:embed="rId4"/>
          <a:stretch/>
        </p:blipFill>
        <p:spPr>
          <a:xfrm>
            <a:off x="6199200" y="158904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6199200" y="144936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Arial"/>
                <a:ea typeface="楷体_GB2312"/>
              </a:rPr>
              <a:t>性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6" name="Picture 10" descr="田字格"/>
          <p:cNvPicPr/>
          <p:nvPr/>
        </p:nvPicPr>
        <p:blipFill>
          <a:blip r:embed="rId5"/>
          <a:stretch/>
        </p:blipFill>
        <p:spPr>
          <a:xfrm>
            <a:off x="3174840" y="414324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1"/>
          <p:cNvSpPr/>
          <p:nvPr/>
        </p:nvSpPr>
        <p:spPr>
          <a:xfrm>
            <a:off x="3200400" y="403848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Arial"/>
                <a:ea typeface="楷体_GB2312"/>
              </a:rPr>
              <a:t>搭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Picture 12" descr="田字格"/>
          <p:cNvPicPr/>
          <p:nvPr/>
        </p:nvPicPr>
        <p:blipFill>
          <a:blip r:embed="rId6"/>
          <a:stretch/>
        </p:blipFill>
        <p:spPr>
          <a:xfrm>
            <a:off x="1638360" y="413532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3"/>
          <p:cNvSpPr/>
          <p:nvPr/>
        </p:nvSpPr>
        <p:spPr>
          <a:xfrm>
            <a:off x="1638360" y="403236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Arial"/>
                <a:ea typeface="楷体_GB2312"/>
              </a:rPr>
              <a:t>料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0" name="Picture 14" descr="田字格"/>
          <p:cNvPicPr/>
          <p:nvPr/>
        </p:nvPicPr>
        <p:blipFill>
          <a:blip r:embed="rId7"/>
          <a:stretch/>
        </p:blipFill>
        <p:spPr>
          <a:xfrm>
            <a:off x="4660920" y="4132440"/>
            <a:ext cx="1181160" cy="1180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5"/>
          <p:cNvSpPr/>
          <p:nvPr/>
        </p:nvSpPr>
        <p:spPr>
          <a:xfrm>
            <a:off x="4660920" y="399240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Arial"/>
                <a:ea typeface="楷体_GB2312"/>
              </a:rPr>
              <a:t>跨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Picture 16" descr="田字格"/>
          <p:cNvPicPr/>
          <p:nvPr/>
        </p:nvPicPr>
        <p:blipFill>
          <a:blip r:embed="rId8"/>
          <a:stretch/>
        </p:blipFill>
        <p:spPr>
          <a:xfrm>
            <a:off x="6199200" y="4132440"/>
            <a:ext cx="1181160" cy="1180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7"/>
          <p:cNvSpPr/>
          <p:nvPr/>
        </p:nvSpPr>
        <p:spPr>
          <a:xfrm>
            <a:off x="6199200" y="399240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Arial"/>
                <a:ea typeface="楷体_GB2312"/>
              </a:rPr>
              <a:t>程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1371600" y="2819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打捞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743200" y="2819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钢铁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1752480" y="990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宋体"/>
              </a:rPr>
              <a:t>lāo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6370920" y="99072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宋体"/>
              </a:rPr>
              <a:t>xìn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1868040" y="3505320"/>
            <a:ext cx="9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宋体"/>
              </a:rPr>
              <a:t>liào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3384000" y="3505320"/>
            <a:ext cx="6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宋体"/>
              </a:rPr>
              <a:t>d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4803480" y="3505320"/>
            <a:ext cx="94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宋体"/>
              </a:rPr>
              <a:t>ku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6141960" y="3505320"/>
            <a:ext cx="14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宋体"/>
              </a:rPr>
              <a:t>chén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4267080" y="28195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笨重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5867280" y="28195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水性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Text Box 28"/>
          <p:cNvSpPr/>
          <p:nvPr/>
        </p:nvSpPr>
        <p:spPr>
          <a:xfrm>
            <a:off x="1219320" y="54100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木料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Text Box 29"/>
          <p:cNvSpPr/>
          <p:nvPr/>
        </p:nvSpPr>
        <p:spPr>
          <a:xfrm>
            <a:off x="2895480" y="54100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搭车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4343400" y="54100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跨越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5867280" y="54100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工程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3390840" y="91440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宋体"/>
              </a:rPr>
              <a:t>ti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4803480" y="914400"/>
            <a:ext cx="94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宋体"/>
              </a:rPr>
              <a:t>bè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WordArt 34"/>
          <p:cNvSpPr txBox="1"/>
          <p:nvPr/>
        </p:nvSpPr>
        <p:spPr>
          <a:xfrm rot="5400000">
            <a:off x="-1219320" y="281916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我会写</a:t>
            </a:r>
            <a:endParaRPr b="0" i="1" lang="en-US" sz="6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10-2"/>
          <p:cNvPicPr/>
          <p:nvPr/>
        </p:nvPicPr>
        <p:blipFill>
          <a:blip r:embed="rId1"/>
          <a:stretch/>
        </p:blipFill>
        <p:spPr>
          <a:xfrm>
            <a:off x="1330200" y="1006560"/>
            <a:ext cx="7813800" cy="58514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3225960" y="208080"/>
            <a:ext cx="12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浮桥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在并列的船或筏子上铺上木板造成的桥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313280" y="3860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浮力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380120" y="486900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物体在流体中受到的向上托的力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13280" y="836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拴住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235400" y="198900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用绳子等绕在物体上，再打上结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689840" y="507960"/>
            <a:ext cx="485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议论纷纷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言论多而杂（言论多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人多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581480" y="1844640"/>
            <a:ext cx="541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例句：今天上午，李新没按时到校上课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同学们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~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不知道他发生了什么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02:42:11Z</dcterms:created>
  <dc:creator/>
  <dc:description/>
  <dc:language>en-US</dc:language>
  <cp:lastModifiedBy/>
  <dcterms:modified xsi:type="dcterms:W3CDTF">2014-05-05T01:20:10Z</dcterms:modified>
  <cp:revision>1</cp:revision>
  <dc:subject/>
  <dc:title/>
</cp:coreProperties>
</file>