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B38-6B74-4F34-9F7F-16EEECFC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991-AC18-4552-8634-B5BD7C5B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3A6-23C8-4025-B0F2-83E39F42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2FD-3AC7-4244-A8E5-C22624D6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21-E68C-4A8B-B2CE-DE490D5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1DF-2C93-4AB6-A7C1-4C1C6EB9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D91-5DC9-4645-9611-826D821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C40-3BB0-4A07-B31F-2C588550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26A-2C5B-49D7-B4C6-3D8D8A5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CE2-EB2D-4B80-AB5D-EE88757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355-A9D3-4C50-922F-9BA3354C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11A-0AB4-4EC0-B783-5095CCAD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F739-C2C7-40AC-9260-2574B5426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" Target="slide18.xml"/><Relationship Id="rId5" Type="http://schemas.openxmlformats.org/officeDocument/2006/relationships/image" Target="../media/image3.jpeg"/><Relationship Id="rId6" Type="http://schemas.openxmlformats.org/officeDocument/2006/relationships/slide" Target="slide20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3">
            <a:hlinkClick r:id="rId2" action="ppaction://hlinksldjump"/>
          </p:cNvPr>
          <p:cNvSpPr/>
          <p:nvPr/>
        </p:nvSpPr>
        <p:spPr>
          <a:xfrm>
            <a:off x="1187280" y="5805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标题"/>
          <p:cNvPicPr/>
          <p:nvPr/>
        </p:nvPicPr>
        <p:blipFill>
          <a:blip r:embed="rId3"/>
          <a:stretch/>
        </p:blipFill>
        <p:spPr>
          <a:xfrm>
            <a:off x="533520" y="115920"/>
            <a:ext cx="7775280" cy="27813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8">
            <a:hlinkClick r:id="rId4" action="ppaction://hlinksldjump"/>
          </p:cNvPr>
          <p:cNvSpPr/>
          <p:nvPr/>
        </p:nvSpPr>
        <p:spPr>
          <a:xfrm>
            <a:off x="2124000" y="580536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nanji4"/>
          <p:cNvPicPr/>
          <p:nvPr/>
        </p:nvPicPr>
        <p:blipFill>
          <a:blip r:embed="rId5"/>
          <a:stretch/>
        </p:blipFill>
        <p:spPr>
          <a:xfrm>
            <a:off x="0" y="11353680"/>
            <a:ext cx="914400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0">
            <a:hlinkClick r:id="rId6" action="ppaction://hlinksldjump"/>
          </p:cNvPr>
          <p:cNvSpPr/>
          <p:nvPr/>
        </p:nvSpPr>
        <p:spPr>
          <a:xfrm>
            <a:off x="731880" y="5805360"/>
            <a:ext cx="311040" cy="366840"/>
          </a:xfrm>
          <a:custGeom>
            <a:avLst/>
            <a:gdLst>
              <a:gd name="textAreaLeft" fmla="*/ 20160 w 311040"/>
              <a:gd name="textAreaRight" fmla="*/ 290880 w 311040"/>
              <a:gd name="textAreaTop" fmla="*/ 20160 h 366840"/>
              <a:gd name="textAreaBottom" fmla="*/ 346680 h 366840"/>
            </a:gdLst>
            <a:ahLst/>
            <a:rect l="textAreaLeft" t="textAreaTop" r="textAreaRight" b="textAreaBottom"/>
            <a:pathLst>
              <a:path w="21600" h="25471">
                <a:moveTo>
                  <a:pt x="0" y="0"/>
                </a:moveTo>
                <a:lnTo>
                  <a:pt x="21600" y="0"/>
                </a:lnTo>
                <a:lnTo>
                  <a:pt x="21600" y="25471"/>
                </a:lnTo>
                <a:lnTo>
                  <a:pt x="0" y="25471"/>
                </a:lnTo>
                <a:close/>
              </a:path>
              <a:path fill="lightenLess" w="21600" h="254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71">
                <a:moveTo>
                  <a:pt x="21600" y="0"/>
                </a:moveTo>
                <a:lnTo>
                  <a:pt x="21600" y="25471"/>
                </a:lnTo>
                <a:lnTo>
                  <a:pt x="20200" y="24071"/>
                </a:lnTo>
                <a:lnTo>
                  <a:pt x="20200" y="1400"/>
                </a:lnTo>
                <a:close/>
              </a:path>
              <a:path fill="darkenLess" w="21600" h="25471">
                <a:moveTo>
                  <a:pt x="21600" y="25471"/>
                </a:moveTo>
                <a:lnTo>
                  <a:pt x="0" y="25471"/>
                </a:lnTo>
                <a:lnTo>
                  <a:pt x="1400" y="24071"/>
                </a:lnTo>
                <a:lnTo>
                  <a:pt x="20200" y="24071"/>
                </a:lnTo>
                <a:close/>
              </a:path>
              <a:path fill="lighten" w="21600" h="25471">
                <a:moveTo>
                  <a:pt x="0" y="254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71"/>
                </a:lnTo>
                <a:close/>
              </a:path>
              <a:path fill="darken" w="21600" h="25471">
                <a:moveTo>
                  <a:pt x="3794" y="5729"/>
                </a:moveTo>
                <a:lnTo>
                  <a:pt x="17806" y="12735"/>
                </a:lnTo>
                <a:lnTo>
                  <a:pt x="3794" y="19742"/>
                </a:lnTo>
                <a:close/>
              </a:path>
            </a:pathLst>
          </a:custGeom>
          <a:solidFill>
            <a:srgbClr val="bbe0e3"/>
          </a:solidFill>
          <a:ln cap="rnd" w="936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1">
            <a:hlinkClick r:id="rId7" action="ppaction://hlinksldjump"/>
          </p:cNvPr>
          <p:cNvSpPr/>
          <p:nvPr/>
        </p:nvSpPr>
        <p:spPr>
          <a:xfrm>
            <a:off x="2700360" y="58388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cap="rnd" w="9360">
            <a:solidFill>
              <a:srgbClr val="bbe0e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395280" y="1159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2916360" y="3728880"/>
            <a:ext cx="3815640" cy="3129120"/>
            <a:chOff x="2916360" y="3728880"/>
            <a:chExt cx="3815640" cy="3129120"/>
          </a:xfrm>
        </p:grpSpPr>
        <p:pic>
          <p:nvPicPr>
            <p:cNvPr id="81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2916360" y="37288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4"/>
            <p:cNvSpPr/>
            <p:nvPr/>
          </p:nvSpPr>
          <p:spPr>
            <a:xfrm>
              <a:off x="3526560" y="464472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干燥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3815640" cy="3129120"/>
            <a:chOff x="0" y="0"/>
            <a:chExt cx="3815640" cy="3129120"/>
          </a:xfrm>
        </p:grpSpPr>
        <p:pic>
          <p:nvPicPr>
            <p:cNvPr id="85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>
              <a:off x="610200" y="91584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蓬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5508720" y="3728880"/>
            <a:ext cx="3815640" cy="3129120"/>
            <a:chOff x="5508720" y="3728880"/>
            <a:chExt cx="3815640" cy="3129120"/>
          </a:xfrm>
        </p:grpSpPr>
        <p:pic>
          <p:nvPicPr>
            <p:cNvPr id="89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5508720" y="37288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4"/>
            <p:cNvSpPr/>
            <p:nvPr/>
          </p:nvSpPr>
          <p:spPr>
            <a:xfrm>
              <a:off x="6118920" y="464472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摩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5327640" y="0"/>
            <a:ext cx="3815640" cy="3129120"/>
            <a:chOff x="5327640" y="0"/>
            <a:chExt cx="3815640" cy="3129120"/>
          </a:xfrm>
        </p:grpSpPr>
        <p:pic>
          <p:nvPicPr>
            <p:cNvPr id="93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5327640" y="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5937840" y="91584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驱散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664000" y="1700280"/>
            <a:ext cx="3815640" cy="3128760"/>
            <a:chOff x="2664000" y="1700280"/>
            <a:chExt cx="3815640" cy="3128760"/>
          </a:xfrm>
        </p:grpSpPr>
        <p:pic>
          <p:nvPicPr>
            <p:cNvPr id="97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2664000" y="1700280"/>
              <a:ext cx="3667680" cy="31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3274200" y="261576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跳跃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755640" y="1484280"/>
            <a:ext cx="3815640" cy="3129120"/>
            <a:chOff x="755640" y="1484280"/>
            <a:chExt cx="3815640" cy="3129120"/>
          </a:xfrm>
        </p:grpSpPr>
        <p:pic>
          <p:nvPicPr>
            <p:cNvPr id="101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755640" y="14842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365840" y="2400120"/>
              <a:ext cx="320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束手无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88000" y="3357720"/>
            <a:ext cx="3815640" cy="3128760"/>
            <a:chOff x="4788000" y="3357720"/>
            <a:chExt cx="3815640" cy="3128760"/>
          </a:xfrm>
        </p:grpSpPr>
        <p:pic>
          <p:nvPicPr>
            <p:cNvPr id="105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4788000" y="3357720"/>
              <a:ext cx="3668040" cy="31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5398200" y="4273200"/>
              <a:ext cx="320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一筹莫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51640" y="465300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012000" y="429264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>
            <a:hlinkClick r:id="" action="ppaction://hlinkshowjump?jump=firstslide"/>
          </p:cNvPr>
          <p:cNvSpPr/>
          <p:nvPr/>
        </p:nvSpPr>
        <p:spPr>
          <a:xfrm>
            <a:off x="971640" y="587700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10800"/>
                </a:moveTo>
                <a:lnTo>
                  <a:pt x="39245" y="3794"/>
                </a:lnTo>
                <a:lnTo>
                  <a:pt x="392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55640" y="47628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没有火，就不能工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没有火，就不能生活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没有火，生命就受到威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55640" y="4716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没有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2120" y="1386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没有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0960" y="23050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没有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" action="ppaction://hlinkshowjump?jump=firstslide"/>
          </p:cNvPr>
          <p:cNvSpPr/>
          <p:nvPr/>
        </p:nvSpPr>
        <p:spPr>
          <a:xfrm>
            <a:off x="7924680" y="647712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50920" y="1700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华文宋体"/>
                <a:ea typeface="华文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难道，就真的束手无策，等待无情的死神到来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一个年轻的队员，望着惨白无力的太阳和茫茫的冰原，久久地思索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87280" y="54936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大家一筹莫展，陷于绝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未标题-2 拷贝"/>
          <p:cNvPicPr/>
          <p:nvPr/>
        </p:nvPicPr>
        <p:blipFill>
          <a:blip r:embed="rId1"/>
          <a:stretch/>
        </p:blipFill>
        <p:spPr>
          <a:xfrm>
            <a:off x="550872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7667640" y="0"/>
            <a:ext cx="1476360" cy="1268280"/>
          </a:xfrm>
          <a:custGeom>
            <a:avLst/>
            <a:gdLst>
              <a:gd name="textAreaLeft" fmla="*/ 82080 w 1476360"/>
              <a:gd name="textAreaRight" fmla="*/ 1394280 w 147636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8172360" y="1844640"/>
            <a:ext cx="971640" cy="1368360"/>
          </a:xfrm>
          <a:custGeom>
            <a:avLst/>
            <a:gdLst>
              <a:gd name="textAreaLeft" fmla="*/ 62640 w 971640"/>
              <a:gd name="textAreaRight" fmla="*/ 909000 w 971640"/>
              <a:gd name="textAreaTop" fmla="*/ 62640 h 1368360"/>
              <a:gd name="textAreaBottom" fmla="*/ 1305720 h 1368360"/>
            </a:gdLst>
            <a:ahLst/>
            <a:rect l="textAreaLeft" t="textAreaTop" r="textAreaRight" b="textAreaBottom"/>
            <a:pathLst>
              <a:path w="21600" h="30416">
                <a:moveTo>
                  <a:pt x="0" y="0"/>
                </a:moveTo>
                <a:lnTo>
                  <a:pt x="21600" y="0"/>
                </a:lnTo>
                <a:lnTo>
                  <a:pt x="21600" y="30416"/>
                </a:lnTo>
                <a:lnTo>
                  <a:pt x="0" y="30416"/>
                </a:lnTo>
                <a:close/>
              </a:path>
              <a:path fill="lightenLess" w="21600" h="304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416">
                <a:moveTo>
                  <a:pt x="21600" y="0"/>
                </a:moveTo>
                <a:lnTo>
                  <a:pt x="21600" y="30416"/>
                </a:lnTo>
                <a:lnTo>
                  <a:pt x="20200" y="29016"/>
                </a:lnTo>
                <a:lnTo>
                  <a:pt x="20200" y="1400"/>
                </a:lnTo>
                <a:close/>
              </a:path>
              <a:path fill="darkenLess" w="21600" h="30416">
                <a:moveTo>
                  <a:pt x="21600" y="30416"/>
                </a:moveTo>
                <a:lnTo>
                  <a:pt x="0" y="30416"/>
                </a:lnTo>
                <a:lnTo>
                  <a:pt x="1400" y="29016"/>
                </a:lnTo>
                <a:lnTo>
                  <a:pt x="20200" y="29016"/>
                </a:lnTo>
                <a:close/>
              </a:path>
              <a:path fill="lighten" w="21600" h="30416">
                <a:moveTo>
                  <a:pt x="0" y="304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016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firstslide"/>
          </p:cNvPr>
          <p:cNvSpPr/>
          <p:nvPr/>
        </p:nvSpPr>
        <p:spPr>
          <a:xfrm>
            <a:off x="838080" y="6248520"/>
            <a:ext cx="381240" cy="75960"/>
          </a:xfrm>
          <a:custGeom>
            <a:avLst/>
            <a:gdLst>
              <a:gd name="textAreaLeft" fmla="*/ 4680 w 381240"/>
              <a:gd name="textAreaRight" fmla="*/ 376560 w 38124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00" h="21600">
                <a:moveTo>
                  <a:pt x="46994" y="3794"/>
                </a:moveTo>
                <a:lnTo>
                  <a:pt x="61006" y="10800"/>
                </a:lnTo>
                <a:lnTo>
                  <a:pt x="469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1280" y="4046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举着“冰透镜”，向着太阳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让太阳光穿过“冰透镜”，形成焦点，射在一团干燥、蓬松的火绒上。一分钟，两分钟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火绒冒出一缕淡淡的青烟。又过了一会儿，火绒上出现了一个红点，接着便燃烧起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838080" y="6248520"/>
            <a:ext cx="381240" cy="75960"/>
          </a:xfrm>
          <a:custGeom>
            <a:avLst/>
            <a:gdLst>
              <a:gd name="textAreaLeft" fmla="*/ 4680 w 381240"/>
              <a:gd name="textAreaRight" fmla="*/ 376560 w 38124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8000" h="21600">
                <a:moveTo>
                  <a:pt x="46994" y="3794"/>
                </a:moveTo>
                <a:lnTo>
                  <a:pt x="61006" y="10800"/>
                </a:lnTo>
                <a:lnTo>
                  <a:pt x="4699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260960" y="13971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分钟，两分钟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91120" y="1889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又过了一会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755640" y="1484280"/>
            <a:ext cx="3815640" cy="3129120"/>
            <a:chOff x="755640" y="1484280"/>
            <a:chExt cx="3815640" cy="3129120"/>
          </a:xfrm>
        </p:grpSpPr>
        <p:pic>
          <p:nvPicPr>
            <p:cNvPr id="49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755640" y="14842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4"/>
            <p:cNvSpPr/>
            <p:nvPr/>
          </p:nvSpPr>
          <p:spPr>
            <a:xfrm>
              <a:off x="1365840" y="240012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摄氏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2286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默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——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你通过哪个动词和时间的词最敬佩探险队员，在书上画出。并从中找出你感触最深的句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一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小组交流讨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7772400" y="6477120"/>
            <a:ext cx="457200" cy="75960"/>
          </a:xfrm>
          <a:custGeom>
            <a:avLst/>
            <a:gdLst>
              <a:gd name="textAreaLeft" fmla="*/ 4680 w 457200"/>
              <a:gd name="textAreaRight" fmla="*/ 452520 w 45720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129498" h="21600">
                <a:moveTo>
                  <a:pt x="0" y="0"/>
                </a:moveTo>
                <a:lnTo>
                  <a:pt x="129498" y="0"/>
                </a:lnTo>
                <a:lnTo>
                  <a:pt x="129498" y="21600"/>
                </a:lnTo>
                <a:lnTo>
                  <a:pt x="0" y="21600"/>
                </a:lnTo>
                <a:close/>
              </a:path>
              <a:path fill="lightenLess" w="129498" h="21600">
                <a:moveTo>
                  <a:pt x="0" y="0"/>
                </a:moveTo>
                <a:lnTo>
                  <a:pt x="129498" y="0"/>
                </a:lnTo>
                <a:lnTo>
                  <a:pt x="128098" y="1400"/>
                </a:lnTo>
                <a:lnTo>
                  <a:pt x="1400" y="1400"/>
                </a:lnTo>
                <a:close/>
              </a:path>
              <a:path fill="darken" w="129498" h="21600">
                <a:moveTo>
                  <a:pt x="129498" y="0"/>
                </a:moveTo>
                <a:lnTo>
                  <a:pt x="129498" y="21600"/>
                </a:lnTo>
                <a:lnTo>
                  <a:pt x="128098" y="20200"/>
                </a:lnTo>
                <a:lnTo>
                  <a:pt x="128098" y="1400"/>
                </a:lnTo>
                <a:close/>
              </a:path>
              <a:path fill="darkenLess" w="129498" h="21600">
                <a:moveTo>
                  <a:pt x="129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98" y="20200"/>
                </a:lnTo>
                <a:close/>
              </a:path>
              <a:path fill="lighten" w="129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498" h="21600">
                <a:moveTo>
                  <a:pt x="57743" y="3794"/>
                </a:moveTo>
                <a:lnTo>
                  <a:pt x="71756" y="10800"/>
                </a:lnTo>
                <a:lnTo>
                  <a:pt x="5774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nanji4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</p:spTree>
  </p:cSld>
  <p:transition advTm="4000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68360" y="2276640"/>
            <a:ext cx="83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团红红的火，驱散了死的威胁，带来了生的欢乐；这团红红的火，恢复了探险队员们的正常生活。他们欢呼、跳跃，像在欢庆一个重大的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8360" y="5493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没有火，就不能工作；没有火，就不能生活；没有火，生命就受到威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firstslide"/>
          </p:cNvPr>
          <p:cNvSpPr/>
          <p:nvPr/>
        </p:nvSpPr>
        <p:spPr>
          <a:xfrm>
            <a:off x="7315200" y="5791320"/>
            <a:ext cx="457200" cy="75960"/>
          </a:xfrm>
          <a:custGeom>
            <a:avLst/>
            <a:gdLst>
              <a:gd name="textAreaLeft" fmla="*/ 4680 w 457200"/>
              <a:gd name="textAreaRight" fmla="*/ 452520 w 45720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129498" h="21600">
                <a:moveTo>
                  <a:pt x="0" y="0"/>
                </a:moveTo>
                <a:lnTo>
                  <a:pt x="129498" y="0"/>
                </a:lnTo>
                <a:lnTo>
                  <a:pt x="129498" y="21600"/>
                </a:lnTo>
                <a:lnTo>
                  <a:pt x="0" y="21600"/>
                </a:lnTo>
                <a:close/>
              </a:path>
              <a:path fill="lightenLess" w="129498" h="21600">
                <a:moveTo>
                  <a:pt x="0" y="0"/>
                </a:moveTo>
                <a:lnTo>
                  <a:pt x="129498" y="0"/>
                </a:lnTo>
                <a:lnTo>
                  <a:pt x="128098" y="1400"/>
                </a:lnTo>
                <a:lnTo>
                  <a:pt x="1400" y="1400"/>
                </a:lnTo>
                <a:close/>
              </a:path>
              <a:path fill="darken" w="129498" h="21600">
                <a:moveTo>
                  <a:pt x="129498" y="0"/>
                </a:moveTo>
                <a:lnTo>
                  <a:pt x="129498" y="21600"/>
                </a:lnTo>
                <a:lnTo>
                  <a:pt x="128098" y="20200"/>
                </a:lnTo>
                <a:lnTo>
                  <a:pt x="128098" y="1400"/>
                </a:lnTo>
                <a:close/>
              </a:path>
              <a:path fill="darkenLess" w="129498" h="21600">
                <a:moveTo>
                  <a:pt x="129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98" y="20200"/>
                </a:lnTo>
                <a:close/>
              </a:path>
              <a:path fill="lighten" w="129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498" h="21600">
                <a:moveTo>
                  <a:pt x="57743" y="3794"/>
                </a:moveTo>
                <a:lnTo>
                  <a:pt x="71756" y="10800"/>
                </a:lnTo>
                <a:lnTo>
                  <a:pt x="5774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4572000" y="620640"/>
            <a:ext cx="3815640" cy="3129120"/>
            <a:chOff x="4572000" y="620640"/>
            <a:chExt cx="3815640" cy="3129120"/>
          </a:xfrm>
        </p:grpSpPr>
        <p:pic>
          <p:nvPicPr>
            <p:cNvPr id="53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4572000" y="62064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4"/>
            <p:cNvSpPr/>
            <p:nvPr/>
          </p:nvSpPr>
          <p:spPr>
            <a:xfrm>
              <a:off x="5182200" y="153648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徘 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3429000"/>
            <a:ext cx="3815640" cy="3129120"/>
            <a:chOff x="0" y="3429000"/>
            <a:chExt cx="3815640" cy="3129120"/>
          </a:xfrm>
        </p:grpSpPr>
        <p:pic>
          <p:nvPicPr>
            <p:cNvPr id="57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4"/>
            <p:cNvSpPr/>
            <p:nvPr/>
          </p:nvSpPr>
          <p:spPr>
            <a:xfrm>
              <a:off x="610200" y="434484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几 乎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611280" y="299880"/>
            <a:ext cx="3815640" cy="3129120"/>
            <a:chOff x="611280" y="299880"/>
            <a:chExt cx="3815640" cy="3129120"/>
          </a:xfrm>
        </p:grpSpPr>
        <p:pic>
          <p:nvPicPr>
            <p:cNvPr id="61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611280" y="2998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4"/>
            <p:cNvSpPr/>
            <p:nvPr/>
          </p:nvSpPr>
          <p:spPr>
            <a:xfrm>
              <a:off x="1221480" y="121572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赐  给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4211640" y="3429000"/>
            <a:ext cx="3815640" cy="3129120"/>
            <a:chOff x="4211640" y="3429000"/>
            <a:chExt cx="3815640" cy="3129120"/>
          </a:xfrm>
        </p:grpSpPr>
        <p:pic>
          <p:nvPicPr>
            <p:cNvPr id="65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4211640" y="342900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4"/>
            <p:cNvSpPr/>
            <p:nvPr/>
          </p:nvSpPr>
          <p:spPr>
            <a:xfrm>
              <a:off x="4821840" y="434484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绝 望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2664000" y="1863720"/>
            <a:ext cx="3815640" cy="3129120"/>
            <a:chOff x="2664000" y="1863720"/>
            <a:chExt cx="3815640" cy="3129120"/>
          </a:xfrm>
        </p:grpSpPr>
        <p:pic>
          <p:nvPicPr>
            <p:cNvPr id="69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2664000" y="1863720"/>
              <a:ext cx="366768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4"/>
            <p:cNvSpPr/>
            <p:nvPr/>
          </p:nvSpPr>
          <p:spPr>
            <a:xfrm>
              <a:off x="3274200" y="277956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茫  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0" y="1484280"/>
            <a:ext cx="3815640" cy="3129120"/>
            <a:chOff x="0" y="1484280"/>
            <a:chExt cx="3815640" cy="3129120"/>
          </a:xfrm>
        </p:grpSpPr>
        <p:pic>
          <p:nvPicPr>
            <p:cNvPr id="73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4"/>
            <p:cNvSpPr/>
            <p:nvPr/>
          </p:nvSpPr>
          <p:spPr>
            <a:xfrm>
              <a:off x="610200" y="240012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恢复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5327640" y="0"/>
            <a:ext cx="3815640" cy="3129120"/>
            <a:chOff x="5327640" y="0"/>
            <a:chExt cx="3815640" cy="3129120"/>
          </a:xfrm>
        </p:grpSpPr>
        <p:pic>
          <p:nvPicPr>
            <p:cNvPr id="77" name="Picture 3" descr="雪花1"/>
            <p:cNvPicPr/>
            <p:nvPr/>
          </p:nvPicPr>
          <p:blipFill>
            <a:blip r:embed="rId2"/>
            <a:stretch/>
          </p:blipFill>
          <p:spPr>
            <a:xfrm>
              <a:off x="5327640" y="0"/>
              <a:ext cx="3668040" cy="31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4"/>
            <p:cNvSpPr/>
            <p:nvPr/>
          </p:nvSpPr>
          <p:spPr>
            <a:xfrm>
              <a:off x="5937840" y="915840"/>
              <a:ext cx="32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焦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5">
            <a:hlinkClick r:id="rId3" action="ppaction://hlinksldjump"/>
          </p:cNvPr>
          <p:cNvSpPr/>
          <p:nvPr/>
        </p:nvSpPr>
        <p:spPr>
          <a:xfrm>
            <a:off x="6912000" y="4986360"/>
            <a:ext cx="2232000" cy="1871640"/>
          </a:xfrm>
          <a:custGeom>
            <a:avLst/>
            <a:gdLst>
              <a:gd name="textAreaLeft" fmla="*/ 121320 w 2232000"/>
              <a:gd name="textAreaRight" fmla="*/ 2110680 w 2232000"/>
              <a:gd name="textAreaTop" fmla="*/ 121320 h 1871640"/>
              <a:gd name="textAreaBottom" fmla="*/ 1750320 h 1871640"/>
            </a:gdLst>
            <a:ahLst/>
            <a:rect l="textAreaLeft" t="textAreaTop" r="textAreaRight" b="textAreaBottom"/>
            <a:pathLst>
              <a:path w="25758" h="21600">
                <a:moveTo>
                  <a:pt x="0" y="0"/>
                </a:moveTo>
                <a:lnTo>
                  <a:pt x="25758" y="0"/>
                </a:lnTo>
                <a:lnTo>
                  <a:pt x="25758" y="21600"/>
                </a:lnTo>
                <a:lnTo>
                  <a:pt x="0" y="21600"/>
                </a:lnTo>
                <a:close/>
              </a:path>
              <a:path fill="lightenLess" w="25758" h="21600">
                <a:moveTo>
                  <a:pt x="0" y="0"/>
                </a:moveTo>
                <a:lnTo>
                  <a:pt x="25758" y="0"/>
                </a:lnTo>
                <a:lnTo>
                  <a:pt x="24358" y="1400"/>
                </a:lnTo>
                <a:lnTo>
                  <a:pt x="1400" y="1400"/>
                </a:lnTo>
                <a:close/>
              </a:path>
              <a:path fill="darken" w="25758" h="21600">
                <a:moveTo>
                  <a:pt x="25758" y="0"/>
                </a:moveTo>
                <a:lnTo>
                  <a:pt x="25758" y="21600"/>
                </a:lnTo>
                <a:lnTo>
                  <a:pt x="24358" y="20200"/>
                </a:lnTo>
                <a:lnTo>
                  <a:pt x="24358" y="1400"/>
                </a:lnTo>
                <a:close/>
              </a:path>
              <a:path fill="darkenLess" w="25758" h="21600">
                <a:moveTo>
                  <a:pt x="25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58" y="20200"/>
                </a:lnTo>
                <a:close/>
              </a:path>
              <a:path fill="lighten" w="25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06:38:00Z</dcterms:created>
  <dc:creator/>
  <dc:description/>
  <dc:language>en-US</dc:language>
  <cp:lastModifiedBy/>
  <dcterms:modified xsi:type="dcterms:W3CDTF">2014-04-24T06:38:06Z</dcterms:modified>
  <cp:revision>1</cp:revision>
  <dc:subject/>
  <dc:title/>
</cp:coreProperties>
</file>