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FF13-7755-4B18-BD84-C1B2FC9AB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68DC-4D6E-4C5E-9AF8-8469126A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3D0F-4865-4FF7-AA76-E926AFF74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231F-4F56-4661-BD58-97551321B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FEAB-A2A1-4AC8-8D31-C41AC3390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CCA1-C93F-4732-9A1D-B6849DB0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F3FC-B06D-4047-AD3A-F3B806F9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36203-CF92-48C3-BFE1-EEB44D97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276C8-BC3C-498A-AB79-8130A426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B4A20-4247-4538-B6AC-7DE883DE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D469-40D2-41BB-A20F-3DAB4A86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D402-C4D0-462D-91FD-969818AF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4534-431C-4FFA-9BA2-5E5162F2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190F-7D00-48DE-9C10-CE4D2411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A1BF7-7A61-4B66-9A8E-6BF7B00D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E2062-7D3E-4293-B9AE-509F15341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EFE4-2494-4606-AF90-AC573F9A1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AC13-FE38-4273-AA76-C256249E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AF0AE-A264-4FB5-B623-363DF63C8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49384-D645-4E11-AFF8-3083514C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AA9F5-127F-4BB6-8108-B0148401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ACFB-51AD-4247-BD1A-576ADD60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4CB34-E490-4A5C-8714-28CCED7D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8F31E-B123-4CC0-8A00-7E0CCCFE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19DE2-BFB7-4FB0-BA54-D0CC9487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79A4E-96C1-4412-98B0-CEE44F55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92A3B-93FE-4AAE-83C2-58B68E1D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80A3D-4B1F-462F-9080-1A76E5A1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F7E6A-C5F4-4B3A-95A4-5ADC5501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0795A-4D78-43E1-B8ED-9DF2A32F3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7DA86-03BA-4825-B363-D4D901D5C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34B6-52AA-4ED4-B616-96C98276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B56E-47E4-48D6-867D-5BE12498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AA96-07E0-4688-8F37-DA16BAF5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A5E4-132C-4F6C-80D0-9B07585D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FB28-DF11-45B3-A1CE-A3AA221D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11401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11401"/>
              </a:buClr>
              <a:buSzPct val="60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11401"/>
              </a:buClr>
              <a:buSzPct val="90000"/>
              <a:buFont typeface="Calibri"/>
              <a:buChar char="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11401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000" y="648288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8288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3000" y="6482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322D-B177-431D-A81B-5BFCE941B7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6e6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e6e6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e6e6"/>
              </a:buClr>
              <a:buSzPct val="60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e6e6"/>
              </a:buClr>
              <a:buSzPct val="90000"/>
              <a:buFont typeface="Calibri"/>
              <a:buChar char="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e6e6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000" y="648288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8288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93000" y="6482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2AC0-8F2A-4EA2-AF2E-968490BE26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11401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11401"/>
              </a:buClr>
              <a:buSzPct val="60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11401"/>
              </a:buClr>
              <a:buSzPct val="90000"/>
              <a:buFont typeface="Calibri"/>
              <a:buChar char="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11401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组合 6"/>
          <p:cNvGrpSpPr/>
          <p:nvPr/>
        </p:nvGrpSpPr>
        <p:grpSpPr>
          <a:xfrm>
            <a:off x="1501200" y="454320"/>
            <a:ext cx="7499520" cy="4968360"/>
            <a:chOff x="1501200" y="454320"/>
            <a:chExt cx="7499520" cy="4968360"/>
          </a:xfrm>
        </p:grpSpPr>
        <p:sp>
          <p:nvSpPr>
            <p:cNvPr id="121" name="矩形 7"/>
            <p:cNvSpPr/>
            <p:nvPr/>
          </p:nvSpPr>
          <p:spPr>
            <a:xfrm rot="21480000">
              <a:off x="1581120" y="580680"/>
              <a:ext cx="7339320" cy="471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640" dir="5400000" blurRad="0" rotWithShape="0">
                <a:srgbClr val="000000">
                  <a:alpha val="6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矩形 8"/>
            <p:cNvSpPr/>
            <p:nvPr/>
          </p:nvSpPr>
          <p:spPr>
            <a:xfrm rot="21540000">
              <a:off x="1590120" y="571320"/>
              <a:ext cx="7339320" cy="471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640" dir="5400000" blurRad="0" rotWithShape="0">
                <a:srgbClr val="000000">
                  <a:alpha val="6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矩形 9"/>
            <p:cNvSpPr/>
            <p:nvPr/>
          </p:nvSpPr>
          <p:spPr>
            <a:xfrm>
              <a:off x="1590480" y="554040"/>
              <a:ext cx="7339320" cy="471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640" dir="5400000" blurRad="0" rotWithShape="0">
                <a:srgbClr val="000000">
                  <a:alpha val="6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mbri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11401"/>
              </a:buClr>
              <a:buFont typeface="Cambr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11401"/>
              </a:buClr>
              <a:buSzPct val="60000"/>
              <a:buFont typeface="Wingdings 2" charset="2"/>
              <a:buChar char="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11401"/>
              </a:buClr>
              <a:buSzPct val="90000"/>
              <a:buFont typeface="Calibri"/>
              <a:buChar char="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11401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mbria"/>
              <a:buChar char="=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9000" y="648288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124080" y="648288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6993000" y="64828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BEDE-9C63-4FDF-A470-35EC5C24E5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http://news.xinhuanet.com/travel/2008-03/12/xin_58203051015436061048921.jpg"/>
          <p:cNvPicPr/>
          <p:nvPr/>
        </p:nvPicPr>
        <p:blipFill>
          <a:blip r:embed="rId1"/>
          <a:stretch/>
        </p:blipFill>
        <p:spPr>
          <a:xfrm>
            <a:off x="0" y="838080"/>
            <a:ext cx="8381880" cy="57150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7"/>
          <p:cNvSpPr/>
          <p:nvPr/>
        </p:nvSpPr>
        <p:spPr>
          <a:xfrm>
            <a:off x="1981080" y="914400"/>
            <a:ext cx="601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方正硬笔楷书简体"/>
                <a:ea typeface="方正硬笔楷书简体"/>
              </a:rPr>
              <a:t>天外来客</a:t>
            </a:r>
            <a:r>
              <a:rPr b="0" lang="en-US" sz="4800" spc="-1" strike="noStrike">
                <a:solidFill>
                  <a:srgbClr val="ff0000"/>
                </a:solidFill>
                <a:latin typeface="迷你简硬笔楷书"/>
                <a:ea typeface="方正硬笔楷书简体"/>
              </a:rPr>
              <a:t>——</a:t>
            </a:r>
            <a:r>
              <a:rPr b="0" lang="zh-CN" sz="4800" spc="-1" strike="noStrike">
                <a:solidFill>
                  <a:srgbClr val="ff0000"/>
                </a:solidFill>
                <a:latin typeface="方正硬笔楷书简体"/>
                <a:ea typeface="方正硬笔楷书简体"/>
              </a:rPr>
              <a:t>陨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Rectangle 2" descr=""/>
          <p:cNvPicPr/>
          <p:nvPr/>
        </p:nvPicPr>
        <p:blipFill>
          <a:blip r:embed="rId1"/>
          <a:stretch/>
        </p:blipFill>
        <p:spPr>
          <a:xfrm>
            <a:off x="457200" y="1968480"/>
            <a:ext cx="2895480" cy="1755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"/>
          <p:cNvPicPr/>
          <p:nvPr/>
        </p:nvPicPr>
        <p:blipFill>
          <a:blip r:embed="rId2"/>
          <a:stretch/>
        </p:blipFill>
        <p:spPr>
          <a:xfrm>
            <a:off x="3200400" y="1143000"/>
            <a:ext cx="5410080" cy="4000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3048120" y="1295280"/>
            <a:ext cx="5410080" cy="4295880"/>
          </a:xfrm>
          <a:prstGeom prst="rect">
            <a:avLst/>
          </a:prstGeom>
          <a:ln w="0">
            <a:noFill/>
          </a:ln>
        </p:spPr>
      </p:pic>
      <p:pic>
        <p:nvPicPr>
          <p:cNvPr id="182" name="Rectangle 7" descr=""/>
          <p:cNvPicPr/>
          <p:nvPr/>
        </p:nvPicPr>
        <p:blipFill>
          <a:blip r:embed="rId2"/>
          <a:stretch/>
        </p:blipFill>
        <p:spPr>
          <a:xfrm>
            <a:off x="152280" y="2243160"/>
            <a:ext cx="2895840" cy="1725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8" descr="%E9%99%A8%E7%9F%B3"/>
          <p:cNvPicPr/>
          <p:nvPr/>
        </p:nvPicPr>
        <p:blipFill>
          <a:blip r:embed="rId1"/>
          <a:stretch/>
        </p:blipFill>
        <p:spPr>
          <a:xfrm>
            <a:off x="3276720" y="1371600"/>
            <a:ext cx="5333760" cy="3809880"/>
          </a:xfrm>
          <a:prstGeom prst="rect">
            <a:avLst/>
          </a:prstGeom>
          <a:ln w="0">
            <a:noFill/>
          </a:ln>
        </p:spPr>
      </p:pic>
      <p:pic>
        <p:nvPicPr>
          <p:cNvPr id="184" name="Rectangle 9" descr=""/>
          <p:cNvPicPr/>
          <p:nvPr/>
        </p:nvPicPr>
        <p:blipFill>
          <a:blip r:embed="rId2"/>
          <a:stretch/>
        </p:blipFill>
        <p:spPr>
          <a:xfrm>
            <a:off x="463680" y="2163600"/>
            <a:ext cx="2730240" cy="17258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Rectangle 2" descr=""/>
          <p:cNvPicPr/>
          <p:nvPr/>
        </p:nvPicPr>
        <p:blipFill>
          <a:blip r:embed="rId1"/>
          <a:stretch/>
        </p:blipFill>
        <p:spPr>
          <a:xfrm>
            <a:off x="457200" y="231840"/>
            <a:ext cx="8229600" cy="13888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楷体_GB2312"/>
              </a:rPr>
              <a:t>陨石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：是地球以外未燃尽的宇宙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楷体_GB2312"/>
              </a:rPr>
              <a:t>流星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脱离原有运行轨道或成碎块散落到</a:t>
            </a:r>
            <a:r>
              <a:rPr b="1" lang="zh-CN" sz="3600" spc="-1" strike="noStrike">
                <a:solidFill>
                  <a:srgbClr val="cc3399"/>
                </a:solidFill>
                <a:latin typeface="Calibri"/>
                <a:ea typeface="楷体_GB2312"/>
              </a:rPr>
              <a:t>地球或其他行星表面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的，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楷体_GB2312"/>
              </a:rPr>
              <a:t>石质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的、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楷体_GB2312"/>
              </a:rPr>
              <a:t>铁质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的或是石铁混合物质，也称“陨星”。大多数陨石来自</a:t>
            </a:r>
            <a:r>
              <a:rPr b="1" lang="zh-CN" sz="3600" spc="-1" strike="noStrike">
                <a:solidFill>
                  <a:srgbClr val="cc3399"/>
                </a:solidFill>
                <a:latin typeface="Calibri"/>
                <a:ea typeface="楷体_GB2312"/>
              </a:rPr>
              <a:t>小行星带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，小部分来自</a:t>
            </a:r>
            <a:r>
              <a:rPr b="1" lang="zh-CN" sz="3600" spc="-1" strike="noStrike">
                <a:solidFill>
                  <a:srgbClr val="cc3399"/>
                </a:solidFill>
                <a:latin typeface="Calibri"/>
                <a:ea typeface="楷体_GB2312"/>
              </a:rPr>
              <a:t>月球和火星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533520" y="12952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Calibri"/>
                <a:ea typeface="隶书"/>
              </a:rPr>
              <a:t>初读课文，整体感知：</a:t>
            </a:r>
            <a:br>
              <a:rPr sz="3600"/>
            </a:b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由读课文，读准生字的字音，把句子读通顺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你对陨石有了哪些新的了解？你还有哪些问题没有弄明白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254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4" descr="01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441972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5"/>
          <p:cNvSpPr/>
          <p:nvPr/>
        </p:nvSpPr>
        <p:spPr>
          <a:xfrm>
            <a:off x="1600200" y="510552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i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72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11401"/>
              </a:buClr>
              <a:buSzPct val="90000"/>
              <a:buFont typeface="Cambri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我来写生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4" descr="02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233532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557280" y="3643200"/>
            <a:ext cx="10666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确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确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确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1627200" y="3643200"/>
            <a:ext cx="1219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曾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未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何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2590920" y="3643200"/>
            <a:ext cx="1143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沿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沿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边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3733920" y="3643200"/>
            <a:ext cx="10666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坚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硬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硬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4778280" y="3643200"/>
            <a:ext cx="10670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沉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默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默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5867280" y="3643200"/>
            <a:ext cx="12193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回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记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失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7315200" y="3657600"/>
            <a:ext cx="1371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派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派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流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228600" y="0"/>
            <a:ext cx="891540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í </a:t>
            </a:r>
            <a:r>
              <a:rPr b="1" lang="en-US" sz="3600" spc="-1" strike="noStrike">
                <a:solidFill>
                  <a:srgbClr val="b2935c"/>
                </a:solidFill>
                <a:latin typeface="Arial"/>
              </a:rPr>
              <a:t>què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guǐ daò   yǔ zhòu  jiē ch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  确     轨  道      宇    宙     接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xī m</a:t>
            </a:r>
            <a:r>
              <a:rPr b="1" lang="en-US" sz="3600" spc="-1" strike="noStrike">
                <a:solidFill>
                  <a:srgbClr val="b2935c"/>
                </a:solidFill>
                <a:latin typeface="Arial"/>
              </a:rPr>
              <a:t>iè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c</a:t>
            </a:r>
            <a:r>
              <a:rPr b="1" lang="en-US" sz="3600" spc="-1" strike="noStrike">
                <a:solidFill>
                  <a:srgbClr val="b2935c"/>
                </a:solidFill>
                <a:latin typeface="Arial"/>
              </a:rPr>
              <a:t>éng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jīng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yán zh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ù zh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熄  灭     曾  经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沿   着   物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jiān yìng  chén mò  huí  yì    </a:t>
            </a:r>
            <a:r>
              <a:rPr b="0" lang="en-US" sz="3600" spc="-1" strike="noStrike">
                <a:solidFill>
                  <a:srgbClr val="b2935c"/>
                </a:solidFill>
                <a:latin typeface="Arial"/>
              </a:rPr>
              <a:t>lǚ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chéng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坚  硬      沉  默      回   忆     旅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Xíng zō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行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179280" y="404640"/>
            <a:ext cx="8640720" cy="56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的 确  轨 道  宇 宙    熄 灭  曾 经  沿 着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坚 硬  沉 默  回 忆      派 来  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250920" y="1341360"/>
            <a:ext cx="84978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íng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x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īng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x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íng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m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íng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dēng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行      星       行       明       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ǐng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ìng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ch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éng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ch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éng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ō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醒        硬      成       程      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Rectangle 2" descr=""/>
          <p:cNvPicPr/>
          <p:nvPr/>
        </p:nvPicPr>
        <p:blipFill>
          <a:blip r:embed="rId1"/>
          <a:stretch/>
        </p:blipFill>
        <p:spPr>
          <a:xfrm>
            <a:off x="-237960" y="274680"/>
            <a:ext cx="8467560" cy="15112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世纪最壮观的一次陨石雨，是</a:t>
            </a:r>
            <a:r>
              <a:rPr b="1" lang="en-US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1976</a:t>
            </a:r>
            <a:r>
              <a:rPr b="1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日下午</a:t>
            </a:r>
            <a:r>
              <a:rPr b="1" lang="en-US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时，散落在吉林市的大陨石雨。那天下午，先是出现一个大火球，很快就变成</a:t>
            </a:r>
            <a:r>
              <a:rPr b="1" lang="en-US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个，二大一小，相随向西飞行。有</a:t>
            </a:r>
            <a:r>
              <a:rPr b="1" lang="en-US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多万人听到火球发出的霹雳巨响，接着就发生爆炸，大小石头，纷纷下坠，散落在</a:t>
            </a:r>
            <a:r>
              <a:rPr b="1" lang="en-US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72</a:t>
            </a:r>
            <a:r>
              <a:rPr b="1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千米长，</a:t>
            </a:r>
            <a:r>
              <a:rPr b="1" lang="en-US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8.5</a:t>
            </a:r>
            <a:r>
              <a:rPr b="1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千米宽的地带，面积有</a:t>
            </a:r>
            <a:r>
              <a:rPr b="1" lang="en-US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500</a:t>
            </a:r>
            <a:r>
              <a:rPr b="1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平方千米。这是现在世界上分布面积最大的一次陨石雨，共收集到</a:t>
            </a:r>
            <a:r>
              <a:rPr b="1" lang="en-US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多块陨石，总重量达</a:t>
            </a:r>
            <a:r>
              <a:rPr b="1" lang="en-US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2700</a:t>
            </a:r>
            <a:r>
              <a:rPr b="1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多千克。最大的一块陨石是</a:t>
            </a:r>
            <a:r>
              <a:rPr b="1" lang="zh-CN" sz="3200" spc="-1" strike="noStrike">
                <a:solidFill>
                  <a:srgbClr val="000000"/>
                </a:solidFill>
                <a:latin typeface="迷你简硬笔楷书"/>
                <a:ea typeface="方正硬笔楷书简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吉林</a:t>
            </a:r>
            <a:r>
              <a:rPr b="1" lang="en-US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号</a:t>
            </a:r>
            <a:r>
              <a:rPr b="1" lang="zh-CN" sz="3200" spc="-1" strike="noStrike">
                <a:solidFill>
                  <a:srgbClr val="000000"/>
                </a:solidFill>
                <a:latin typeface="迷你简硬笔楷书"/>
                <a:ea typeface="方正硬笔楷书简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，重</a:t>
            </a:r>
            <a:r>
              <a:rPr b="1" lang="en-US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1770</a:t>
            </a:r>
            <a:r>
              <a:rPr b="1" lang="zh-CN" sz="3200" spc="-1" strike="noStrike">
                <a:solidFill>
                  <a:srgbClr val="000000"/>
                </a:solidFill>
                <a:latin typeface="方正硬笔楷书简体"/>
                <a:ea typeface="方正硬笔楷书简体"/>
              </a:rPr>
              <a:t>千克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Rectangle 4" descr=""/>
          <p:cNvPicPr/>
          <p:nvPr/>
        </p:nvPicPr>
        <p:blipFill>
          <a:blip r:embed="rId1"/>
          <a:stretch/>
        </p:blipFill>
        <p:spPr>
          <a:xfrm>
            <a:off x="414360" y="1011240"/>
            <a:ext cx="8047080" cy="18907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9072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11401"/>
                </a:solidFill>
                <a:latin typeface="Calibri"/>
              </a:rPr>
              <a:t>课文为什么这样说，你从中体会出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838080" y="1294920"/>
            <a:ext cx="69343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  <a:ea typeface="隶书"/>
              </a:rPr>
              <a:t>陨石既是石头也是星星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它是星星时在天上什么样？为什么来我们地球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星星在天上是一闪一闪的，为什么来到地球就成了不发光的石头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它来地球干什么？</a:t>
            </a:r>
            <a:br>
              <a:rPr sz="2800"/>
            </a:b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Rectangle 4" descr=""/>
          <p:cNvPicPr/>
          <p:nvPr/>
        </p:nvPicPr>
        <p:blipFill>
          <a:blip r:embed="rId1"/>
          <a:stretch/>
        </p:blipFill>
        <p:spPr>
          <a:xfrm>
            <a:off x="268200" y="817560"/>
            <a:ext cx="8077320" cy="190188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83808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11401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411401"/>
                </a:solidFill>
                <a:latin typeface="Calibri"/>
              </a:rPr>
              <a:t>、怎样理解“沉睡、唤醒”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11401"/>
                </a:solidFill>
                <a:latin typeface="Calibri"/>
              </a:rPr>
              <a:t>2</a:t>
            </a:r>
            <a:r>
              <a:rPr b="1" lang="zh-CN" sz="2400" spc="-1" strike="noStrike">
                <a:solidFill>
                  <a:srgbClr val="411401"/>
                </a:solidFill>
                <a:latin typeface="Calibri"/>
              </a:rPr>
              <a:t>、课文为什么这样说，你从中体会出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13712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隶书"/>
              </a:rPr>
              <a:t>它是一块沉睡的物体，还没有被生命唤醒。　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怎样理解“沉睡，唤醒”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课文为什么这样说，你从中体会出什么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宋体"/>
              </a:rPr>
              <a:t>（它们来地球可以让我们研究宇宙中星体的结构。）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685440" y="1905120"/>
            <a:ext cx="76201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大家想一想，从陨石身上我们还可以研究出些什么？它还能告诉我们一些什么事情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ectangle 2" descr=""/>
          <p:cNvPicPr/>
          <p:nvPr/>
        </p:nvPicPr>
        <p:blipFill>
          <a:blip r:embed="rId1"/>
          <a:stretch/>
        </p:blipFill>
        <p:spPr>
          <a:xfrm>
            <a:off x="231840" y="993600"/>
            <a:ext cx="8229600" cy="11829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>
            <a:off x="838080" y="21337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你觉得它会在回忆什么？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理解“信使”的意思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　　　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761760" y="129528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 一块石头又怎么能当信使呢？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你们想知道陨石过去的哪些行踪？我们又怎么能得到答案呢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（只有去不断的探索和研究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陨石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http://www.chinahou.org/universe/image/zhongguojilinyunshiyu.jpg"/>
          <p:cNvPicPr/>
          <p:nvPr/>
        </p:nvPicPr>
        <p:blipFill>
          <a:blip r:embed="rId1"/>
          <a:stretch/>
        </p:blipFill>
        <p:spPr>
          <a:xfrm>
            <a:off x="457200" y="914400"/>
            <a:ext cx="8381880" cy="5029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3" descr="http://a1.att.hudong.com/62/20/01300000251852123259208895205.jpg"/>
          <p:cNvPicPr/>
          <p:nvPr/>
        </p:nvPicPr>
        <p:blipFill>
          <a:blip r:embed="rId1"/>
          <a:stretch/>
        </p:blipFill>
        <p:spPr>
          <a:xfrm>
            <a:off x="457200" y="914400"/>
            <a:ext cx="8381880" cy="5334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06062708"/>
          <p:cNvPicPr/>
          <p:nvPr/>
        </p:nvPicPr>
        <p:blipFill>
          <a:blip r:embed="rId1"/>
          <a:stretch/>
        </p:blipFill>
        <p:spPr>
          <a:xfrm>
            <a:off x="762120" y="914400"/>
            <a:ext cx="8381880" cy="5562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1"/>
          <p:cNvPicPr/>
          <p:nvPr/>
        </p:nvPicPr>
        <p:blipFill>
          <a:blip r:embed="rId1"/>
          <a:stretch/>
        </p:blipFill>
        <p:spPr>
          <a:xfrm>
            <a:off x="4284720" y="0"/>
            <a:ext cx="4859280" cy="3716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2"/>
          <p:cNvPicPr/>
          <p:nvPr/>
        </p:nvPicPr>
        <p:blipFill>
          <a:blip r:embed="rId2"/>
          <a:stretch/>
        </p:blipFill>
        <p:spPr>
          <a:xfrm>
            <a:off x="0" y="0"/>
            <a:ext cx="4284720" cy="3741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5"/>
          <p:cNvPicPr/>
          <p:nvPr/>
        </p:nvPicPr>
        <p:blipFill>
          <a:blip r:embed="rId3"/>
          <a:stretch/>
        </p:blipFill>
        <p:spPr>
          <a:xfrm>
            <a:off x="0" y="3716280"/>
            <a:ext cx="4284720" cy="3141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4"/>
          <p:cNvPicPr/>
          <p:nvPr/>
        </p:nvPicPr>
        <p:blipFill>
          <a:blip r:embed="rId4"/>
          <a:stretch/>
        </p:blipFill>
        <p:spPr>
          <a:xfrm>
            <a:off x="4284720" y="3716280"/>
            <a:ext cx="4859280" cy="3141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80520" y="1447920"/>
            <a:ext cx="769644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5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0800" spc="-1" strike="noStrike">
                <a:solidFill>
                  <a:srgbClr val="000000"/>
                </a:solidFill>
                <a:latin typeface="Calibri"/>
                <a:ea typeface="楷体_GB2312"/>
              </a:rPr>
              <a:t>陨石</a:t>
            </a:r>
            <a:endParaRPr b="0" lang="en-US" sz="20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5T01:54:48Z</dcterms:created>
  <dc:creator/>
  <dc:description/>
  <dc:language>en-US</dc:language>
  <cp:lastModifiedBy/>
  <dcterms:modified xsi:type="dcterms:W3CDTF">2014-04-25T01:55:15Z</dcterms:modified>
  <cp:revision>1</cp:revision>
  <dc:subject/>
  <dc:title/>
</cp:coreProperties>
</file>