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5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73A-1BDC-4D69-AFC9-70F2E88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E2A-E6FE-4F33-8FEB-F7BEFC3B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CC4-C244-4AA5-A393-5BC67DBD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4B7-C29D-46A3-83FE-23F47627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2405-EA73-45A3-83AF-FF7AB3AE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25D-D2E8-4C5F-8B83-BA233D9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06A-DD39-4796-A693-0F7E7956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934-7864-4030-A9C6-BA2C3A2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267-A70B-4E27-BBEB-26C7831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4668-FA8F-408B-8212-4079ABF8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51B-4F16-4B22-98C9-95D2104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36F-B274-456C-89E4-FEFF5965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F90-29E3-4815-A033-976FE58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550-3864-4068-B608-FCB1CDF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EB93-40CD-4B8D-B2C5-F77D2C04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8B59-13B7-4954-B8CE-7A6A7195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1780-BA65-4AAF-B8A9-BFF46A54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D81-F6B6-4A77-BE7C-93158084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995-280A-493A-BBF3-6570C95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7FC-BF95-446E-9759-F0BF80C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A4C-C00C-4075-A823-F0ADAE4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A34-1894-42A6-8328-80B18F4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285-7746-45D0-AA7B-4C85CAC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373-B799-451D-9B6F-7457D27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CB4F-26EC-4B9D-97F2-4A8CF4C299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A55-0492-4C7E-A460-09DCA5C4A2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D 图片下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32000" y="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2627280" y="1628640"/>
            <a:ext cx="1219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特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651640" y="1628640"/>
            <a:ext cx="1218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产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214720" cy="2428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2808360" y="214308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  <a:ea typeface="华文新魏"/>
              </a:rPr>
              <a:t>甘蔗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原产于印度，现广泛种植于热带及亚热带地区。甘蔗种植面积最大的国家是巴西，其次是印度，中国位居第三。中国蔗区主要分布在广东、四川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隶书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951280" y="2500200"/>
            <a:ext cx="6192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  <a:ea typeface="华文行楷"/>
              </a:rPr>
              <a:t>鸭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为河北省古老地方品种，适应性强，果实大而且美肉质细脆多汁，香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u=1130985479,2648804750&amp;fm=0&amp;gp=26"/>
          <p:cNvPicPr/>
          <p:nvPr/>
        </p:nvPicPr>
        <p:blipFill>
          <a:blip r:embed="rId1"/>
          <a:srcRect l="0" t="0" r="0" b="5454"/>
          <a:stretch/>
        </p:blipFill>
        <p:spPr>
          <a:xfrm>
            <a:off x="0" y="0"/>
            <a:ext cx="200016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357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286000" y="264312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  <a:ea typeface="华文行楷"/>
              </a:rPr>
              <a:t>龙眼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原产于我国南部及西南部，现我国龙眼主要分布于广西、广东、福建和台湾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2771640" y="2060640"/>
            <a:ext cx="612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华文行楷"/>
                <a:ea typeface="华文行楷"/>
              </a:rPr>
              <a:t>菠萝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广泛分布于南北回归线之间，使世界重要的水果之一，原产于中、南美洲，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17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世纪转入我国，我国是菠萝十大主产国之一，主要分布广西、福建、云南等省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ndex_06"/>
          <p:cNvPicPr/>
          <p:nvPr/>
        </p:nvPicPr>
        <p:blipFill>
          <a:blip r:embed="rId1"/>
          <a:stretch/>
        </p:blipFill>
        <p:spPr>
          <a:xfrm>
            <a:off x="0" y="4210200"/>
            <a:ext cx="9144000" cy="264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u=3807293200,1529119577&amp;fm=0&amp;gp=22"/>
          <p:cNvPicPr/>
          <p:nvPr/>
        </p:nvPicPr>
        <p:blipFill>
          <a:blip r:embed="rId2"/>
          <a:stretch/>
        </p:blipFill>
        <p:spPr>
          <a:xfrm>
            <a:off x="428760" y="228600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u=3087310001,2267649805&amp;fm=0&amp;gp=12"/>
          <p:cNvPicPr/>
          <p:nvPr/>
        </p:nvPicPr>
        <p:blipFill>
          <a:blip r:embed="rId3"/>
          <a:stretch/>
        </p:blipFill>
        <p:spPr>
          <a:xfrm>
            <a:off x="324000" y="18900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2340000" y="18900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Arial"/>
                <a:ea typeface="华文新魏"/>
              </a:rPr>
              <a:t>红橘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原产于我国，主产贵州、四川。果皮薄，色泽鲜红，有光泽，肉质细嫩、酸甜可口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857680" y="314316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ff"/>
                </a:solidFill>
                <a:latin typeface="Arial"/>
                <a:ea typeface="华文新魏"/>
              </a:rPr>
              <a:t>哈密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主产新疆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R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1761480" y="1413000"/>
            <a:ext cx="39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</a:rPr>
              <a:t>金          钥匙出招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1280" y="263700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留心商店的字号，也能了解很多特产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258920" y="18097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6" descr="xs03gif251"/>
          <p:cNvPicPr/>
          <p:nvPr/>
        </p:nvPicPr>
        <p:blipFill>
          <a:blip r:embed="rId2"/>
          <a:stretch/>
        </p:blipFill>
        <p:spPr>
          <a:xfrm>
            <a:off x="1835280" y="1197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222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468360" y="260280"/>
            <a:ext cx="42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行楷"/>
              </a:rPr>
              <a:t>我  知   道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96440" y="1700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丝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080800" y="162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浙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96440" y="270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辣椒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96440" y="4581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枸杞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496440" y="36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茶叶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96440" y="54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香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2608200" y="2563920"/>
            <a:ext cx="348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四川    湖北   湖南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347200" y="3500280"/>
            <a:ext cx="227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宁夏    甘肃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835280" y="450864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福建     浙江     安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835280" y="5372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福建     安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9" descr="5[4]"/>
          <p:cNvPicPr/>
          <p:nvPr/>
        </p:nvPicPr>
        <p:blipFill>
          <a:blip r:embed="rId4"/>
          <a:stretch/>
        </p:blipFill>
        <p:spPr>
          <a:xfrm>
            <a:off x="6732720" y="260280"/>
            <a:ext cx="1655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20041211_211009_4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T1XJlXXh4dXXb1upjX"/>
          <p:cNvPicPr/>
          <p:nvPr/>
        </p:nvPicPr>
        <p:blipFill>
          <a:blip r:embed="rId2"/>
          <a:srcRect l="0" t="0" r="16395" b="0"/>
          <a:stretch/>
        </p:blipFill>
        <p:spPr>
          <a:xfrm>
            <a:off x="4071960" y="1500120"/>
            <a:ext cx="1790640" cy="188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17TRaXf0zctD1upjX"/>
          <p:cNvPicPr/>
          <p:nvPr/>
        </p:nvPicPr>
        <p:blipFill>
          <a:blip r:embed="rId3"/>
          <a:stretch/>
        </p:blipFill>
        <p:spPr>
          <a:xfrm>
            <a:off x="1187280" y="364500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4140360" y="3716280"/>
            <a:ext cx="43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玉雕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用玉石雕刻成的工艺品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1214280" y="1571760"/>
            <a:ext cx="2214720" cy="1720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6072120" y="185724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Verdana"/>
              </a:rPr>
              <a:t>和田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0041211_211009_4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826920" y="515772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39640" y="41547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丝绸，是由蚕的蚕茧抽丝后编制取得的天然蛋白质纤维，再经过精心编制而成的纺织品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rcRect l="0" t="0" r="0" b="54924"/>
          <a:stretch/>
        </p:blipFill>
        <p:spPr>
          <a:xfrm>
            <a:off x="928800" y="771480"/>
            <a:ext cx="71434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41211_211009_4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50920" y="333360"/>
            <a:ext cx="79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找一找不是同一类的特产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141300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ff"/>
                </a:solidFill>
                <a:latin typeface="Arial"/>
              </a:rPr>
              <a:t>刺绣  铁画  景泰蓝  玉雕   丝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24000" y="299736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ff"/>
                </a:solidFill>
                <a:latin typeface="Arial"/>
              </a:rPr>
              <a:t>湖笔  徽墨  雨花石  端笔  宣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79280" y="45813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</a:rPr>
              <a:t>北京烤鸭  德州 扒鸡 云南白药 平遥牛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Verdana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20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学习搜集的资料，使同学们了解全国各地丰富的特产，加深对我们祖国的了解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激发同学们的爱国主义情感，了解更多我们祖国的情况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语训练：做一名小导游，向大家介绍自己家乡的一种特产。</a:t>
            </a:r>
            <a:br>
              <a:rPr sz="2600"/>
            </a:br>
            <a:br>
              <a:rPr sz="26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2220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1321509218"/>
          <p:cNvPicPr/>
          <p:nvPr/>
        </p:nvPicPr>
        <p:blipFill>
          <a:blip r:embed="rId2"/>
          <a:stretch/>
        </p:blipFill>
        <p:spPr>
          <a:xfrm>
            <a:off x="971640" y="1628640"/>
            <a:ext cx="3166920" cy="351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006109163659"/>
          <p:cNvPicPr/>
          <p:nvPr/>
        </p:nvPicPr>
        <p:blipFill>
          <a:blip r:embed="rId3"/>
          <a:stretch/>
        </p:blipFill>
        <p:spPr>
          <a:xfrm>
            <a:off x="4500720" y="1628640"/>
            <a:ext cx="3311280" cy="34434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1000080" y="50004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知道哪里盛产这些东西吗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2220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2007111221595690530"/>
          <p:cNvPicPr/>
          <p:nvPr/>
        </p:nvPicPr>
        <p:blipFill>
          <a:blip r:embed="rId2"/>
          <a:stretch/>
        </p:blipFill>
        <p:spPr>
          <a:xfrm>
            <a:off x="642960" y="3786120"/>
            <a:ext cx="28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1309136718"/>
          <p:cNvPicPr/>
          <p:nvPr/>
        </p:nvPicPr>
        <p:blipFill>
          <a:blip r:embed="rId3"/>
          <a:stretch/>
        </p:blipFill>
        <p:spPr>
          <a:xfrm>
            <a:off x="5214960" y="0"/>
            <a:ext cx="3344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958593125"/>
          <p:cNvPicPr/>
          <p:nvPr/>
        </p:nvPicPr>
        <p:blipFill>
          <a:blip r:embed="rId4"/>
          <a:stretch/>
        </p:blipFill>
        <p:spPr>
          <a:xfrm>
            <a:off x="5214960" y="3660840"/>
            <a:ext cx="3340080" cy="319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2007213152154951"/>
          <p:cNvPicPr/>
          <p:nvPr/>
        </p:nvPicPr>
        <p:blipFill>
          <a:blip r:embed="rId5"/>
          <a:stretch/>
        </p:blipFill>
        <p:spPr>
          <a:xfrm>
            <a:off x="714240" y="0"/>
            <a:ext cx="2808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index_ban_bg"/>
          <p:cNvPicPr/>
          <p:nvPr/>
        </p:nvPicPr>
        <p:blipFill>
          <a:blip r:embed="rId2"/>
          <a:stretch/>
        </p:blipFill>
        <p:spPr>
          <a:xfrm>
            <a:off x="0" y="3068640"/>
            <a:ext cx="3276720" cy="359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WW_030"/>
          <p:cNvPicPr/>
          <p:nvPr/>
        </p:nvPicPr>
        <p:blipFill>
          <a:blip r:embed="rId3"/>
          <a:stretch/>
        </p:blipFill>
        <p:spPr>
          <a:xfrm>
            <a:off x="6877080" y="260280"/>
            <a:ext cx="2074680" cy="1052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571840" y="1071720"/>
            <a:ext cx="5715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家乡的特产设计一份广告。（抓住特点，条理清楚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547640" y="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江    南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14760" y="1357200"/>
            <a:ext cx="3887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江南可采莲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莲叶何田田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鱼戏莲叶东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鱼戏莲叶西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鱼戏莲叶南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鱼戏莲叶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714920" y="7858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汉乐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5000760" y="2286000"/>
            <a:ext cx="36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江上往来人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但爱鲈鱼美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君看一叶舟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出没风波里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550840" y="785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99"/>
                </a:solidFill>
                <a:latin typeface="Arial"/>
                <a:ea typeface="隶书"/>
              </a:rPr>
              <a:t>江上渔者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736560" y="18900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</a:rPr>
              <a:t>江    南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255400" y="90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"/>
              </a:rPr>
              <a:t>汉乐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95280" y="1484280"/>
            <a:ext cx="30337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江南可采莲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莲叶何田田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鱼戏莲叶东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鱼戏莲叶西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鱼戏莲叶南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鱼戏莲叶北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32480" y="214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</a:rPr>
              <a:t>江上渔者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906440" y="112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"/>
              </a:rPr>
              <a:t>（宋）范仲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780000" y="1989000"/>
            <a:ext cx="35067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江上往来人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但爱鲈鱼美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君看一叶舟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出没风波里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845760" y="571680"/>
            <a:ext cx="164268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品读诗句  了解特产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10" descr="QT_047"/>
          <p:cNvPicPr/>
          <p:nvPr/>
        </p:nvPicPr>
        <p:blipFill>
          <a:blip r:embed="rId1"/>
          <a:stretch/>
        </p:blipFill>
        <p:spPr>
          <a:xfrm>
            <a:off x="2340000" y="1484280"/>
            <a:ext cx="90360" cy="8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QT_047"/>
          <p:cNvPicPr/>
          <p:nvPr/>
        </p:nvPicPr>
        <p:blipFill>
          <a:blip r:embed="rId2"/>
          <a:stretch/>
        </p:blipFill>
        <p:spPr>
          <a:xfrm>
            <a:off x="2771640" y="1484280"/>
            <a:ext cx="90720" cy="8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QT_047"/>
          <p:cNvPicPr/>
          <p:nvPr/>
        </p:nvPicPr>
        <p:blipFill>
          <a:blip r:embed="rId3"/>
          <a:stretch/>
        </p:blipFill>
        <p:spPr>
          <a:xfrm>
            <a:off x="3197160" y="1484280"/>
            <a:ext cx="77760" cy="7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QT_047"/>
          <p:cNvPicPr/>
          <p:nvPr/>
        </p:nvPicPr>
        <p:blipFill>
          <a:blip r:embed="rId4"/>
          <a:stretch/>
        </p:blipFill>
        <p:spPr>
          <a:xfrm>
            <a:off x="2556000" y="2997360"/>
            <a:ext cx="90360" cy="8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QT_047"/>
          <p:cNvPicPr/>
          <p:nvPr/>
        </p:nvPicPr>
        <p:blipFill>
          <a:blip r:embed="rId5"/>
          <a:stretch/>
        </p:blipFill>
        <p:spPr>
          <a:xfrm>
            <a:off x="2050920" y="2997360"/>
            <a:ext cx="9072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QT_047"/>
          <p:cNvPicPr/>
          <p:nvPr/>
        </p:nvPicPr>
        <p:blipFill>
          <a:blip r:embed="rId6"/>
          <a:stretch/>
        </p:blipFill>
        <p:spPr>
          <a:xfrm flipH="1" rot="10800000">
            <a:off x="4067280" y="3645000"/>
            <a:ext cx="75960" cy="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QT_047"/>
          <p:cNvPicPr/>
          <p:nvPr/>
        </p:nvPicPr>
        <p:blipFill>
          <a:blip r:embed="rId7"/>
          <a:stretch/>
        </p:blipFill>
        <p:spPr>
          <a:xfrm>
            <a:off x="4067280" y="4508640"/>
            <a:ext cx="9036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hina"/>
          <p:cNvPicPr/>
          <p:nvPr/>
        </p:nvPicPr>
        <p:blipFill>
          <a:blip r:embed="rId1"/>
          <a:stretch/>
        </p:blipFill>
        <p:spPr>
          <a:xfrm>
            <a:off x="2124000" y="765000"/>
            <a:ext cx="4824360" cy="540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036781_52521"/>
          <p:cNvPicPr/>
          <p:nvPr/>
        </p:nvPicPr>
        <p:blipFill>
          <a:blip r:embed="rId2"/>
          <a:stretch/>
        </p:blipFill>
        <p:spPr>
          <a:xfrm>
            <a:off x="179280" y="3645000"/>
            <a:ext cx="2268720" cy="285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200657193718847"/>
          <p:cNvPicPr/>
          <p:nvPr/>
        </p:nvPicPr>
        <p:blipFill>
          <a:blip r:embed="rId3"/>
          <a:stretch/>
        </p:blipFill>
        <p:spPr>
          <a:xfrm>
            <a:off x="0" y="0"/>
            <a:ext cx="226836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00682115533737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6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现在如果你是一名小导游，你怎样向客人介绍自己家乡的一种特产呢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分小组讨论，互相说说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hina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0" y="18900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显身手  介绍特产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ndex_06"/>
          <p:cNvPicPr/>
          <p:nvPr/>
        </p:nvPicPr>
        <p:blipFill>
          <a:blip r:embed="rId1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u=1130985479,2648804750&amp;fm=0&amp;gp=26"/>
          <p:cNvPicPr/>
          <p:nvPr/>
        </p:nvPicPr>
        <p:blipFill>
          <a:blip r:embed="rId2"/>
          <a:srcRect l="0" t="0" r="0" b="5454"/>
          <a:stretch/>
        </p:blipFill>
        <p:spPr>
          <a:xfrm>
            <a:off x="0" y="1571760"/>
            <a:ext cx="18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u=3087310001,2267649805&amp;fm=0&amp;gp=12"/>
          <p:cNvPicPr/>
          <p:nvPr/>
        </p:nvPicPr>
        <p:blipFill>
          <a:blip r:embed="rId3"/>
          <a:stretch/>
        </p:blipFill>
        <p:spPr>
          <a:xfrm>
            <a:off x="2857680" y="3214800"/>
            <a:ext cx="1873080" cy="179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u=3807293200,1529119577&amp;fm=0&amp;gp=22"/>
          <p:cNvPicPr/>
          <p:nvPr/>
        </p:nvPicPr>
        <p:blipFill>
          <a:blip r:embed="rId4"/>
          <a:stretch/>
        </p:blipFill>
        <p:spPr>
          <a:xfrm>
            <a:off x="5715000" y="3214800"/>
            <a:ext cx="2232000" cy="177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2214720" y="1571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4429080" y="1428840"/>
            <a:ext cx="144468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6643800" y="1500120"/>
            <a:ext cx="1838160" cy="1500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3143160" y="28584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</a:rPr>
              <a:t>各种特产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22:02:23Z</dcterms:created>
  <dc:creator/>
  <dc:description/>
  <dc:language>en-US</dc:language>
  <cp:lastModifiedBy>AutoBVT</cp:lastModifiedBy>
  <dcterms:modified xsi:type="dcterms:W3CDTF">2014-03-18T08:34:28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9000000000001024120</vt:lpwstr>
  </property>
  <property fmtid="{D5CDD505-2E9C-101B-9397-08002B2CF9AE}" pid="3" name="Version">
    <vt:r8>4</vt:r8>
  </property>
</Properties>
</file>