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0BEA-6760-41E2-B862-5201130D64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2A07-F379-4EBC-A192-295276A1A3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51C-A9E0-4CA7-8B37-3B5C258A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D950-8667-4E9E-A9C5-03A4468C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5FE-0858-4C84-B01C-79854F58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31DE-31B7-4B73-ADE7-2CDD7702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4CE-0DF0-4844-B888-737B0234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796-8AE8-4970-B923-8EACF091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565-FDA0-4354-B122-F2F04067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8C5-3C6E-433B-8422-5E9F7F1F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5F5-F9ED-4CB6-8CFD-CAD3044C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0E6-6B4F-4018-9915-6F13C1E0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A2B-EC85-4F95-853C-1D63BC76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050-4491-4F6C-9F82-47B41F67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99CE-547E-4F47-B927-6F61C3CBD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w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2050920" y="765000"/>
            <a:ext cx="626616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最美的花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G:\平台资源工作指导\背景图\29.jpg"/>
          <p:cNvPicPr/>
          <p:nvPr/>
        </p:nvPicPr>
        <p:blipFill>
          <a:blip r:embed="rId1"/>
          <a:stretch/>
        </p:blipFill>
        <p:spPr>
          <a:xfrm>
            <a:off x="0" y="0"/>
            <a:ext cx="94694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划一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71480" y="1571760"/>
            <a:ext cx="5429160" cy="25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或者  睁开  漆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管  花冠  冠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_p_000007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249280" y="2011320"/>
            <a:ext cx="5194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课文中“你”、“我”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他”指谁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G:\平台资源工作指导\背景图\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仔细体会刚才学生的朗读，说说你最喜欢哪一段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G:\平台资源工作指导\背景图\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了这篇课文，你知道了哪些新知识？和小伙伴们分享一下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G:\平台资源工作指导\背景图\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做一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“一样的天空，不一样的童年”为主题出一期手抄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G:\平台资源工作指导\背景图\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英文原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body has two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ght as stars they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ir color may no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the same a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 or blue, gray or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fference does it m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ong as you can see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ning when you w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G:\平台资源工作指导\背景图\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858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olks’ hair is very 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blonde or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ever color it may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pretty crown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s have so many sh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’m sure 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lovely gard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uch flowers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G:\平台资源工作指导\背景图\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in this great bi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flowers in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re light, some are d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a real bouqu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ever stop to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wful it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rybody looked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ould know you from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_f_000018_01"/>
          <p:cNvPicPr/>
          <p:nvPr/>
        </p:nvPicPr>
        <p:blipFill>
          <a:blip r:embed="rId1"/>
          <a:stretch/>
        </p:blipFill>
        <p:spPr>
          <a:xfrm>
            <a:off x="21420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2357280" y="214308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者：艾迪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西格尔（美国女教师、作家）她总共出版了十多部诗集，其中三部是写给少儿的。    直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逝世，她一直活跃所致力的艺术和政治活动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:\平台资源工作指导\背景图\29.jpg"/>
          <p:cNvPicPr/>
          <p:nvPr/>
        </p:nvPicPr>
        <p:blipFill>
          <a:blip r:embed="rId1"/>
          <a:stretch/>
        </p:blipFill>
        <p:spPr>
          <a:xfrm>
            <a:off x="0" y="0"/>
            <a:ext cx="94694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请学生朗读课文，老师最后范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739600" y="214200"/>
            <a:ext cx="4204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人人都有一双眼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星星一样亮晶晶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你那眼睛的颜色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不必和我一个样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aoSc22_948_2005251041457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398320" y="476280"/>
            <a:ext cx="4204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黄或蓝，灰或黑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到底有什么两样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只要它们一睁开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都能看到太阳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图片10"/>
          <p:cNvPicPr/>
          <p:nvPr/>
        </p:nvPicPr>
        <p:blipFill>
          <a:blip r:embed="rId1"/>
          <a:srcRect l="0" t="529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789920" y="1916280"/>
            <a:ext cx="388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的头发漆黑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他的头发金黄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不管它颜色怎么样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都是花冠多漂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_f_000014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2475360" y="2013120"/>
            <a:ext cx="4707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我也知道你懂得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花的颜色有深有浅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各色各样的花儿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开满可爱的花园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m_f_000021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857160" y="2500200"/>
            <a:ext cx="79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这广大的世界上，孩子们像鲜花一样漂亮，有的颜色深、有的颜色淡，像最美的花束一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G:\平台资源工作指导\背景图\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写一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000240" y="1785960"/>
            <a:ext cx="428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14:31:30Z</dcterms:created>
  <dc:creator/>
  <dc:description/>
  <dc:language>en-US</dc:language>
  <cp:lastModifiedBy>AutoBVT</cp:lastModifiedBy>
  <dcterms:modified xsi:type="dcterms:W3CDTF">2014-03-17T13:03:18Z</dcterms:modified>
  <cp:revision>7</cp:revision>
  <dc:subject/>
  <dc:title>幻灯片 1</dc:title>
</cp:coreProperties>
</file>