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gif" ContentType="image/gif"/>
  <Override PartName="/ppt/media/image10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type.wav" ContentType="audio/x-wav"/>
  <Override PartName="/ppt/media/click.wav" ContentType="audio/x-wav"/>
  <Override PartName="/ppt/media/image13.jpeg" ContentType="image/jpeg"/>
  <Override PartName="/ppt/media/coin.wav" ContentType="audio/x-wav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7.gif" ContentType="image/gif"/>
  <Override PartName="/ppt/media/image29.jpeg" ContentType="image/jpeg"/>
  <Override PartName="/ppt/media/image28.png" ContentType="image/png"/>
  <Override PartName="/ppt/media/image25.jpeg" ContentType="image/jpeg"/>
  <Override PartName="/ppt/media/image4.jpeg" ContentType="image/jpeg"/>
  <Override PartName="/ppt/media/image27.jpeg" ContentType="image/jpeg"/>
  <Override PartName="/ppt/media/image6.png" ContentType="image/png"/>
  <Override PartName="/ppt/media/camera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projctor.wav" ContentType="audio/x-wav"/>
  <Override PartName="/ppt/media/image2.jpeg" ContentType="image/jpeg"/>
  <Override PartName="/ppt/media/image1.jpeg" ContentType="image/jpeg"/>
  <Override PartName="/ppt/media/image9.png" ContentType="image/png"/>
  <Override PartName="/ppt/media/image11.jpeg" ContentType="image/jpeg"/>
  <Override PartName="/ppt/media/image1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244-F276-42D1-B743-23638325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5D8-93A7-4409-A9C4-A4A07451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0C6-23C8-43D2-8C4F-EDA3F63C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EDF-A5AD-45E5-B9AD-E95E7861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5EE-78EF-42DB-9D6F-6FA7D5F3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5EE-04B3-4F47-AB95-C703FC3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45E-6435-4296-94D1-DC70F983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08A-DE90-458A-8694-2A1B821D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427-9CAD-4FD6-9D64-B960C944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D5F-D5B0-4295-95EF-9704133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20D-C800-4A91-9361-9A52217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EDF-E3DE-475D-A3FB-14880E7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E1C-BC00-4C6D-9E63-94595601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28712545_2b9c70c6e3d472231c6c4a59c0b47a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什么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候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9120" y="25369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62e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2e7a"/>
                </a:solidFill>
                <a:latin typeface="Arial"/>
                <a:ea typeface="楷体_GB2312"/>
              </a:rPr>
              <a:t>草木荣枯，候鸟去来等自然现象，古代劳动人民称它为“物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62e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2e7a"/>
                </a:solidFill>
                <a:latin typeface="Arial"/>
                <a:ea typeface="楷体_GB2312"/>
              </a:rPr>
              <a:t>利用物候来研究农业生产的科学，就是“物候学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7020000" y="4508640"/>
            <a:ext cx="154296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21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候观测对农业有什么重要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62e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2e7a"/>
                </a:solidFill>
                <a:latin typeface="Arial"/>
                <a:ea typeface="楷体_GB2312"/>
              </a:rPr>
              <a:t>物候反映气候条件对生物的影响，比较简便，容易掌握，可以广泛应用在农业生产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7093080" y="4292640"/>
            <a:ext cx="154296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决定物候现象来临的因素有哪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5640" y="3284640"/>
            <a:ext cx="72010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62e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2e7a"/>
                </a:solidFill>
                <a:latin typeface="Arial"/>
                <a:ea typeface="楷体_GB2312"/>
              </a:rPr>
              <a:t>纬度、经度、高下和古今的差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54296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研究物候学有什么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例   如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f62e7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预报农时，安排播种日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f62e7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安排农作物区划，确定造林和采集种子的日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f62e7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引种植物到气候条件相同的地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f62e7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避免或减轻害虫的侵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f62e7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便利山区农业的发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f62e7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2e7a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6804000" y="4221000"/>
            <a:ext cx="1542960" cy="20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常采用的说明顺序有三种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间顺序、空间顺序、逻辑顺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顺序即按照时间先后来安排说明顺序；空间顺序即按照空间物位关系来安排说明顺序，如由远到近，由外到内等；逻辑顺序也就是事理顺序，即按照事物的逻辑关系来安排说明顺序，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一般到特殊，由主要到次要，由现象到本质、由简单到复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86800" y="59040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把握要点，理清顺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7770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考考你：用地理课所学知识说明：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什么叫纬度？什么叫经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5157720"/>
            <a:ext cx="26622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纬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地球11"/>
          <p:cNvPicPr/>
          <p:nvPr/>
        </p:nvPicPr>
        <p:blipFill>
          <a:blip r:embed="rId1"/>
          <a:stretch/>
        </p:blipFill>
        <p:spPr>
          <a:xfrm>
            <a:off x="5349960" y="2676600"/>
            <a:ext cx="2727360" cy="2811240"/>
          </a:xfrm>
          <a:prstGeom prst="rect">
            <a:avLst/>
          </a:prstGeom>
          <a:ln w="0">
            <a:noFill/>
          </a:ln>
        </p:spPr>
      </p:pic>
      <p:sp>
        <p:nvSpPr>
          <p:cNvPr id="102" name="Line 8"/>
          <p:cNvSpPr/>
          <p:nvPr/>
        </p:nvSpPr>
        <p:spPr>
          <a:xfrm>
            <a:off x="990720" y="4657680"/>
            <a:ext cx="2133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819680" y="2852640"/>
            <a:ext cx="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124080" y="5157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经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2"/>
          <a:stretch/>
        </p:blipFill>
        <p:spPr>
          <a:xfrm>
            <a:off x="914400" y="3343320"/>
            <a:ext cx="219060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3"/>
          <a:stretch/>
        </p:blipFill>
        <p:spPr>
          <a:xfrm>
            <a:off x="3505320" y="2781360"/>
            <a:ext cx="10857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projctor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纬度北"/>
          <p:cNvPicPr/>
          <p:nvPr/>
        </p:nvPicPr>
        <p:blipFill>
          <a:blip r:embed="rId1"/>
          <a:stretch/>
        </p:blipFill>
        <p:spPr>
          <a:xfrm>
            <a:off x="457200" y="114300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201680" y="57913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月的内蒙古草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纬度南"/>
          <p:cNvPicPr/>
          <p:nvPr/>
        </p:nvPicPr>
        <p:blipFill>
          <a:blip r:embed="rId2"/>
          <a:stretch/>
        </p:blipFill>
        <p:spPr>
          <a:xfrm>
            <a:off x="4800600" y="1066680"/>
            <a:ext cx="396252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076440" y="57913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月的海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30480" y="380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纬度对物候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0" y="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度对物候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经度内"/>
          <p:cNvPicPr/>
          <p:nvPr/>
        </p:nvPicPr>
        <p:blipFill>
          <a:blip r:embed="rId1"/>
          <a:stretch/>
        </p:blipFill>
        <p:spPr>
          <a:xfrm>
            <a:off x="228600" y="914400"/>
            <a:ext cx="411480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经度外"/>
          <p:cNvPicPr/>
          <p:nvPr/>
        </p:nvPicPr>
        <p:blipFill>
          <a:blip r:embed="rId2"/>
          <a:stretch/>
        </p:blipFill>
        <p:spPr>
          <a:xfrm>
            <a:off x="4648320" y="9144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09480" y="594360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月的内蒙古草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181480" y="5943600"/>
            <a:ext cx="27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月的大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>
            <a:hlinkClick r:id="" action="ppaction://hlinkshowjump?jump=nextslide"/>
          </p:cNvPr>
          <p:cNvSpPr/>
          <p:nvPr/>
        </p:nvSpPr>
        <p:spPr>
          <a:xfrm>
            <a:off x="8763120" y="6324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17806" y="15124"/>
                </a:lnTo>
                <a:lnTo>
                  <a:pt x="3794" y="2213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00200" y="0"/>
            <a:ext cx="57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下的差异对物候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高下"/>
          <p:cNvPicPr/>
          <p:nvPr/>
        </p:nvPicPr>
        <p:blipFill>
          <a:blip r:embed="rId1"/>
          <a:stretch/>
        </p:blipFill>
        <p:spPr>
          <a:xfrm>
            <a:off x="380880" y="685800"/>
            <a:ext cx="4114800" cy="5181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高下1"/>
          <p:cNvPicPr/>
          <p:nvPr/>
        </p:nvPicPr>
        <p:blipFill>
          <a:blip r:embed="rId2"/>
          <a:stretch/>
        </p:blipFill>
        <p:spPr>
          <a:xfrm>
            <a:off x="4876920" y="762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209680" y="5791320"/>
            <a:ext cx="52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山山顶和山腰的差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长城古"/>
          <p:cNvPicPr/>
          <p:nvPr/>
        </p:nvPicPr>
        <p:blipFill>
          <a:blip r:embed="rId1"/>
          <a:stretch/>
        </p:blipFill>
        <p:spPr>
          <a:xfrm>
            <a:off x="4724280" y="83808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长城今"/>
          <p:cNvPicPr/>
          <p:nvPr/>
        </p:nvPicPr>
        <p:blipFill>
          <a:blip r:embed="rId2"/>
          <a:stretch/>
        </p:blipFill>
        <p:spPr>
          <a:xfrm>
            <a:off x="304920" y="838080"/>
            <a:ext cx="419076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62120" y="5851440"/>
            <a:ext cx="44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古代三月的长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716360" y="5877000"/>
            <a:ext cx="41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代三月的长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436920" y="189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古今差异对物候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684360" y="692280"/>
            <a:ext cx="45338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接天莲叶无穷碧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映日荷花别样红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666880" y="533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纬度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2746440" y="2057400"/>
            <a:ext cx="106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经度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743200" y="3657600"/>
            <a:ext cx="1066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下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743200" y="5413320"/>
            <a:ext cx="106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古今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133720" y="990720"/>
            <a:ext cx="304560" cy="5029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 rot="5400000">
            <a:off x="-190800" y="293364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个决定因素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4648320" y="4572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按照影响程度大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6022800" y="1832040"/>
            <a:ext cx="98748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6095880" y="5410080"/>
            <a:ext cx="1067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6324480" y="34290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4114800" y="990720"/>
            <a:ext cx="304920" cy="3429000"/>
          </a:xfrm>
          <a:custGeom>
            <a:avLst/>
            <a:gdLst>
              <a:gd name="textAreaLeft" fmla="*/ 0 w 304920"/>
              <a:gd name="textAreaRight" fmla="*/ 110160 w 30492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3"/>
          <p:cNvSpPr txBox="1"/>
          <p:nvPr/>
        </p:nvSpPr>
        <p:spPr>
          <a:xfrm>
            <a:off x="4573440" y="2133720"/>
            <a:ext cx="1141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空间因素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4648320" y="5410080"/>
            <a:ext cx="122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df33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时间因素</a:t>
            </a:r>
            <a:endParaRPr b="0" lang="en-US" sz="1800" spc="1" strike="noStrike">
              <a:ln w="19080">
                <a:solidFill>
                  <a:srgbClr val="0df33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WordArt 15"/>
          <p:cNvSpPr txBox="1"/>
          <p:nvPr/>
        </p:nvSpPr>
        <p:spPr>
          <a:xfrm rot="5400000">
            <a:off x="5941800" y="3655800"/>
            <a:ext cx="411804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逻辑顺序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能调换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752480" y="1676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描述物候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288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阐述研究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5248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作出科学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76520" y="4267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影响物候的四个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895480" y="2438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895480" y="365760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2895480" y="4952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9"/>
          <p:cNvSpPr txBox="1"/>
          <p:nvPr/>
        </p:nvSpPr>
        <p:spPr>
          <a:xfrm rot="5400000">
            <a:off x="5790600" y="15998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现象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WordArt 10"/>
          <p:cNvSpPr txBox="1"/>
          <p:nvPr/>
        </p:nvSpPr>
        <p:spPr>
          <a:xfrm rot="5400000">
            <a:off x="5828760" y="5524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本质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Line 11"/>
          <p:cNvSpPr/>
          <p:nvPr/>
        </p:nvSpPr>
        <p:spPr>
          <a:xfrm flipH="1">
            <a:off x="6324120" y="2590920"/>
            <a:ext cx="1800" cy="2741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 rot="5400000">
            <a:off x="6094440" y="3583080"/>
            <a:ext cx="312408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逻辑顺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WordArt 13"/>
          <p:cNvSpPr txBox="1"/>
          <p:nvPr/>
        </p:nvSpPr>
        <p:spPr>
          <a:xfrm>
            <a:off x="1066680" y="457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自然的语言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natur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638680" y="5410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次第开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xbwq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春暖花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457200" y="380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草长莺飞   百花盛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小蜜蜂"/>
          <p:cNvPicPr/>
          <p:nvPr/>
        </p:nvPicPr>
        <p:blipFill>
          <a:blip r:embed="rId3"/>
          <a:stretch/>
        </p:blipFill>
        <p:spPr>
          <a:xfrm>
            <a:off x="7086600" y="1447920"/>
            <a:ext cx="576360" cy="63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小蜜蜂"/>
          <p:cNvPicPr/>
          <p:nvPr/>
        </p:nvPicPr>
        <p:blipFill>
          <a:blip r:embed="rId4"/>
          <a:stretch/>
        </p:blipFill>
        <p:spPr>
          <a:xfrm>
            <a:off x="6248520" y="4495680"/>
            <a:ext cx="682560" cy="78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小蜜蜂"/>
          <p:cNvPicPr/>
          <p:nvPr/>
        </p:nvPicPr>
        <p:blipFill>
          <a:blip r:embed="rId5"/>
          <a:stretch/>
        </p:blipFill>
        <p:spPr>
          <a:xfrm>
            <a:off x="4191120" y="3200400"/>
            <a:ext cx="507960" cy="555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花蝴蝶"/>
          <p:cNvPicPr/>
          <p:nvPr/>
        </p:nvPicPr>
        <p:blipFill>
          <a:blip r:embed="rId6"/>
          <a:stretch/>
        </p:blipFill>
        <p:spPr>
          <a:xfrm>
            <a:off x="762120" y="3429000"/>
            <a:ext cx="1439640" cy="1235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振翅的蝴蝶"/>
          <p:cNvPicPr/>
          <p:nvPr/>
        </p:nvPicPr>
        <p:blipFill>
          <a:blip r:embed="rId7"/>
          <a:stretch/>
        </p:blipFill>
        <p:spPr>
          <a:xfrm>
            <a:off x="6934320" y="3581280"/>
            <a:ext cx="10285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457200" y="380880"/>
            <a:ext cx="5410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燕子翩然归来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cene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200400" y="4876920"/>
            <a:ext cx="5715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秋叶簌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Br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430200" y="228600"/>
            <a:ext cx="1003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雁南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scen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3"/>
          <p:cNvSpPr txBox="1"/>
          <p:nvPr/>
        </p:nvSpPr>
        <p:spPr>
          <a:xfrm>
            <a:off x="6248520" y="1752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衰草连天</a:t>
            </a:r>
            <a:endParaRPr b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3"/>
          <p:cNvPicPr/>
          <p:nvPr/>
        </p:nvPicPr>
        <p:blipFill>
          <a:blip r:embed="rId1"/>
          <a:srcRect l="0" t="0" r="0" b="12267"/>
          <a:stretch/>
        </p:blipFill>
        <p:spPr>
          <a:xfrm>
            <a:off x="0" y="-50004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3"/>
          <p:cNvSpPr txBox="1"/>
          <p:nvPr/>
        </p:nvSpPr>
        <p:spPr>
          <a:xfrm>
            <a:off x="380880" y="1295280"/>
            <a:ext cx="30672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风雪载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split dir="out" orient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813028_234047078_2"/>
          <p:cNvPicPr/>
          <p:nvPr/>
        </p:nvPicPr>
        <p:blipFill>
          <a:blip r:embed="rId1"/>
          <a:srcRect l="0" t="46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2268360" y="189000"/>
            <a:ext cx="4034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最爱哪一句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0050911220613"/>
          <p:cNvPicPr/>
          <p:nvPr/>
        </p:nvPicPr>
        <p:blipFill>
          <a:blip r:embed="rId1"/>
          <a:srcRect l="0" t="416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tretch/>
        </p:blipFill>
        <p:spPr>
          <a:xfrm>
            <a:off x="7093080" y="4221000"/>
            <a:ext cx="1001520" cy="2133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826920" y="21337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准确严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措词严谨，用词语从数量、范围等方面进行限制，如“许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84360" y="393372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生动形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词语优美，描绘的画面生动形象，多用拟人等修辞手法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给本文的语言特点做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五、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收集身边的农谚、有关物候的诗文或记录研究身边的物候现象，并积累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659640" y="4076640"/>
            <a:ext cx="1001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G:\平台资源工作指导\背景图\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3360"/>
            <a:ext cx="979164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大自然的语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竺可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夯实基础，积累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发（           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翩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然（        ）        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育（           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簌（         ）                销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迹（            ）                      风雪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途（            ）                   区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度（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590920" y="1981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é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934320" y="1981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pi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743200" y="26668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yù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162920" y="2743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s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267080" y="33526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n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3434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zà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895480" y="48006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y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0866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wě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、注意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多音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600200" y="1676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057400" y="16765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ză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 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年半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记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2895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à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载歌载舞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装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676520" y="4038480"/>
            <a:ext cx="304560" cy="2210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0" y="4191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(qiáo)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翘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0574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Arial"/>
              </a:rPr>
              <a:t>（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qiào)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翘尾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154332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理解词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翩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孕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销声匿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载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萌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而复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905120" y="990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2e7a"/>
                </a:solidFill>
                <a:latin typeface="Arial"/>
              </a:rPr>
              <a:t>动作轻快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523880" y="1676520"/>
            <a:ext cx="7315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怀胎生育，用来比喻酝酿着新事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362320" y="2438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原意是不公开讲话，不公开露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676520" y="3581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满路，有遍地的意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600200" y="4267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个接一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600200" y="4952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种子发芽。比喻事物发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14600" y="5791320"/>
            <a:ext cx="5029200" cy="13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次又一次地循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066680" y="289548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里指昆虫都无声无息、无影无踪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54296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327200" y="1773360"/>
            <a:ext cx="727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、什么是物候？什么是物候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、物候观测对农业有什么重要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、决定物候观测的因素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f62e7a"/>
                </a:solidFill>
                <a:latin typeface="Times New Roman"/>
                <a:ea typeface="华文中宋"/>
              </a:rPr>
              <a:t>、研究物候学有什么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7601040" y="4653000"/>
            <a:ext cx="1542960" cy="2038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1258920" y="260280"/>
            <a:ext cx="81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，概括要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8:12Z</dcterms:created>
  <dc:creator/>
  <dc:description/>
  <dc:language>en-US</dc:language>
  <cp:lastModifiedBy>yanlu</cp:lastModifiedBy>
  <dcterms:modified xsi:type="dcterms:W3CDTF">2014-03-28T08:27:50Z</dcterms:modified>
  <cp:revision>40</cp:revision>
  <dc:subject/>
  <dc:title>幻灯片 1</dc:title>
</cp:coreProperties>
</file>