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push.wav" ContentType="audio/x-wav"/>
  <Override PartName="/ppt/media/image9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6.png" ContentType="image/png"/>
  <Override PartName="/ppt/media/wind.wav" ContentType="audio/x-wav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laser.wav" ContentType="audio/x-wav"/>
  <Override PartName="/ppt/media/image13.jpeg" ContentType="image/jpeg"/>
  <Override PartName="/ppt/media/image12.png" ContentType="image/png"/>
  <Override PartName="/ppt/media/image11.jpeg" ContentType="image/jpeg"/>
  <Override PartName="/ppt/media/whoosh.wav" ContentType="audio/x-wav"/>
  <Override PartName="/ppt/media/image4.jpeg" ContentType="image/jpeg"/>
  <Override PartName="/ppt/media/suction.wav" ContentType="audio/x-wav"/>
  <Override PartName="/ppt/media/image2.png" ContentType="image/png"/>
  <Override PartName="/ppt/media/image1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B21-DE05-4EDD-8F05-6F2938FB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A89-CFEF-4179-93D1-8FBED471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8AE67-BDDC-4465-BDC2-6C5CF9C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929FF-EB3C-4472-AACB-A8245F2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C7E11-187C-4192-9A72-B4BB9BA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CF1F7-2CD4-4631-8FA3-162CCB89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87CF3-27CF-4609-B9A8-B4AE796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DD4BF-6086-4DEA-B394-F51B9E8C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87F44-7C95-4C64-B604-2CD068C4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E54C0-72CA-4512-AFBC-0DCFB3B4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D3A03-8641-4591-B715-04CC7C56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0D68B-7079-4FB2-B564-67D92561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EA8-C00A-4D31-9970-9D33C832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D8BD9-A07A-4DB1-8EB4-BC5CC3B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B897B-EB6B-4F70-B834-1D90CCDF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32E10-418E-432B-94C6-B4EE8C9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EC1F0-C94F-4450-BF01-A24915A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147AC-93AC-42E2-9C8A-5EC3304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FA940-1F5B-4E07-A143-58BFDCF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9DDDD-5188-4D23-975A-7024146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D3BCB-BD6A-4056-A9D1-6632E8E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BC1D7-9348-462A-BDAC-B4CCA28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0AA9F-A94D-4531-9978-0FFB2867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6F1-A580-4919-A736-19420AAE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DFDA6-154A-468C-83FA-1E21B6CA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C864-E6ED-4AEB-8241-47740859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B7F9-823C-4E4F-8D39-A85E0307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DE21C-1B15-42A6-8F91-08022584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B59E5-A0B8-45F1-A311-52D4383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4D21F-3D77-4A5F-A94F-E13EF2D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179DB-61B6-4964-A5F6-379087B3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6C1A8-B823-439F-91AB-54ED1726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EE217-4A04-436E-8827-977A0FFC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C90B1-D3F1-474F-8521-DC5F720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982A-37EE-444B-8474-554287BB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12929-D71B-4FDD-93AC-0CCCDB4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5D374-CFF1-4A70-BD5C-0C0489FB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2EF15-A584-483D-820B-B757F972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236AD-225A-45BA-8050-52D716A1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15A19-0331-4D07-ABF2-7C979818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5B113-6FFB-4DB7-B2A6-31BF1D99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7FD79-12DB-4E41-978A-F03CF45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C7921-2CF9-4EBD-AF2A-EEDF8A0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159E-B4AF-4DCB-B99B-605F0717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2EE5D-5262-452C-A971-1E21B17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4298-5722-4EA3-B5E3-A09A5EF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E137A-7E0E-423E-9874-8EF6EE5D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57015-51B3-4853-BD35-E3668CF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37F3B-7F28-42FE-84D2-113CABB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D3BC2-7997-446A-830F-4B49A85B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E2FA7-147C-4F52-ACAA-58B1973B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97F9D-E0C8-4ECB-9C17-B48B24EC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722AE-2326-4828-B08C-08F25600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B9B45-AC0C-469C-9E8E-DAA9022D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1FF98-57BB-42B9-A44A-ACAFA137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0C244-B3B7-4399-B680-5F689CFC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D92E-B3D9-41E3-9ECE-9D5E8C8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C5D15-C85C-49E7-94FE-6AA3C5F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3D220-AB47-4A3A-8E96-46C79BA5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6B0FB-22E2-454C-848E-ED609B4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2B8D4-1833-4176-B27D-9196FB0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55FC0-EAAD-4DFB-BA76-95302CF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BD496-37E0-4DA1-A01E-41F38F79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A7E23-3EA9-4C2B-9AD3-DA5F3039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6D8-F868-41F4-A916-F354D5A3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AB2-95FD-4CD2-B402-05E80A67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1222-2D8F-4A61-A3D5-D6BB2231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1755-62A7-4DF1-AAB9-786851C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1B2-5595-40E0-8A61-DA86A731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D6FC-D5D3-4E89-80DF-A9C6F16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9790-8BAA-405B-8764-9EF1314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7EFC-7899-44B5-B00B-683D97A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7445-9CFD-469D-A152-1D91773B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AD6-B570-4E6A-B9E8-1954E08D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A453-255C-42CA-BFD7-D0497A9B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5960-B523-41BF-8A12-0F36D65C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097B-BB3A-4CC4-BD4B-E855483B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DB0E-07B5-4150-8ECB-F041DD50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3934-DA1A-42DA-81B6-4513247B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8C6-6445-4697-98A5-B7076B13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52DE-89DB-499E-A12D-6B0EEDBC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9226-3D3A-4E7A-87BF-F72E2F4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1E40-CF86-469C-962C-EE9D884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57D9-174C-4038-B287-6864112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E980-1AD7-48A1-BEBE-ADEFC52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BDD7-093D-4010-BE0E-6F1ABF7D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F44B-B1F1-4252-B9B0-AE6CB11F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939A-FF69-4AC1-90D4-4A89490E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D6AD-8D7D-408F-915B-F90460A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2981-8777-43D7-BAA8-63FE7728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3F8-D598-4D51-9509-A5471FE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465B-133C-4B3F-B021-0B9B40A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EE40-317D-4FA5-A360-7545804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BC12-8EAB-4E67-8A84-EA988689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2884-3138-4FE6-BA23-A221F12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E546-873B-4B48-AFEF-9718ABB4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256B-8AD7-4F6E-95BF-4698D5E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490D-E296-4262-8D18-3D2CD93A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CC34-7F9D-4DCA-A85E-3E50A157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8BAE-5575-4324-9EEF-BCDBDA75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F69B-D30B-481A-B2B4-31295C26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7B4-77A9-4CF9-867D-0AEAC97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520B-DF6D-4BC4-A81A-9C96E641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9A30-AB0F-4649-B9D6-BF53F37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A426-EAB3-4362-B9A6-745056D4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B071-1570-4B54-8E1B-F5001A1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DDF93-75FC-4079-8657-C1FBA49A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3B87E-BB94-454E-BBF8-564B7E6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F7DE-105D-4A0B-BD2E-ED09924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0D28-F602-460F-9158-2E11A85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99C1-AD42-4946-A80D-9243CD59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147A-EDA5-4F88-8873-B799143F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B1D-2205-4D58-AAFE-C26EDA3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D4CAB-8192-4359-AFFC-2BCD9449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CEA08-F6A0-4BF5-8343-D45A3ABA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1965-E103-4053-9CDC-25253027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57C7-34FC-4681-93B0-B0F9B41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8103-34E4-493A-9B3C-6686E45B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45DF-810C-4BE0-A075-4281E6BA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CCB2D-DE0D-4C3A-9E54-B112FCA0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752A-BEAD-4703-9978-A6AD495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5208-2EE3-422C-AD5C-F16EAD9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FBE6A-38F3-436F-9844-7D93595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1EB-2469-4D40-BD0B-992CA56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E79A-336B-4B37-9D39-BA35A28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8DF0-707F-49A9-9B30-7ED74B6A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81350-B284-450E-8345-EB21CD77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EE8F-5519-44C0-9438-1B21095B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A285-6063-44B5-B825-9C7A81D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7525-3D2E-4D74-8C15-DF054A5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CBEC-7C7E-4A98-8DBC-FD237A24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80BB4-3A8A-4939-9421-924D3F46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F8D5-07B3-4506-8A26-E1F2635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E5729-684C-4A35-AD6F-E5E8735B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189-35B3-4C4C-928A-6C51F0D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B7B5-4EAF-45CC-B4F2-E1BD43C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C599-E77B-406E-8FC1-FE4FEB9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419BD-86F4-4B48-9853-1259824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98E5E-C69A-44AF-9205-7DD7FCE4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9D524-BAA3-41A3-8484-E3E9B9EF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5E5C6-378F-4C47-9C6B-BDEE7942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9EE97-BC7C-4023-A78C-B09A70D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1A18-6FF6-4D3B-9331-992D016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4B47-AE89-4373-8D9F-65F40FC2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B55C6-9923-4806-AA92-B38420A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DC1-B3AD-42A9-A3E1-DA6FD4B7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EBEA2-19F3-43A1-B387-13D10229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BB90-F293-43FE-A493-C8BE16C4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5C21F-6653-45DD-9C95-6488B26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8F52-3989-41F7-943E-2828EFD8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2248B-8393-4D31-85E6-C4A3B7CE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43739-15A2-4A26-B528-D64C71D8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0A9B-3B5A-47D4-89C4-0AFD51ED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2F494-81A0-402E-B186-CFCE491A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640E2-BD90-4343-8855-2283A98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BF19E-22B6-4E54-89A0-F7964AB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EE15-FFB3-42A7-9A11-C48131089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362-9499-48FE-969A-7B9026D310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6242-5A2E-4082-A416-BE5333D74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0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0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46E-4D3C-4ECF-A30C-6EC23D3D594A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A8C1-C907-4ABE-BD38-5E0B6030597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B7EF-3569-4E23-BE22-523447063E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D0D5-CA47-42DA-9463-60D95097EE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7EEA-DEBB-4A2D-B371-AC8297AE3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688-AE0B-4B1A-BB04-E8DF3EDB9D23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5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5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5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2B36-C026-4767-A0BF-441E928792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80FB-7529-4B35-91E1-7A33149EBC64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591-0B22-4D79-816B-5AECCD5CA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9CD-BC41-4DA4-9004-E52F367E8D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wind.wav"/><Relationship Id="rId6" Type="http://schemas.openxmlformats.org/officeDocument/2006/relationships/audio" Target="../media/pu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035"/>
          <p:cNvSpPr/>
          <p:nvPr/>
        </p:nvSpPr>
        <p:spPr>
          <a:xfrm>
            <a:off x="539640" y="2133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李 时 珍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8" name="Picture 1037" descr="1790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1026"/>
          <p:cNvSpPr/>
          <p:nvPr/>
        </p:nvSpPr>
        <p:spPr>
          <a:xfrm>
            <a:off x="15080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1027"/>
          <p:cNvSpPr/>
          <p:nvPr/>
        </p:nvSpPr>
        <p:spPr>
          <a:xfrm>
            <a:off x="60948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他不怕山高路远，不怕严寒酷暑，走遍了出产药的名山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1028"/>
          <p:cNvSpPr/>
          <p:nvPr/>
        </p:nvSpPr>
        <p:spPr>
          <a:xfrm>
            <a:off x="609480" y="1752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他有时好几天不下山，饿了吃些干粮，天黑了，就在山上过夜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Text Box 1029"/>
          <p:cNvSpPr/>
          <p:nvPr/>
        </p:nvSpPr>
        <p:spPr>
          <a:xfrm>
            <a:off x="609480" y="43657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他走了上万里路，访问了千百个医生、老农、渔民和猎人，向他们学到了许多书上没有的知识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1030"/>
          <p:cNvSpPr/>
          <p:nvPr/>
        </p:nvSpPr>
        <p:spPr>
          <a:xfrm>
            <a:off x="468360" y="2997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许多药材他都亲口品尝，判断药性和药效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9" name="Group 1031"/>
          <p:cNvGrpSpPr/>
          <p:nvPr/>
        </p:nvGrpSpPr>
        <p:grpSpPr>
          <a:xfrm>
            <a:off x="2268360" y="981000"/>
            <a:ext cx="4190760" cy="76320"/>
            <a:chOff x="2268360" y="981000"/>
            <a:chExt cx="4190760" cy="76320"/>
          </a:xfrm>
        </p:grpSpPr>
        <p:grpSp>
          <p:nvGrpSpPr>
            <p:cNvPr id="730" name="Group 1032"/>
            <p:cNvGrpSpPr/>
            <p:nvPr/>
          </p:nvGrpSpPr>
          <p:grpSpPr>
            <a:xfrm>
              <a:off x="2268360" y="981000"/>
              <a:ext cx="609840" cy="76320"/>
              <a:chOff x="2268360" y="981000"/>
              <a:chExt cx="609840" cy="76320"/>
            </a:xfrm>
          </p:grpSpPr>
          <p:sp>
            <p:nvSpPr>
              <p:cNvPr id="731" name="Oval 1033"/>
              <p:cNvSpPr/>
              <p:nvPr/>
            </p:nvSpPr>
            <p:spPr>
              <a:xfrm>
                <a:off x="2268360" y="981000"/>
                <a:ext cx="15264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Oval 1034"/>
              <p:cNvSpPr/>
              <p:nvPr/>
            </p:nvSpPr>
            <p:spPr>
              <a:xfrm>
                <a:off x="2725560" y="981000"/>
                <a:ext cx="15264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1035"/>
            <p:cNvGrpSpPr/>
            <p:nvPr/>
          </p:nvGrpSpPr>
          <p:grpSpPr>
            <a:xfrm>
              <a:off x="5850000" y="981000"/>
              <a:ext cx="609120" cy="76320"/>
              <a:chOff x="5850000" y="981000"/>
              <a:chExt cx="609120" cy="76320"/>
            </a:xfrm>
          </p:grpSpPr>
          <p:sp>
            <p:nvSpPr>
              <p:cNvPr id="734" name="Oval 1036"/>
              <p:cNvSpPr/>
              <p:nvPr/>
            </p:nvSpPr>
            <p:spPr>
              <a:xfrm>
                <a:off x="5850000" y="98100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Oval 1037"/>
              <p:cNvSpPr/>
              <p:nvPr/>
            </p:nvSpPr>
            <p:spPr>
              <a:xfrm>
                <a:off x="6306840" y="98100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Group 1038"/>
          <p:cNvGrpSpPr/>
          <p:nvPr/>
        </p:nvGrpSpPr>
        <p:grpSpPr>
          <a:xfrm>
            <a:off x="3203640" y="2349360"/>
            <a:ext cx="2666880" cy="76320"/>
            <a:chOff x="3203640" y="2349360"/>
            <a:chExt cx="2666880" cy="76320"/>
          </a:xfrm>
        </p:grpSpPr>
        <p:sp>
          <p:nvSpPr>
            <p:cNvPr id="737" name="Oval 1039"/>
            <p:cNvSpPr/>
            <p:nvPr/>
          </p:nvSpPr>
          <p:spPr>
            <a:xfrm>
              <a:off x="32036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Oval 1040"/>
            <p:cNvSpPr/>
            <p:nvPr/>
          </p:nvSpPr>
          <p:spPr>
            <a:xfrm>
              <a:off x="373716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Oval 1041"/>
            <p:cNvSpPr/>
            <p:nvPr/>
          </p:nvSpPr>
          <p:spPr>
            <a:xfrm>
              <a:off x="419436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Oval 1042"/>
            <p:cNvSpPr/>
            <p:nvPr/>
          </p:nvSpPr>
          <p:spPr>
            <a:xfrm>
              <a:off x="48038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Oval 1043"/>
            <p:cNvSpPr/>
            <p:nvPr/>
          </p:nvSpPr>
          <p:spPr>
            <a:xfrm>
              <a:off x="52610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Oval 1044"/>
            <p:cNvSpPr/>
            <p:nvPr/>
          </p:nvSpPr>
          <p:spPr>
            <a:xfrm>
              <a:off x="57182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Group 1045"/>
          <p:cNvGrpSpPr/>
          <p:nvPr/>
        </p:nvGrpSpPr>
        <p:grpSpPr>
          <a:xfrm>
            <a:off x="7164360" y="4941720"/>
            <a:ext cx="5257800" cy="76320"/>
            <a:chOff x="7164360" y="4941720"/>
            <a:chExt cx="5257800" cy="76320"/>
          </a:xfrm>
        </p:grpSpPr>
        <p:grpSp>
          <p:nvGrpSpPr>
            <p:cNvPr id="744" name="Group 1046"/>
            <p:cNvGrpSpPr/>
            <p:nvPr/>
          </p:nvGrpSpPr>
          <p:grpSpPr>
            <a:xfrm>
              <a:off x="7164360" y="4941720"/>
              <a:ext cx="1143000" cy="76320"/>
              <a:chOff x="7164360" y="4941720"/>
              <a:chExt cx="1143000" cy="76320"/>
            </a:xfrm>
          </p:grpSpPr>
          <p:grpSp>
            <p:nvGrpSpPr>
              <p:cNvPr id="745" name="Group 1047"/>
              <p:cNvGrpSpPr/>
              <p:nvPr/>
            </p:nvGrpSpPr>
            <p:grpSpPr>
              <a:xfrm>
                <a:off x="7164360" y="4941720"/>
                <a:ext cx="609120" cy="76320"/>
                <a:chOff x="7164360" y="4941720"/>
                <a:chExt cx="609120" cy="76320"/>
              </a:xfrm>
            </p:grpSpPr>
            <p:sp>
              <p:nvSpPr>
                <p:cNvPr id="746" name="Oval 1048"/>
                <p:cNvSpPr/>
                <p:nvPr/>
              </p:nvSpPr>
              <p:spPr>
                <a:xfrm>
                  <a:off x="716436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1049"/>
                <p:cNvSpPr/>
                <p:nvPr/>
              </p:nvSpPr>
              <p:spPr>
                <a:xfrm>
                  <a:off x="762120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" name="Oval 1050"/>
              <p:cNvSpPr/>
              <p:nvPr/>
            </p:nvSpPr>
            <p:spPr>
              <a:xfrm>
                <a:off x="8155080" y="494172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1051"/>
            <p:cNvGrpSpPr/>
            <p:nvPr/>
          </p:nvGrpSpPr>
          <p:grpSpPr>
            <a:xfrm>
              <a:off x="11279160" y="4941720"/>
              <a:ext cx="1143000" cy="76320"/>
              <a:chOff x="11279160" y="4941720"/>
              <a:chExt cx="1143000" cy="76320"/>
            </a:xfrm>
          </p:grpSpPr>
          <p:grpSp>
            <p:nvGrpSpPr>
              <p:cNvPr id="750" name="Group 1052"/>
              <p:cNvGrpSpPr/>
              <p:nvPr/>
            </p:nvGrpSpPr>
            <p:grpSpPr>
              <a:xfrm>
                <a:off x="11279160" y="4941720"/>
                <a:ext cx="609120" cy="76320"/>
                <a:chOff x="11279160" y="4941720"/>
                <a:chExt cx="609120" cy="76320"/>
              </a:xfrm>
            </p:grpSpPr>
            <p:sp>
              <p:nvSpPr>
                <p:cNvPr id="751" name="Oval 1053"/>
                <p:cNvSpPr/>
                <p:nvPr/>
              </p:nvSpPr>
              <p:spPr>
                <a:xfrm>
                  <a:off x="1127916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Oval 1054"/>
                <p:cNvSpPr/>
                <p:nvPr/>
              </p:nvSpPr>
              <p:spPr>
                <a:xfrm>
                  <a:off x="1173600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Oval 1055"/>
              <p:cNvSpPr/>
              <p:nvPr/>
            </p:nvSpPr>
            <p:spPr>
              <a:xfrm>
                <a:off x="12269880" y="494172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1056"/>
          <p:cNvGrpSpPr/>
          <p:nvPr/>
        </p:nvGrpSpPr>
        <p:grpSpPr>
          <a:xfrm>
            <a:off x="3059280" y="5013360"/>
            <a:ext cx="1675800" cy="76320"/>
            <a:chOff x="3059280" y="5013360"/>
            <a:chExt cx="1675800" cy="76320"/>
          </a:xfrm>
        </p:grpSpPr>
        <p:grpSp>
          <p:nvGrpSpPr>
            <p:cNvPr id="755" name="Group 1057"/>
            <p:cNvGrpSpPr/>
            <p:nvPr/>
          </p:nvGrpSpPr>
          <p:grpSpPr>
            <a:xfrm>
              <a:off x="3059280" y="5013360"/>
              <a:ext cx="1142280" cy="76320"/>
              <a:chOff x="3059280" y="5013360"/>
              <a:chExt cx="1142280" cy="76320"/>
            </a:xfrm>
          </p:grpSpPr>
          <p:grpSp>
            <p:nvGrpSpPr>
              <p:cNvPr id="756" name="Group 1058"/>
              <p:cNvGrpSpPr/>
              <p:nvPr/>
            </p:nvGrpSpPr>
            <p:grpSpPr>
              <a:xfrm>
                <a:off x="3059280" y="5013360"/>
                <a:ext cx="608760" cy="76320"/>
                <a:chOff x="3059280" y="5013360"/>
                <a:chExt cx="608760" cy="76320"/>
              </a:xfrm>
            </p:grpSpPr>
            <p:sp>
              <p:nvSpPr>
                <p:cNvPr id="757" name="Oval 1059"/>
                <p:cNvSpPr/>
                <p:nvPr/>
              </p:nvSpPr>
              <p:spPr>
                <a:xfrm>
                  <a:off x="3059280" y="501336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Oval 1060"/>
                <p:cNvSpPr/>
                <p:nvPr/>
              </p:nvSpPr>
              <p:spPr>
                <a:xfrm>
                  <a:off x="3515760" y="501336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Oval 1061"/>
              <p:cNvSpPr/>
              <p:nvPr/>
            </p:nvSpPr>
            <p:spPr>
              <a:xfrm>
                <a:off x="4049640" y="5013360"/>
                <a:ext cx="15192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Oval 1062"/>
            <p:cNvSpPr/>
            <p:nvPr/>
          </p:nvSpPr>
          <p:spPr>
            <a:xfrm>
              <a:off x="4583160" y="5013360"/>
              <a:ext cx="15192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1" name="Group 1063"/>
          <p:cNvGrpSpPr/>
          <p:nvPr/>
        </p:nvGrpSpPr>
        <p:grpSpPr>
          <a:xfrm>
            <a:off x="4716360" y="3716280"/>
            <a:ext cx="1676520" cy="76320"/>
            <a:chOff x="4716360" y="3716280"/>
            <a:chExt cx="1676520" cy="76320"/>
          </a:xfrm>
        </p:grpSpPr>
        <p:grpSp>
          <p:nvGrpSpPr>
            <p:cNvPr id="762" name="Group 1064"/>
            <p:cNvGrpSpPr/>
            <p:nvPr/>
          </p:nvGrpSpPr>
          <p:grpSpPr>
            <a:xfrm>
              <a:off x="4716360" y="3716280"/>
              <a:ext cx="1143000" cy="76320"/>
              <a:chOff x="4716360" y="3716280"/>
              <a:chExt cx="1143000" cy="76320"/>
            </a:xfrm>
          </p:grpSpPr>
          <p:grpSp>
            <p:nvGrpSpPr>
              <p:cNvPr id="763" name="Group 1065"/>
              <p:cNvGrpSpPr/>
              <p:nvPr/>
            </p:nvGrpSpPr>
            <p:grpSpPr>
              <a:xfrm>
                <a:off x="4716360" y="3716280"/>
                <a:ext cx="609120" cy="76320"/>
                <a:chOff x="4716360" y="3716280"/>
                <a:chExt cx="609120" cy="76320"/>
              </a:xfrm>
            </p:grpSpPr>
            <p:sp>
              <p:nvSpPr>
                <p:cNvPr id="764" name="Oval 1066"/>
                <p:cNvSpPr/>
                <p:nvPr/>
              </p:nvSpPr>
              <p:spPr>
                <a:xfrm>
                  <a:off x="4716360" y="371628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1067"/>
                <p:cNvSpPr/>
                <p:nvPr/>
              </p:nvSpPr>
              <p:spPr>
                <a:xfrm>
                  <a:off x="5173200" y="371628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Oval 1068"/>
              <p:cNvSpPr/>
              <p:nvPr/>
            </p:nvSpPr>
            <p:spPr>
              <a:xfrm>
                <a:off x="5707080" y="371628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7" name="Oval 1069"/>
            <p:cNvSpPr/>
            <p:nvPr/>
          </p:nvSpPr>
          <p:spPr>
            <a:xfrm>
              <a:off x="6240600" y="371628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mb dir="horz"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5080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9" name="Picture 5" descr="李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15080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304920" y="18288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他整整用了二十七年的时间，终于编写成了一部著名的药物书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—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草纲目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14"/>
          <p:cNvSpPr/>
          <p:nvPr/>
        </p:nvSpPr>
        <p:spPr>
          <a:xfrm>
            <a:off x="2340000" y="2637000"/>
            <a:ext cx="10666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15"/>
          <p:cNvSpPr/>
          <p:nvPr/>
        </p:nvSpPr>
        <p:spPr>
          <a:xfrm>
            <a:off x="1619280" y="3357720"/>
            <a:ext cx="9907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860840" y="6480"/>
            <a:ext cx="530136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本草纲目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：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33cc33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世界医学科学宝库中的一部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经典著作。全书共５２卷，记载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药物１８９２种药方１１０９６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个，药物形态图１１６０幅。先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被译成拉丁、法、日、朝、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德、英、俄、等１０余种文字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流传全世界。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放大后的书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4" descr="何首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苦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芍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2" descr="山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5080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1403280" y="112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9cbe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WordArt 7"/>
          <p:cNvSpPr txBox="1"/>
          <p:nvPr/>
        </p:nvSpPr>
        <p:spPr>
          <a:xfrm>
            <a:off x="611280" y="549360"/>
            <a:ext cx="381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练笔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179280" y="2708280"/>
            <a:ext cx="865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9cbe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想象李时珍写成</a:t>
            </a:r>
            <a:r>
              <a:rPr b="1" lang="en-US" sz="4000" spc="-1" strike="noStrike">
                <a:solidFill>
                  <a:srgbClr val="da26a7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本草纲目</a:t>
            </a:r>
            <a:r>
              <a:rPr b="1" lang="en-US" sz="4000" spc="-1" strike="noStrike">
                <a:solidFill>
                  <a:srgbClr val="da26a7"/>
                </a:solidFill>
                <a:latin typeface="Times New Roman"/>
              </a:rPr>
              <a:t>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a26a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之后，人们会对他说些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（医生、病人、病魔、病人家属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da26a7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9c9cbe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da26a7"/>
                </a:solidFill>
                <a:latin typeface="Times New Roman"/>
              </a:rPr>
              <a:t>）先说说再写下来</a:t>
            </a:r>
            <a:r>
              <a:rPr b="1" lang="zh-CN" sz="3600" spc="-1" strike="noStrike">
                <a:solidFill>
                  <a:srgbClr val="9c9cbe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0" y="533520"/>
            <a:ext cx="5334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0" name="Picture 4" descr="1790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21"/>
          <p:cNvSpPr/>
          <p:nvPr/>
        </p:nvSpPr>
        <p:spPr>
          <a:xfrm>
            <a:off x="179280" y="62064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22"/>
          <p:cNvSpPr/>
          <p:nvPr/>
        </p:nvSpPr>
        <p:spPr>
          <a:xfrm>
            <a:off x="179280" y="404640"/>
            <a:ext cx="5256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李时珍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9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：我国明朝杰出的医学家和药物学家。为了编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草纲目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他研读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多种医药书籍和有关资料，先后到湖北、河南、河北、安徽、江苏、江西等省考察访问，采集药物标本，行程达一万余里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752480" y="1889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08472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6" name="WordArt 7"/>
          <p:cNvSpPr txBox="1"/>
          <p:nvPr/>
        </p:nvSpPr>
        <p:spPr>
          <a:xfrm>
            <a:off x="1116000" y="620640"/>
            <a:ext cx="65516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欢迎批评指正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  <p:sndAc>
      <p:stSnd>
        <p:snd r:embed="rId6" name="chimes.wav"/>
      </p:stSnd>
    </p:sndAc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248082" fill="hold"/>
                                        <p:tgtEl>
                                          <p:spTgt spid="7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6"/>
          <p:cNvSpPr/>
          <p:nvPr/>
        </p:nvSpPr>
        <p:spPr>
          <a:xfrm>
            <a:off x="1042920" y="2205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本草纲目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这本书是怎样编写出来的？画出相关的句子，并有感情地读一读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WordArt 7"/>
          <p:cNvSpPr txBox="1"/>
          <p:nvPr/>
        </p:nvSpPr>
        <p:spPr>
          <a:xfrm>
            <a:off x="1116000" y="981000"/>
            <a:ext cx="5111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任务</a:t>
            </a:r>
            <a:endParaRPr b="1" lang="en-US" sz="40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李时珍治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3"/>
          <p:cNvSpPr/>
          <p:nvPr/>
        </p:nvSpPr>
        <p:spPr>
          <a:xfrm>
            <a:off x="6705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1" descr="FR6063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880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 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李时珍为什么要立志学医，他是怎么做的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3" descr="FR6051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782964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2"/>
          <p:cNvSpPr/>
          <p:nvPr/>
        </p:nvSpPr>
        <p:spPr>
          <a:xfrm>
            <a:off x="762120" y="2209680"/>
            <a:ext cx="7315200" cy="57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李时珍为什么要 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编写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本草纲 目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他都做了那些准备工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152280" y="914400"/>
            <a:ext cx="12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　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36"/>
          <p:cNvSpPr/>
          <p:nvPr/>
        </p:nvSpPr>
        <p:spPr>
          <a:xfrm>
            <a:off x="395280" y="83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李时珍一面行医，一面研究药物。他发现旧的药物书有不少缺点，许多有用的药物没有记载；有些药物只记了个名称，没有说明形状和生长情况；还有一些药物记错了药性和药效。他想，病人吃错了药，那多危险啊！于是他决心重新编写一部比较完善的药物书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2067480" y="26028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旧的药物书有哪些缺点：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WordArt 3" descr=""/>
          <p:cNvPicPr/>
          <p:nvPr/>
        </p:nvPicPr>
        <p:blipFill>
          <a:blip r:embed="rId1"/>
          <a:stretch/>
        </p:blipFill>
        <p:spPr>
          <a:xfrm>
            <a:off x="530280" y="1974960"/>
            <a:ext cx="291960" cy="51264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4"/>
          <p:cNvSpPr/>
          <p:nvPr/>
        </p:nvSpPr>
        <p:spPr>
          <a:xfrm>
            <a:off x="2526840" y="177804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许多有用的药物没有记载；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WordArt 5" descr=""/>
          <p:cNvPicPr/>
          <p:nvPr/>
        </p:nvPicPr>
        <p:blipFill>
          <a:blip r:embed="rId2"/>
          <a:stretch/>
        </p:blipFill>
        <p:spPr>
          <a:xfrm>
            <a:off x="457200" y="3273480"/>
            <a:ext cx="291960" cy="50652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2507760" y="301788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有些药物只记了个名称，没有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说明形状和生长情况；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4552200" y="49417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还有一些药物记错了药性和药效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9" name="WordArt 8" descr=""/>
          <p:cNvPicPr/>
          <p:nvPr/>
        </p:nvPicPr>
        <p:blipFill>
          <a:blip r:embed="rId3"/>
          <a:stretch/>
        </p:blipFill>
        <p:spPr>
          <a:xfrm>
            <a:off x="457200" y="5145120"/>
            <a:ext cx="291960" cy="51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4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3"/>
          <p:cNvSpPr/>
          <p:nvPr/>
        </p:nvSpPr>
        <p:spPr>
          <a:xfrm>
            <a:off x="228600" y="2209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他决心重新编写一部比较完善的药物书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Group 23"/>
          <p:cNvGrpSpPr/>
          <p:nvPr/>
        </p:nvGrpSpPr>
        <p:grpSpPr>
          <a:xfrm>
            <a:off x="5486400" y="2895480"/>
            <a:ext cx="685800" cy="76320"/>
            <a:chOff x="5486400" y="2895480"/>
            <a:chExt cx="685800" cy="76320"/>
          </a:xfrm>
        </p:grpSpPr>
        <p:sp>
          <p:nvSpPr>
            <p:cNvPr id="722" name="Oval 21"/>
            <p:cNvSpPr/>
            <p:nvPr/>
          </p:nvSpPr>
          <p:spPr>
            <a:xfrm>
              <a:off x="5486400" y="2895480"/>
              <a:ext cx="7632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Oval 22"/>
            <p:cNvSpPr/>
            <p:nvPr/>
          </p:nvSpPr>
          <p:spPr>
            <a:xfrm>
              <a:off x="6096240" y="2895480"/>
              <a:ext cx="7596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06:11:40Z</dcterms:created>
  <dc:creator/>
  <dc:description/>
  <dc:language>en-US</dc:language>
  <cp:lastModifiedBy>yanlu</cp:lastModifiedBy>
  <dcterms:modified xsi:type="dcterms:W3CDTF">2014-03-31T01:13:16Z</dcterms:modified>
  <cp:revision>52</cp:revision>
  <dc:subject/>
  <dc:title>幻灯片 1</dc:title>
</cp:coreProperties>
</file>