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8.jpeg" ContentType="image/jpeg"/>
  <Override PartName="/ppt/media/image2.gif" ContentType="image/gif"/>
  <Override PartName="/ppt/media/image9.gif" ContentType="image/gif"/>
  <Override PartName="/ppt/media/type.wav" ContentType="audio/x-wav"/>
  <Override PartName="/ppt/media/image7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chimes.wav" ContentType="audio/x-wav"/>
  <Override PartName="/ppt/media/image13.gif" ContentType="image/gif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2.gif" ContentType="image/gif"/>
  <Override PartName="/ppt/media/image20.jpeg" ContentType="image/jpeg"/>
  <Override PartName="/ppt/media/image19.jpeg" ContentType="image/jpe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15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293-74AF-4F69-BB30-942737B7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FA5-C1CC-42A6-A4D9-8B327DFF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5D3-7F6C-4E46-BAA7-064F3E4A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779-C3AC-4786-93C0-0750EAF3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5E3-5DDE-4096-9726-BC96C100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D94-C753-483D-B4CC-129EDB6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F8D-E090-4A6C-977E-511FF79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FBE-7232-43B7-ACD1-EAD88F3F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610-C55F-4A56-9CD7-931C85C2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034-10E3-4D09-B61B-510D052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DAD-8A1F-4E53-BBBE-0C1F881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294-18EC-4311-ADA2-889B45D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5CB-6010-4863-9057-EA01D3B0FE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课件图片素材\背景素材\BJ_044.JPG"/>
          <p:cNvPicPr/>
          <p:nvPr/>
        </p:nvPicPr>
        <p:blipFill>
          <a:blip r:embed="rId1"/>
          <a:stretch/>
        </p:blipFill>
        <p:spPr>
          <a:xfrm>
            <a:off x="-601560" y="-214200"/>
            <a:ext cx="10055160" cy="7159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46280" y="47772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09480" y="1905120"/>
            <a:ext cx="807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装满昆虫的口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Picture 7" descr="E:\课件动画素材\动物类\昆虫类\A2_007.GIF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:\课件动画素材\动物类\昆虫类\A2_008.GIF"/>
          <p:cNvPicPr/>
          <p:nvPr/>
        </p:nvPicPr>
        <p:blipFill>
          <a:blip r:embed="rId3"/>
          <a:stretch/>
        </p:blipFill>
        <p:spPr>
          <a:xfrm>
            <a:off x="0" y="47084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课件动画素材\动物类\昆虫类\A2_003.GIF"/>
          <p:cNvPicPr/>
          <p:nvPr/>
        </p:nvPicPr>
        <p:blipFill>
          <a:blip r:embed="rId4"/>
          <a:stretch/>
        </p:blipFill>
        <p:spPr>
          <a:xfrm>
            <a:off x="914400" y="51814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:\平台资源工作指导\背景图\27.jpg"/>
          <p:cNvPicPr/>
          <p:nvPr/>
        </p:nvPicPr>
        <p:blipFill>
          <a:blip r:embed="rId1"/>
          <a:stretch/>
        </p:blipFill>
        <p:spPr>
          <a:xfrm>
            <a:off x="0" y="0"/>
            <a:ext cx="9469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438280" y="673200"/>
            <a:ext cx="457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理解法布尔对昆虫的“痴迷”是他走向科学殿堂的重要因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2438280" y="3562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为什么要用“装满昆虫的衣袋”作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:\平台资源工作指导\背景图\27.jpg"/>
          <p:cNvPicPr/>
          <p:nvPr/>
        </p:nvPicPr>
        <p:blipFill>
          <a:blip r:embed="rId1"/>
          <a:stretch/>
        </p:blipFill>
        <p:spPr>
          <a:xfrm>
            <a:off x="0" y="0"/>
            <a:ext cx="94694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2749680" y="1162080"/>
            <a:ext cx="48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仔细观察下面的小动物，选一种用上细节描写和动作描写，写一篇观察日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heruyi\My Documents\My Pictures\ml0051.jpg"/>
          <p:cNvPicPr/>
          <p:nvPr/>
        </p:nvPicPr>
        <p:blipFill>
          <a:blip r:embed="rId1"/>
          <a:srcRect l="0" t="0" r="0" b="52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heruyi\My Documents\My Pictures\U98P33T148D71437F2100DT20041201135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heruyi\My Documents\My Pictures\ml0077.jpg"/>
          <p:cNvPicPr/>
          <p:nvPr/>
        </p:nvPicPr>
        <p:blipFill>
          <a:blip r:embed="rId1"/>
          <a:srcRect l="0" t="0" r="0" b="59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heruyi\My Documents\My Pictures\ml0037.jpg"/>
          <p:cNvPicPr/>
          <p:nvPr/>
        </p:nvPicPr>
        <p:blipFill>
          <a:blip r:embed="rId1"/>
          <a:srcRect l="0" t="0" r="0" b="59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课件图片素材\美术边框\PM_020.jpg"/>
          <p:cNvPicPr/>
          <p:nvPr/>
        </p:nvPicPr>
        <p:blipFill>
          <a:blip r:embed="rId1"/>
          <a:stretch/>
        </p:blipFill>
        <p:spPr>
          <a:xfrm>
            <a:off x="-531720" y="0"/>
            <a:ext cx="967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362320" y="762120"/>
            <a:ext cx="33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学习提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117880" y="192564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自由读课文，读准字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38320" y="329580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有不懂的四人小组交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38320" y="4584600"/>
            <a:ext cx="64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想想课文讲了一件什么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E:\课件动画素材\动物类\鸟类\A3_102.gif"/>
          <p:cNvPicPr/>
          <p:nvPr/>
        </p:nvPicPr>
        <p:blipFill>
          <a:blip r:embed="rId2"/>
          <a:stretch/>
        </p:blipFill>
        <p:spPr>
          <a:xfrm>
            <a:off x="594360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14600" y="2362320"/>
            <a:ext cx="3902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E:\课件动画素材\动物类\昆虫类\A2_028.gif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80880" y="228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浓 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60880" y="228600"/>
            <a:ext cx="28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隐 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867280" y="228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 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2077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观 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71800" y="200196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训 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86400" y="2057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迷 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17680" y="3754440"/>
            <a:ext cx="42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暮色笼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27560" y="37339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心翼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060800" y="578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870360" y="533412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怒气冲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课件图片素材\美术边框\PM_001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E:\课件动画素材\动物类\昆虫类\A2_013.GIF"/>
          <p:cNvPicPr/>
          <p:nvPr/>
        </p:nvPicPr>
        <p:blipFill>
          <a:blip r:embed="rId2"/>
          <a:stretch/>
        </p:blipFill>
        <p:spPr>
          <a:xfrm>
            <a:off x="1219320" y="5486400"/>
            <a:ext cx="99036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E:\课件动画素材\动物类\昆虫类\A2_006.GIF"/>
          <p:cNvPicPr/>
          <p:nvPr/>
        </p:nvPicPr>
        <p:blipFill>
          <a:blip r:embed="rId3"/>
          <a:stretch/>
        </p:blipFill>
        <p:spPr>
          <a:xfrm>
            <a:off x="8001000" y="419112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85800" y="11430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每到早晨，法布尔把鸭子赶进池塘后，就一动不动地趴在岸边，静静地观察奇妙的世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课件图片素材\美术边框\PM_047.jpg"/>
          <p:cNvPicPr/>
          <p:nvPr/>
        </p:nvPicPr>
        <p:blipFill>
          <a:blip r:embed="rId1"/>
          <a:stretch/>
        </p:blipFill>
        <p:spPr>
          <a:xfrm>
            <a:off x="-455760" y="0"/>
            <a:ext cx="106664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955960" y="169704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E:\课件动画素材\动物类\昆虫类\A2_056.gif"/>
          <p:cNvPicPr/>
          <p:nvPr/>
        </p:nvPicPr>
        <p:blipFill>
          <a:blip r:embed="rId2"/>
          <a:stretch/>
        </p:blipFill>
        <p:spPr>
          <a:xfrm>
            <a:off x="6095880" y="5029200"/>
            <a:ext cx="1409760" cy="5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:\课件动画素材\动物类\昆虫类\A2_063.gif"/>
          <p:cNvPicPr/>
          <p:nvPr/>
        </p:nvPicPr>
        <p:blipFill>
          <a:blip r:embed="rId3"/>
          <a:stretch/>
        </p:blipFill>
        <p:spPr>
          <a:xfrm>
            <a:off x="533520" y="5867280"/>
            <a:ext cx="20574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819520" y="117936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他小心翼翼地把甲虫拾起来，放进一个蜗牛壳里，打算回家再好好欣赏这珍珠一般的“宝贝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课件图片素材\美术边框\PM_002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E:\课件动画素材\动物类\昆虫类\A2_082.gif"/>
          <p:cNvPicPr/>
          <p:nvPr/>
        </p:nvPicPr>
        <p:blipFill>
          <a:blip r:embed="rId2"/>
          <a:stretch/>
        </p:blipFill>
        <p:spPr>
          <a:xfrm>
            <a:off x="6705720" y="4267080"/>
            <a:ext cx="1063440" cy="116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:\课件动画素材\动物类\昆虫类\A2_093.gif"/>
          <p:cNvPicPr/>
          <p:nvPr/>
        </p:nvPicPr>
        <p:blipFill>
          <a:blip r:embed="rId3"/>
          <a:stretch/>
        </p:blipFill>
        <p:spPr>
          <a:xfrm>
            <a:off x="2819520" y="4952880"/>
            <a:ext cx="990360" cy="617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041560" y="1219320"/>
            <a:ext cx="55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夕阳快下山了时，法布尔口袋里装着放甲虫的蜗牛壳，欢欢喜喜地赶着鸭子回来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heruyi\My Documents\My Pictures\ml0005.jpg"/>
          <p:cNvPicPr/>
          <p:nvPr/>
        </p:nvPicPr>
        <p:blipFill>
          <a:blip r:embed="rId1"/>
          <a:srcRect l="0" t="0" r="0" b="5645"/>
          <a:stretch/>
        </p:blipFill>
        <p:spPr>
          <a:xfrm>
            <a:off x="-4428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平台资源工作指导\背景图\27.jpg"/>
          <p:cNvPicPr/>
          <p:nvPr/>
        </p:nvPicPr>
        <p:blipFill>
          <a:blip r:embed="rId1"/>
          <a:stretch/>
        </p:blipFill>
        <p:spPr>
          <a:xfrm>
            <a:off x="0" y="0"/>
            <a:ext cx="9469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2171880" y="76212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创造性读第三段，体会法布尔对昆虫的“迷恋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2171880" y="2362320"/>
            <a:ext cx="53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动作描写（放进、包上、装进、欣赏）体会法布尔对昆虫的迷恋、珍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heruyi\My Documents\My Pictures\ml0041.jpg"/>
          <p:cNvPicPr/>
          <p:nvPr/>
        </p:nvPicPr>
        <p:blipFill>
          <a:blip r:embed="rId1"/>
          <a:srcRect l="0" t="0" r="0" b="6249"/>
          <a:stretch/>
        </p:blipFill>
        <p:spPr>
          <a:xfrm>
            <a:off x="-303120" y="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47:17Z</dcterms:created>
  <dc:creator>xyz</dc:creator>
  <dc:description/>
  <dc:language>en-US</dc:language>
  <cp:lastModifiedBy>yanlu</cp:lastModifiedBy>
  <cp:lastPrinted>1899-12-30T00:00:00Z</cp:lastPrinted>
  <dcterms:modified xsi:type="dcterms:W3CDTF">2014-03-31T02:06:08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