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F7A-2454-4E7C-B331-8140BE72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8F3-8229-4B9C-A8F4-F15E8EC5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880-C706-480F-9E5C-A2B4BAF2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135-C878-4EFF-B7D5-D52D651E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2F4-57B5-4C1A-9D6E-974616C4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BE4-8BD6-4C98-BAFE-342E1B23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E12-4656-488A-9C51-6AFD4409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1CD-F4D3-449A-ADB1-15F8DBFB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7E9-6830-4CF6-BF85-207D577B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585-5817-4496-9B8A-331053BF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3F4-1B60-4497-AFBB-91CF6A92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C52-A94E-484C-AB21-264FFFF3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469C-5FE5-4DBB-9670-136AAF0C9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3143160" y="2428920"/>
            <a:ext cx="3672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大禹治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357720" y="785880"/>
            <a:ext cx="45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研读句子，学习交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42960" y="2857680"/>
            <a:ext cx="8001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挖通了九条大河”“劈开了九座大山”“引导洪水流入了大海“说明了什么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  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带领老百姓开山挖河，完成引水入海的浩大工程，课文中说大禹吃尽了“千辛万苦”，想一想：他可能会吃哪些苦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857160" y="1071720"/>
            <a:ext cx="784872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隶书"/>
              </a:rPr>
              <a:t>          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隶书"/>
              </a:rPr>
              <a:t>细读第三自然段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这一自然段一共有几句话？告诉我们一件什么事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自由读课文，找出本自然段表示数量的词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这些表示数量的词强调了什么？突出表现了什么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大禹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三次过家门一次也没进）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矩形 1"/>
          <p:cNvSpPr/>
          <p:nvPr/>
        </p:nvSpPr>
        <p:spPr>
          <a:xfrm>
            <a:off x="3000240" y="2357280"/>
            <a:ext cx="542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中都说的是“禹”，为什么题目中要说是大禹呢？你认为他“大”在何处？请大家想一想，可以和同桌讨论讨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4071960" y="92880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000080" y="278604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什么说大禹是一位伟大英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联系二、三自然段讨论。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老百姓会怎样感激大禹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786040" y="121428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发挥你的想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隶书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4240" y="29286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后同学们自己找资料读一读古代英雄的故事，下次班会的时候我们在班级举办英雄故事会，比比谁的故事最精彩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2700360" y="2060640"/>
            <a:ext cx="3005280" cy="19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1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84" name="Picture 5" descr="MCj04294430000[1]"/>
          <p:cNvPicPr/>
          <p:nvPr/>
        </p:nvPicPr>
        <p:blipFill>
          <a:blip r:embed="rId2"/>
          <a:stretch/>
        </p:blipFill>
        <p:spPr>
          <a:xfrm>
            <a:off x="6588000" y="4076640"/>
            <a:ext cx="1797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071720" y="3000240"/>
            <a:ext cx="73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正确、流利、有感情地朗读课文，学会本课的生字词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课文内容，知道大禹是我国古代传说中的一名为民造福的英雄，感受大禹制服洪水的顽强意志和献身精神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929040" y="642960"/>
            <a:ext cx="340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1571760" y="1571760"/>
            <a:ext cx="64785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983938891982a8aa0e244485"/>
          <p:cNvPicPr/>
          <p:nvPr/>
        </p:nvPicPr>
        <p:blipFill>
          <a:blip r:embed="rId2"/>
          <a:stretch/>
        </p:blipFill>
        <p:spPr>
          <a:xfrm>
            <a:off x="3454560" y="2682720"/>
            <a:ext cx="5689440" cy="4175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714240" y="4000680"/>
            <a:ext cx="250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大禹治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纪念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826920" y="1557360"/>
            <a:ext cx="44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042920" y="162864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71680" y="585792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婚  禹   塌    牲   叮   棍   仅  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85840" y="3286080"/>
            <a:ext cx="867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chù gǔn rǎng lěi  dī  bà  gāng  zh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畜  鲧   壤   垒   堤  坝   冈  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39640" y="507204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hūn yǔ  tā shēng dīng gùn jǐn ró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571920" y="9288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重点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143080" y="2714760"/>
            <a:ext cx="52563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篇课文主要写的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写了大禹的什么事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86080" y="785880"/>
            <a:ext cx="381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隶书"/>
              </a:rPr>
              <a:t>初读课文思考讨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006560" y="1625760"/>
            <a:ext cx="813744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学习课文第</a:t>
            </a:r>
            <a:r>
              <a:rPr b="1" lang="en-US" sz="36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自然段：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讨论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这一自然段主要告诉我们什么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从哪儿看出洪水很凶猛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“无家可归”是什么意思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这些事情发生在什么时候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班齐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要用急切的语气读出洪水凶猛的态势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000080" y="1143000"/>
            <a:ext cx="814392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00ff"/>
                </a:solidFill>
                <a:latin typeface="隶书"/>
                <a:ea typeface="隶书"/>
              </a:rPr>
              <a:t>细读课文第</a:t>
            </a:r>
            <a:r>
              <a:rPr b="1" lang="en-US" sz="48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4800" spc="-1" strike="noStrike">
                <a:solidFill>
                  <a:srgbClr val="ff00ff"/>
                </a:solidFill>
                <a:latin typeface="隶书"/>
                <a:ea typeface="隶书"/>
              </a:rPr>
              <a:t>自然段：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指名读课文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哪几句是写大禹想的？哪几句是写大禹做的？大禹是怎样想，又是怎样做的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学习二、三两句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 ①指名读第二，三句，说说大禹先干什么，后干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哪些词语告诉我们大禹治水的艰辛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G:\平台资源工作指导\背景图\1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500280" y="642960"/>
            <a:ext cx="58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研读句子，学习交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143000" y="2571840"/>
            <a:ext cx="7416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遍”“吃尽”说明了什么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山万水”“千辛万苦”中的“千”“万”是不是指一千个，一万个？它们说明什么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  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九条大河”“九座大山”中的“九”是不是表示数字中的九？它表示什么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32:11Z</dcterms:created>
  <dc:creator/>
  <dc:description/>
  <dc:language>en-US</dc:language>
  <cp:lastModifiedBy>yanlu</cp:lastModifiedBy>
  <dcterms:modified xsi:type="dcterms:W3CDTF">2014-04-11T01:29:30Z</dcterms:modified>
  <cp:revision>12</cp:revision>
  <dc:subject/>
  <dc:title>幻灯片 1</dc:title>
</cp:coreProperties>
</file>