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EA0-F82C-41CD-B7AA-B703EED2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F25-F383-4267-812C-9BBEF28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ACA-D65D-4FB2-B37B-93A4498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F9F-408E-4644-9E06-FBAE35E7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919-A58D-4BC8-8ED4-F64CF8E9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D1E-848C-4EAF-AF26-D08015E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08E-5A40-443B-861E-0A0D3B7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211-387A-43EC-98E7-409912B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0D1-69E3-4F17-B1B8-FBD253D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AAC-0B58-4C2D-930E-7B2E7A0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BD1-44C4-4095-9C22-39FD4F7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087-5550-4251-9DC0-E1697D4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9AC-3AD3-44EC-B439-312EF426E4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3035160" cy="2347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24000" y="1341360"/>
            <a:ext cx="4606920" cy="28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49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楷体"/>
              </a:rPr>
              <a:t>花开了，就感激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楷体"/>
              <a:ea typeface="楷体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44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7"/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47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0"/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Arial"/>
                  <a:ea typeface="华文新魏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50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3"/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4881240" y="4675680"/>
            <a:ext cx="953640" cy="840600"/>
            <a:chOff x="4881240" y="4675680"/>
            <a:chExt cx="953640" cy="840600"/>
          </a:xfrm>
        </p:grpSpPr>
        <p:sp>
          <p:nvSpPr>
            <p:cNvPr id="53" name="AutoShape 15"/>
            <p:cNvSpPr/>
            <p:nvPr/>
          </p:nvSpPr>
          <p:spPr>
            <a:xfrm rot="20220000">
              <a:off x="4962600" y="480708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6">
              <a:hlinkClick r:id="rId2" action="ppaction://hlinksldjump"/>
            </p:cNvPr>
            <p:cNvSpPr/>
            <p:nvPr/>
          </p:nvSpPr>
          <p:spPr>
            <a:xfrm rot="20220000">
              <a:off x="4980240" y="482724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心灵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7596360" y="5661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9640" y="2641680"/>
            <a:ext cx="80996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是呀！因为感激，所以幸福；因为感激，所以快乐。因为幸福快乐，心灵就会充满阳光，就会形成乐观向上的积极的人生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ED4E-7FA3-4B68-B377-61CA1AC0521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08000" y="2211480"/>
            <a:ext cx="90360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花开了，就感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激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》文中的爸爸给小女孩安排任务的目的是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                          )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从这个小故事中领悟道理：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                                         )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47080" y="2887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  <a:ea typeface="楷体"/>
              </a:rPr>
              <a:t>每天晚上要感激三个人或三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7596360" y="5661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9800" y="4091040"/>
            <a:ext cx="85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2c11"/>
                </a:solidFill>
                <a:latin typeface="Arial"/>
                <a:ea typeface="楷体"/>
              </a:rPr>
              <a:t>一个人常常感激才会幸福，才会快乐，心灵才会充满阳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74680" y="1959120"/>
            <a:ext cx="87613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是结草衔环，是滴水之恩涌泉相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是一种美德，是一种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是值得你用一生去等待的一次宝贵机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是值得你用一生去完成的一次世纪壮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是值得你用一生去珍视的一次爱的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感恩，让生活充满阳光，让世界充满温馨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471680" y="2639880"/>
            <a:ext cx="87328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楷体"/>
                <a:ea typeface="楷体"/>
              </a:rPr>
              <a:t>茉莉  硕果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7883640" y="5805360"/>
            <a:ext cx="865080" cy="505080"/>
          </a:xfrm>
          <a:custGeom>
            <a:avLst/>
            <a:gdLst>
              <a:gd name="textAreaLeft" fmla="*/ 32760 w 865080"/>
              <a:gd name="textAreaRight" fmla="*/ 832680 w 8650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6985" h="21600">
                <a:moveTo>
                  <a:pt x="0" y="0"/>
                </a:moveTo>
                <a:lnTo>
                  <a:pt x="36985" y="0"/>
                </a:lnTo>
                <a:lnTo>
                  <a:pt x="36985" y="21600"/>
                </a:lnTo>
                <a:lnTo>
                  <a:pt x="0" y="21600"/>
                </a:lnTo>
                <a:close/>
              </a:path>
              <a:path fill="lightenLess" w="36985" h="21600">
                <a:moveTo>
                  <a:pt x="0" y="0"/>
                </a:moveTo>
                <a:lnTo>
                  <a:pt x="36985" y="0"/>
                </a:lnTo>
                <a:lnTo>
                  <a:pt x="35585" y="1400"/>
                </a:lnTo>
                <a:lnTo>
                  <a:pt x="1400" y="1400"/>
                </a:lnTo>
                <a:close/>
              </a:path>
              <a:path fill="darken" w="36985" h="21600">
                <a:moveTo>
                  <a:pt x="36985" y="0"/>
                </a:moveTo>
                <a:lnTo>
                  <a:pt x="36985" y="21600"/>
                </a:lnTo>
                <a:lnTo>
                  <a:pt x="35585" y="20200"/>
                </a:lnTo>
                <a:lnTo>
                  <a:pt x="35585" y="1400"/>
                </a:lnTo>
                <a:close/>
              </a:path>
              <a:path fill="darkenLess" w="36985" h="21600">
                <a:moveTo>
                  <a:pt x="36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85" y="20200"/>
                </a:lnTo>
                <a:close/>
              </a:path>
              <a:path fill="lighten" w="36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85" h="21600">
                <a:moveTo>
                  <a:pt x="11486" y="7493"/>
                </a:moveTo>
                <a:lnTo>
                  <a:pt x="14993" y="7493"/>
                </a:lnTo>
                <a:lnTo>
                  <a:pt x="14993" y="12828"/>
                </a:lnTo>
                <a:cubicBezTo>
                  <a:pt x="14993" y="13751"/>
                  <a:pt x="15794" y="14482"/>
                  <a:pt x="16830" y="14482"/>
                </a:cubicBezTo>
                <a:lnTo>
                  <a:pt x="18492" y="14482"/>
                </a:lnTo>
                <a:cubicBezTo>
                  <a:pt x="19528" y="14482"/>
                  <a:pt x="20329" y="13751"/>
                  <a:pt x="20329" y="12828"/>
                </a:cubicBezTo>
                <a:lnTo>
                  <a:pt x="20329" y="7493"/>
                </a:lnTo>
                <a:lnTo>
                  <a:pt x="18492" y="7493"/>
                </a:lnTo>
                <a:lnTo>
                  <a:pt x="22000" y="3985"/>
                </a:lnTo>
                <a:lnTo>
                  <a:pt x="25673" y="7493"/>
                </a:lnTo>
                <a:lnTo>
                  <a:pt x="23836" y="7493"/>
                </a:lnTo>
                <a:lnTo>
                  <a:pt x="23836" y="12828"/>
                </a:lnTo>
                <a:cubicBezTo>
                  <a:pt x="23836" y="15596"/>
                  <a:pt x="21260" y="18155"/>
                  <a:pt x="18492" y="18155"/>
                </a:cubicBezTo>
                <a:lnTo>
                  <a:pt x="16830" y="18155"/>
                </a:lnTo>
                <a:cubicBezTo>
                  <a:pt x="14062" y="18155"/>
                  <a:pt x="11486" y="15596"/>
                  <a:pt x="1148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预习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16000" y="2346480"/>
            <a:ext cx="82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通过预习，你能回答下面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84360" y="3282840"/>
            <a:ext cx="7561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爸爸为什么要让蓝蓝每天感激三个                                                                  人或三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66908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14035" y="3837"/>
                </a:moveTo>
                <a:lnTo>
                  <a:pt x="16611" y="6448"/>
                </a:ln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lnTo>
                  <a:pt x="20998" y="10800"/>
                </a:lnTo>
                <a:lnTo>
                  <a:pt x="19344" y="10800"/>
                </a:lnTo>
                <a:lnTo>
                  <a:pt x="19344" y="17989"/>
                </a:lnTo>
                <a:lnTo>
                  <a:pt x="8726" y="17989"/>
                </a:lnTo>
                <a:lnTo>
                  <a:pt x="8726" y="10800"/>
                </a:lnTo>
                <a:lnTo>
                  <a:pt x="7072" y="10800"/>
                </a:lnTo>
                <a:close/>
              </a:path>
              <a:path fill="darkenLess" w="28070" h="21600">
                <a:moveTo>
                  <a:pt x="16611" y="6448"/>
                </a:moveTo>
                <a:lnTo>
                  <a:pt x="16611" y="4707"/>
                </a:lnTo>
                <a:lnTo>
                  <a:pt x="18387" y="4707"/>
                </a:lnTo>
                <a:lnTo>
                  <a:pt x="18387" y="8224"/>
                </a:lnTo>
                <a:close/>
              </a:path>
              <a:path fill="darkenLess" w="28070" h="21600">
                <a:moveTo>
                  <a:pt x="13113" y="14299"/>
                </a:moveTo>
                <a:lnTo>
                  <a:pt x="14958" y="14299"/>
                </a:lnTo>
                <a:lnTo>
                  <a:pt x="14958" y="17989"/>
                </a:lnTo>
                <a:lnTo>
                  <a:pt x="19344" y="17989"/>
                </a:lnTo>
                <a:lnTo>
                  <a:pt x="19344" y="10800"/>
                </a:lnTo>
                <a:lnTo>
                  <a:pt x="8726" y="10800"/>
                </a:lnTo>
                <a:lnTo>
                  <a:pt x="8726" y="17989"/>
                </a:lnTo>
                <a:lnTo>
                  <a:pt x="13113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课文解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2360" y="1990800"/>
            <a:ext cx="864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课文中的爸爸是个有心人，让女儿“从小学会看到人生的美好， 并真心地感激</a:t>
            </a:r>
            <a:r>
              <a:rPr b="1" lang="en-US" sz="2800" spc="-1" strike="noStrike">
                <a:solidFill>
                  <a:srgbClr val="000099"/>
                </a:solidFill>
                <a:latin typeface="楷体"/>
                <a:ea typeface="楷体"/>
              </a:rPr>
              <a:t>”，通过这样的方式让孩子“心灵充满阳光”，成为一个积极乐观的人。最初可能女儿并没有领会爸爸如此安排的良苦用心，只是当做任务去完成。当蓝蓝感谢花开的时候，她没有辜负爸爸的希望，她领会到了爸爸布置这项任务的良苦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D24-958A-4D74-BA3F-874917534D6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684360" y="2562120"/>
            <a:ext cx="2374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第一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第二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484360" y="25621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"/>
                <a:ea typeface="楷体"/>
              </a:rPr>
              <a:t>（</a:t>
            </a:r>
            <a:r>
              <a:rPr b="1" lang="zh-CN" sz="3200" spc="-1" strike="noStrike">
                <a:solidFill>
                  <a:srgbClr val="cc00cc"/>
                </a:solidFill>
                <a:latin typeface="楷体"/>
                <a:ea typeface="楷体"/>
              </a:rPr>
              <a:t>1-2</a:t>
            </a:r>
            <a:r>
              <a:rPr b="1" lang="zh-CN" sz="3200" spc="-1" strike="noStrike">
                <a:solidFill>
                  <a:srgbClr val="cc00cc"/>
                </a:solidFill>
                <a:latin typeface="楷体"/>
                <a:ea typeface="楷体"/>
              </a:rPr>
              <a:t>）爸爸让蓝蓝每天晚上要感激三个人或三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56000" y="4073400"/>
            <a:ext cx="5832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3-6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"/>
              </a:rPr>
              <a:t>蓝蓝终于明白了爸爸的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内容占位符 2"/>
          <p:cNvSpPr/>
          <p:nvPr/>
        </p:nvSpPr>
        <p:spPr>
          <a:xfrm>
            <a:off x="3276720" y="981000"/>
            <a:ext cx="22129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96720" y="2279520"/>
            <a:ext cx="85680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感激不仅是获得亲人的疼爱、获得别人的帮助，更是人生中美好的事。只要是令我们快乐、令我们有收获的一切人生的美好的东西，都是值得我们去感激的。所以爸爸就是要蓝蓝——“从小学会看到人生的美好，并真心地感激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写法点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24000" y="2338560"/>
            <a:ext cx="8638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蓝蓝是不是像爸爸说的那样在真心地感激呢？请仔细默读第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自然段，勾画相关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7800" y="4114800"/>
            <a:ext cx="8639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b2c11"/>
                </a:solidFill>
                <a:latin typeface="楷体"/>
                <a:ea typeface="楷体"/>
              </a:rPr>
              <a:t>你勾画了哪些词语？为什么这些词语能说明蓝蓝是在真心地感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7596360" y="558972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2278080"/>
            <a:ext cx="8497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学们，学了课文我们知道让我们快乐、令我们有收获、有启示的一切美好都值得我们去感激。那么，你现在最想感激什么呢？请把你现在最想感激的一个人或一件事写下来吧。</a:t>
            </a:r>
            <a:br>
              <a:rPr sz="28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6:15:49Z</dcterms:created>
  <dc:creator>Administrator</dc:creator>
  <dc:description/>
  <cp:keywords/>
  <dc:language>en-US</dc:language>
  <cp:lastModifiedBy>Administrator</cp:lastModifiedBy>
  <dcterms:modified xsi:type="dcterms:W3CDTF">2017-03-09T02:24:1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