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149-CE04-4728-A89B-2594384E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184-595A-484D-99B8-37052263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EE4-802D-4023-9483-444D24C6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42F-74C7-45A0-8EB1-40DD54D9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B074-072F-4BDA-8B0F-8F9ED3D5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5FA1-027F-4256-A45F-60CF34EE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04C-497C-475A-A9E2-8D7C004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1F94-3D7D-44CE-8D1E-1033293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0EE7-2C97-4EB9-A5E9-721334F4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BD48-1FFB-4919-A8B1-2F8FB5C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4146-085E-4018-981C-7547DCC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64E-4A57-4349-9317-B52282F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AC71-F13C-41D6-BBDF-84E0C767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C5D6-6DD8-4043-B759-6D565B15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2059-C365-40C8-8634-7515EF4C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524A-DF24-4AB2-BCB0-46F18891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1BA3-68EE-4AEA-BC94-56B38322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8EF-C374-41DE-95A2-788E663F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D14-A8DB-465A-BD29-69CC87D9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168-2694-4ADA-9E2E-147F6A6B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47A-BE70-4CA2-93F6-2D03DDB9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78A-C13E-4BA9-8B43-CBC1DD5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A10-512E-47AF-8C04-EF95B894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868-7180-46B5-A8CB-649004A4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C437-B360-4A98-B6D3-0E18D25F7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A347-89A0-4951-8371-345AB2ABD9D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3" name="Picture 5" descr="图片1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2971800" y="1371600"/>
            <a:ext cx="304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炮手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00096b42b94709af024f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00096b42b94709af0242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s_dffce0c04cd649116137946e357d5f5c197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Picture 12" descr="121185738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762120" y="838080"/>
            <a:ext cx="72388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记住下列关于奉献的格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春蚕到死丝方尽，蜡炬成灰泪始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—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唐）李商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762120" y="259092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个人的价值，应当看他贡献什么，而不应当看他取得什么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—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英国）爱因斯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生命的意义在于奉献，而不在于索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—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苏联）高尔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好想是一只牛，吃的是草，挤出的是奶、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—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鲁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Picture 4" descr="88b9b3ed4b109a2127979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0" y="2133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PMingLiU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PMingLiU"/>
              </a:rPr>
              <a:t>正是因为有了这样伟大的炮手和其他乐于奉献的士兵，战争终于取得了胜利。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那么战争结束后，炮手回到了故乡，他是怎么做的呢？也许他依然奉献着自己的一切</a:t>
            </a:r>
            <a:r>
              <a:rPr b="0" lang="zh-CN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85800" y="60948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ff"/>
                </a:solidFill>
                <a:latin typeface="Tahoma"/>
              </a:rPr>
              <a:t>续 编 故 事：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图片1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7" name="Picture 5" descr="tu9"/>
          <p:cNvPicPr/>
          <p:nvPr/>
        </p:nvPicPr>
        <p:blipFill>
          <a:blip r:embed="rId2"/>
          <a:srcRect l="0" t="5555" r="0" b="6666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90920" y="3808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Arial"/>
              </a:rPr>
              <a:t>自读提示</a:t>
            </a:r>
            <a:r>
              <a:rPr b="1" lang="en-US" sz="96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04920" y="25146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从文中找出表现炮手神态变化的词语和句子，体会炮手心情的变化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380880"/>
            <a:ext cx="914400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将军用望远镜仔细地瞭望着河对岸的小村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喂，炮手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将军没有回头，高声叫道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是，将军！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一个脸色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苍白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的士兵应道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你看到那座桥了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看得很清楚，将军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看到左边的农舍了吗？就在丛林后面，那座红瓦白墙的房子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457200" y="1523880"/>
            <a:ext cx="807732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士兵的脸色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煞白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我看到了，将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这是德军的一个驻地，伙计，给它一炮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炮手的脸色更加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惨白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了。裹着大衣的军官们在凛冽的寒风中打颤，可炮手的前额上却滚下了大粒的汗珠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他服从了命令，仔细瞄准目标，开了一炮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66"/>
                </a:solidFill>
                <a:latin typeface="Arial"/>
              </a:rPr>
              <a:t>学法指导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3360" y="13712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对话中抓住人物的神态描写，反映人物的内心活动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609480" y="1219320"/>
            <a:ext cx="79250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干得好，伙计！这座农舍看来不太结实，它全垮了！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将军连声喝彩，回头微笑着看看炮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Tahoma"/>
              </a:rPr>
              <a:t>可是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，他吃了一惊：炮手的脸颊上流下了两行热泪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914400" y="3809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采用对比的修辞手法，把炮手与别人的对比，更突出了他的心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66"/>
                </a:solidFill>
                <a:latin typeface="Arial"/>
              </a:rPr>
              <a:t>仿写句子：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寒风呼呼地刮着，操场上，同学们却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教室里，大家都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强却凝神盯着窗外树上的小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0060419142452922"/>
          <p:cNvPicPr/>
          <p:nvPr/>
        </p:nvPicPr>
        <p:blipFill>
          <a:blip r:embed="rId1"/>
          <a:srcRect l="0" t="0" r="0" b="88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b67dc80b8807970295ca6bd6"/>
          <p:cNvPicPr/>
          <p:nvPr/>
        </p:nvPicPr>
        <p:blipFill>
          <a:blip r:embed="rId1"/>
          <a:srcRect l="0" t="0" r="12709" b="1444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nlu</cp:lastModifiedBy>
  <dcterms:modified xsi:type="dcterms:W3CDTF">2014-04-11T02:02:14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