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5AE-7273-41BC-9D15-CB90D5EC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160-6CB1-4647-95CE-97A726D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6F8-4986-4378-B51F-4A986937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E31-B329-41CA-B591-8A406C4A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065-B355-4D3D-8083-A2BFBE69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556-F73B-4668-A3FE-EABA6DDB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289-8F7B-4B95-83F7-4BF5823D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999-887A-43C0-ADAF-161A10A7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CA1-E515-4C8E-BD2A-E7D9B035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85B-7FEF-4471-A264-3DF2489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A4A-375E-47E1-B156-0883AC4A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4B9-5982-48B4-80AC-5E5D8D9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D9C9-2A2E-4B49-8FDD-7A05F7CC5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G:\平台资源工作指导\背景图\6.jpg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1835280" y="1357200"/>
            <a:ext cx="5616360" cy="41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信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468360" y="476280"/>
            <a:ext cx="85327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１、读准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雏鸟　回巢　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姹紫嫣红　风平浪静　绵绵春雨　无边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11280" y="2637000"/>
            <a:ext cx="7777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试试你身手，先把词语补充完整，再试着说几个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例：风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浪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山（　）水（　）　　风（　）日（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情（　）谊（　）　　窗（　）几（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1692360" y="2133720"/>
            <a:ext cx="22302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067280" y="2133720"/>
            <a:ext cx="2665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航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心贴得紧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364000" y="2133720"/>
            <a:ext cx="16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平浪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68360" y="907920"/>
            <a:ext cx="8532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根据提示，背诵课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　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539640" y="620640"/>
            <a:ext cx="813600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１、任选一个词语，写一句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姹紫嫣红　　风平浪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539640" y="620640"/>
            <a:ext cx="813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１、抄写词语，一词一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雏鸟　黄昏　风平浪静　森林　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２、有感情地朗读课文，背诵诗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468360" y="549360"/>
            <a:ext cx="2232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771640" y="549360"/>
            <a:ext cx="1150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航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贴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068720" y="549360"/>
            <a:ext cx="165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平浪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14200" y="4714920"/>
            <a:ext cx="69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　　因为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所以替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给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写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               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539640" y="620640"/>
            <a:ext cx="8136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模仿课文的样子，写几句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第一节可以用，也可以自己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我学会了写信，　　　　　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用笔和纸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用手和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我多么想写信啊，　　　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写许多许多的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724360" y="364500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5724360" y="4149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39640" y="83664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认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。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姹紫嫣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平浪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默读课文。理解课文内容，体会句子的含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自己的心和别人的心，贴得紧紧、紧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、流利地朗读课文，背诵全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了解书信是人与人情感交流、心灵沟通的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信"/>
          <p:cNvPicPr/>
          <p:nvPr/>
        </p:nvPicPr>
        <p:blipFill>
          <a:blip r:embed="rId2"/>
          <a:stretch/>
        </p:blipFill>
        <p:spPr>
          <a:xfrm>
            <a:off x="1116000" y="476280"/>
            <a:ext cx="6872400" cy="5497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1476360" y="1484280"/>
            <a:ext cx="2303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高蹺(早熟型雛鳥)"/>
          <p:cNvPicPr/>
          <p:nvPr/>
        </p:nvPicPr>
        <p:blipFill>
          <a:blip r:embed="rId2"/>
          <a:stretch/>
        </p:blipFill>
        <p:spPr>
          <a:xfrm>
            <a:off x="5076720" y="692280"/>
            <a:ext cx="316872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" name="Text Box 9"/>
          <p:cNvSpPr/>
          <p:nvPr/>
        </p:nvSpPr>
        <p:spPr>
          <a:xfrm>
            <a:off x="6372360" y="3645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427640" y="42051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425840" y="4653000"/>
            <a:ext cx="4610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雏（   ）准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推（   ）难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95280" y="62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信都是替谁写给谁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1"/>
          <p:cNvSpPr/>
          <p:nvPr/>
        </p:nvSpPr>
        <p:spPr>
          <a:xfrm>
            <a:off x="395280" y="62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信都是替谁写给谁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476360" y="1484280"/>
            <a:ext cx="2303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026"/>
          <p:cNvPicPr/>
          <p:nvPr/>
        </p:nvPicPr>
        <p:blipFill>
          <a:blip r:embed="rId2"/>
          <a:srcRect l="19232" t="0" r="3307" b="0"/>
          <a:stretch/>
        </p:blipFill>
        <p:spPr>
          <a:xfrm>
            <a:off x="4859280" y="981000"/>
            <a:ext cx="3382920" cy="29116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Text Box 8"/>
          <p:cNvSpPr/>
          <p:nvPr/>
        </p:nvSpPr>
        <p:spPr>
          <a:xfrm>
            <a:off x="3637080" y="1484280"/>
            <a:ext cx="1871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航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贴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田字格"/>
          <p:cNvPicPr/>
          <p:nvPr/>
        </p:nvPicPr>
        <p:blipFill>
          <a:blip r:embed="rId3"/>
          <a:stretch/>
        </p:blipFill>
        <p:spPr>
          <a:xfrm>
            <a:off x="5724360" y="2924280"/>
            <a:ext cx="302436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Text Box 12"/>
          <p:cNvSpPr/>
          <p:nvPr/>
        </p:nvSpPr>
        <p:spPr>
          <a:xfrm>
            <a:off x="6390000" y="26654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巢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476360" y="1484280"/>
            <a:ext cx="2303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95280" y="620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信的内容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4788000" y="1482840"/>
            <a:ext cx="165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平浪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00120" y="52862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姹紫嫣红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容各种好看的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476360" y="1484280"/>
            <a:ext cx="2303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637080" y="1484280"/>
            <a:ext cx="1871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航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贴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95280" y="62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要写这些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68360" y="549360"/>
            <a:ext cx="2232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771640" y="549360"/>
            <a:ext cx="1150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航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贴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068720" y="549360"/>
            <a:ext cx="165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平浪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68360" y="43657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、因为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所以我写信给小船，让她快去航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3840" y="4869000"/>
            <a:ext cx="828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２、我要替雏鸟给鸟妈妈写信，是因为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她快快回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9"/>
          <p:cNvSpPr/>
          <p:nvPr/>
        </p:nvSpPr>
        <p:spPr>
          <a:xfrm>
            <a:off x="1476360" y="20494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让自己的心和别人的心，贴得紧紧、紧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857680" y="207180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自己的心　别人的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428920" y="28576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紧紧、紧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nlu</cp:lastModifiedBy>
  <dcterms:modified xsi:type="dcterms:W3CDTF">2014-04-14T02:26:55Z</dcterms:modified>
  <cp:revision>27</cp:revision>
  <dc:subject/>
  <dc:title>幻灯片 1</dc:title>
</cp:coreProperties>
</file>