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5.jpeg" ContentType="image/jpeg"/>
  <Override PartName="/ppt/media/image6.gif" ContentType="image/gif"/>
  <Override PartName="/ppt/media/image11.jpeg" ContentType="image/jpeg"/>
  <Override PartName="/ppt/media/chimes.wav" ContentType="audio/x-wav"/>
  <Override PartName="/ppt/media/image16.png" ContentType="image/png"/>
  <Override PartName="/ppt/media/image21.png" ContentType="image/png"/>
  <Override PartName="/ppt/media/image19.gif" ContentType="image/gif"/>
  <Override PartName="/ppt/media/image10.png" ContentType="image/png"/>
  <Override PartName="/ppt/media/image4.gif" ContentType="image/gif"/>
  <Override PartName="/ppt/media/image1.jpeg" ContentType="image/jpeg"/>
  <Override PartName="/ppt/media/image15.gif" ContentType="image/gif"/>
  <Override PartName="/ppt/media/image14.jpeg" ContentType="image/jpeg"/>
  <Override PartName="/ppt/media/image18.gif" ContentType="image/gif"/>
  <Override PartName="/ppt/media/image13.jpeg" ContentType="image/jpeg"/>
  <Override PartName="/ppt/media/image20.gif" ContentType="image/gif"/>
  <Override PartName="/ppt/media/image2.png" ContentType="image/png"/>
  <Override PartName="/ppt/media/image22.gif" ContentType="image/gif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1A25-A47E-43D0-8E13-5AAB2D44C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8215-5D4F-4FAE-A67F-971887E6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0EE27-9B43-4A24-BCF5-3FFF5191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45423-77FE-4537-BE46-BE84B430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D12C2A-25CD-431A-98DA-D945ABCB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CF53F-7F53-480F-94AD-55C155DE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67047-5531-4627-8479-FCA799B6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72F99-7763-492A-AA66-F5FE2448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F1BD6-6D92-451F-A1B2-387B630B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C70DB-2CCD-42A4-AF5F-C79A93F7E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2707C-AC4A-4195-9383-57DF6A32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3373C-C456-45A1-9A9B-90924B22C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E61D-09C6-423E-B1B3-D3A5BE7A9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6C9A2-BCED-43E4-A32F-69C1E6EE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36299F-9F29-4808-9081-3CC7540B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92B58-9A17-4134-8108-D6CEEEC4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986AE-BDF4-4EFC-BD7A-9E29789A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55D8B-F888-4EFA-A776-50C7559C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ACD7B-D26F-4D49-9D48-2BFEDE45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CE265-F2C7-4A9B-96F9-89D0AADD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85EE4-C705-4521-88AC-C3CD8881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3EF32-3FF8-41DF-BA79-B2905158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92C60-2EAD-4A9D-BD73-443431907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BD04-9CDE-4BE5-8F57-B88DEF1A2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CE69C-63EC-447D-B072-C9D163716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03E3F-096A-410F-8F9F-B1C99015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21CB6-5B35-42E2-8BC0-D1823D5E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AB6E0-4A62-4052-B49C-C18627AC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37DC6-DC68-4710-BDA2-08E6B64A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A381E-D3E1-4025-BCC1-48C103AD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434C6-7A41-4887-890A-BA03B276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26E8E-18B1-4D1B-892E-BDB2392F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EC0F1-9592-4D9B-B100-28B55C69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BE4B2-1F6C-4DB2-A6B1-871E3A6A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AB21-6E20-4E48-9B0D-746F4D956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E412D-BE2F-4219-A4A4-C72F0D67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05AC2-3BA3-4F45-88C8-B0397B7A7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E5B1A-DDFB-443D-A5C2-435A949E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B523C0-B66C-4DEA-AA35-CFCF25301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7DA753-B992-41D9-8786-E1BF690A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ACF2CB-E40C-439D-9FF8-14AB0D45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AB8DC4-D60A-487E-8295-4755B53F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B5B1C8-2206-406E-9D5B-F29C0487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8ED30-3703-4611-BCB6-6221712F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A0E9D6-56FA-473C-9A99-C7D6B460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6AB0-A85E-4098-8526-BD13E414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CD757-450C-4918-B1A6-EC55029C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40DFC8-D9D0-4047-A52E-08D8CFC0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B048D-6F1B-42B8-8E42-DA440B5F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221A6-CD84-4F3A-9FBD-A86AFC744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F4E91E-7AF7-4854-A1F0-F485307B9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C237-11AF-4804-B8A9-0BC81101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36C6-76FC-45AA-ACC3-C9433F85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499E-AF90-4359-A4AC-6CF9B8B6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8CB6-37D5-4585-AA5A-F7D560BE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5286-CFC6-4C5E-A300-5359C1A8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6ED0-5992-4A5D-B07B-97186193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F3AC-7434-4D3F-82D8-4E8938DB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872C-2369-45E6-B1D1-CF442A6C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0DB2-4D71-4A9C-9C06-160EDFCD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9A9F-91A6-4A85-AFAB-DED3043A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DDDE-9EE2-4E98-ACF8-A46E13AB1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152C6-0620-447E-97A6-0F724F54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8B310-A6D3-45D4-AC88-61927B48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44DA6-8319-4CE8-B0E2-4E9B07CF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4625E-3C81-44BA-B29A-634DAC09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7AC12-6C01-4E13-B402-7BC534E5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BA19-A5E9-4FB8-87A0-7793075F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B0F19-4CD7-4363-8F68-90DF77E6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5D0A4-83A1-4EEB-B2FC-90856B08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D4260-3709-45F6-8E20-4108EDE4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8F00F-E9D8-4D02-B8F0-BC3FD06E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65132-A850-443A-ADFB-AE2310F8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739A5-C45B-4F3B-B0CF-1A80D596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BE48B-829E-460C-9274-AB18E669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139C8-84C9-412C-9A4E-4EF1CD54B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BBDA0-C83B-4311-B658-96215381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B051D-FE2D-4B96-91A7-B7E38F8F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78CD-77A2-4D80-8449-B2F41635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709D3-5E1E-42DD-9607-20231CC0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6031A-2C2A-426D-886F-63985E2F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5B052-CD52-4A95-ADA8-6A9A029D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5859F-D6B3-4845-8904-8242C5BD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3EA62-303C-4F2C-87D6-8655C5E3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B8320-BA00-4E8A-AAC0-1C127B64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5DDE1-FBEE-4F39-B41E-F2859ACC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1D7AC-A49E-4C2C-8D8A-5A7EE629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A500C-007A-4318-90C5-FE352EFA5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88A9E-09CE-4367-BCC7-68BBA4F10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DAE1-74FA-48F5-8B87-5B2951A7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AAF28-BD9D-4E2A-94E4-E05206E3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B025E-B8FB-49D1-AB8B-587A8CBB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2EC87-CE7C-4993-9F0E-F59BFF81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D5D87-4B71-47B1-ACA3-95D44973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241E0-036C-46AE-8364-DAD32F39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D273A-6F71-4B92-8C1B-EA30A278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31669-B2EE-4FB5-B625-34426BE1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A6ECD-0290-4801-ACFC-62D7F961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9BF45-D16F-44FC-B28B-93DFCF58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4D967-C4E7-479B-95CC-5A1CC04B5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AB46-FC6F-4214-BF4B-B12AAF76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B1EC5-B3C3-4823-9CB1-9C7B68BFD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4877E-9F5C-4FF9-B773-53DD2C04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59956-A38E-4EC0-8924-3023A266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A5A62-61DA-4D17-AD7C-41DB38F6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0CFA9-EC1C-4032-BEA3-A90D57A2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349A0-1328-4DE3-A997-3F1FCAD3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7E8D8-1279-488F-B43B-DFE206CC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AD0DB-D75A-4AE9-916F-DB2D88A5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F5827-36CB-40E7-B540-D3553504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5D0B5-8CBF-4E81-BF45-ED691873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B913-6053-417F-AB0C-12E18D92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6CB2B-7B7A-4E60-9F5B-7BE3F34F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086B6-AFEC-4F23-975A-B9AE2F00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89651-535C-484D-8AA3-A9ED13D82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1BE35-5997-43B0-8787-0EFDD6F2C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AAAD1-364D-4462-893D-17C9E690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040DB-D49E-4193-B5FD-51FE75E6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05031-B60B-45B6-878C-541F9717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B926D-7BB7-4CE0-9205-A8AE7FE4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A3E8B-0371-41FD-B091-AE7E1F52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1104E-575D-4AC0-997F-A098175E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3598-C21B-41F2-80CB-CEF7D33E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3D293-E3A8-421F-B119-BC97C334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2A246-74AF-4A46-87B1-15D52E16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1EFF2-02A9-4507-8ECB-2C4F7BAF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08B77-08BC-4407-9193-E88B4B3D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F50E2-BD03-4059-868A-6A615A9A7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2EFEE-9CC5-4128-974A-6276EDBD5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CCB60-6E57-48C1-8BCA-FB3399FF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611AC-5347-483B-A251-B5E98832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D85B2-196D-41F3-AF49-73EB384C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6AA94-D3B1-4583-9875-4EB1BE13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DCE4-5676-47F4-80EE-3192BA82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37089-F985-495D-9030-82B03506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DCAE7-6D29-46A4-BC54-035D1A53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9EEE0-1CD7-40BB-B499-B68E2B6C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A9BDF-EB45-403D-8A42-F458747C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66B1B-FC72-4EB3-A470-EDF6C70F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5B0F4-826B-4E2F-9E87-7338D7FC9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09288-DEA3-48B1-BF27-6D3D091F3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C7993-05FB-42A5-83FF-97ED6CAF0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42FD4-520F-4158-9E80-816E1E5C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74998-1135-4F1C-951B-15DAAB00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6F2E-EFE7-493E-9142-9CFE5BE8C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026F-557B-4859-ACD9-CF0A03503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FB0F-7A24-4D35-A6C2-E2E1E4ACD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E5CC-7E70-4F2B-8FD9-20D1AF390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9121-475C-4F4B-B73F-61B75E3A6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DC66-CD00-4C2F-943E-6F1586356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51CF-0938-4947-B447-A1D054865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5CD6-8EDD-4919-848A-32B033078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B767-5DFA-4517-97F0-56513FBDE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A16B-B987-4CFA-914E-7FBFA4D36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C313-396F-49A1-848D-FEDF3DA04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3564-CD5B-45DB-ADB1-1EBD2B50B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8.gif"/><Relationship Id="rId11" Type="http://schemas.openxmlformats.org/officeDocument/2006/relationships/image" Target="../media/image9.gif"/><Relationship Id="rId1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6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WordArt 10"/>
          <p:cNvSpPr txBox="1"/>
          <p:nvPr/>
        </p:nvSpPr>
        <p:spPr>
          <a:xfrm>
            <a:off x="428760" y="285840"/>
            <a:ext cx="4608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美丽的小兴安岭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4" descr="01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5"/>
          <p:cNvSpPr/>
          <p:nvPr/>
        </p:nvSpPr>
        <p:spPr>
          <a:xfrm>
            <a:off x="250920" y="2060640"/>
            <a:ext cx="60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隶书"/>
                <a:ea typeface="隶书"/>
              </a:rPr>
              <a:t>夏天 ，树木长得葱葱茏茏的，密密麻麻的枝叶把森林封的严严实实的，挡着了人们的视线，遮住了蓝蓝的天空。早晨，雾从山谷里升起来，整个森林浸在乳白色的浓雾里。太阳出来了，千万缕像利剑一样的金光穿过了树梢，照在了开着鲜花的草地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4" descr="h1"/>
          <p:cNvPicPr/>
          <p:nvPr/>
        </p:nvPicPr>
        <p:blipFill>
          <a:blip r:embed="rId2"/>
          <a:stretch/>
        </p:blipFill>
        <p:spPr>
          <a:xfrm>
            <a:off x="2631960" y="152280"/>
            <a:ext cx="1406520" cy="7430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5" descr="h1"/>
          <p:cNvPicPr/>
          <p:nvPr/>
        </p:nvPicPr>
        <p:blipFill>
          <a:blip r:embed="rId3"/>
          <a:stretch/>
        </p:blipFill>
        <p:spPr>
          <a:xfrm>
            <a:off x="0" y="0"/>
            <a:ext cx="1406520" cy="9907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6" descr="h1"/>
          <p:cNvPicPr/>
          <p:nvPr/>
        </p:nvPicPr>
        <p:blipFill>
          <a:blip r:embed="rId4"/>
          <a:stretch/>
        </p:blipFill>
        <p:spPr>
          <a:xfrm>
            <a:off x="1336680" y="0"/>
            <a:ext cx="1406520" cy="9907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7" descr="h1"/>
          <p:cNvPicPr/>
          <p:nvPr/>
        </p:nvPicPr>
        <p:blipFill>
          <a:blip r:embed="rId5"/>
          <a:stretch/>
        </p:blipFill>
        <p:spPr>
          <a:xfrm>
            <a:off x="4003560" y="0"/>
            <a:ext cx="1559160" cy="1098720"/>
          </a:xfrm>
          <a:prstGeom prst="rect">
            <a:avLst/>
          </a:prstGeom>
          <a:ln w="0">
            <a:noFill/>
          </a:ln>
        </p:spPr>
      </p:pic>
      <p:sp>
        <p:nvSpPr>
          <p:cNvPr id="534" name="WordArt 8"/>
          <p:cNvSpPr txBox="1"/>
          <p:nvPr/>
        </p:nvSpPr>
        <p:spPr>
          <a:xfrm>
            <a:off x="685800" y="5638680"/>
            <a:ext cx="167652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ffff"/>
                </a:solidFill>
                <a:latin typeface="华文行楷"/>
              </a:rPr>
              <a:t>秋天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华文行楷"/>
              <a:ea typeface="华文行楷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75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1981080" y="19810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黑体"/>
              </a:rPr>
              <a:t>秋天，白桦和栎树的叶子变黄了，松柏显的更苍翠了。秋风吹来，落叶在林间飞舞。这时候，森林向人们显出了酸甜可口的葡萄，又香又甜的榛子还有很多的名贵药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4" presetSubtype="5">
                                  <p:stCondLst>
                                    <p:cond delay="1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5" dur="75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" descr="熊"/>
          <p:cNvPicPr/>
          <p:nvPr/>
        </p:nvPicPr>
        <p:blipFill>
          <a:blip r:embed="rId2"/>
          <a:stretch/>
        </p:blipFill>
        <p:spPr>
          <a:xfrm>
            <a:off x="4643280" y="3860640"/>
            <a:ext cx="762120" cy="16002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" descr="兔2"/>
          <p:cNvPicPr/>
          <p:nvPr/>
        </p:nvPicPr>
        <p:blipFill>
          <a:blip r:embed="rId3"/>
          <a:stretch/>
        </p:blipFill>
        <p:spPr>
          <a:xfrm>
            <a:off x="5508720" y="5300640"/>
            <a:ext cx="1406520" cy="8352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6" descr="兔"/>
          <p:cNvPicPr/>
          <p:nvPr/>
        </p:nvPicPr>
        <p:blipFill>
          <a:blip r:embed="rId4"/>
          <a:stretch/>
        </p:blipFill>
        <p:spPr>
          <a:xfrm>
            <a:off x="3348000" y="5157720"/>
            <a:ext cx="606600" cy="846360"/>
          </a:xfrm>
          <a:prstGeom prst="rect">
            <a:avLst/>
          </a:prstGeom>
          <a:ln w="0">
            <a:noFill/>
          </a:ln>
        </p:spPr>
      </p:pic>
      <p:sp>
        <p:nvSpPr>
          <p:cNvPr id="539" name="WordArt 7"/>
          <p:cNvSpPr txBox="1"/>
          <p:nvPr/>
        </p:nvSpPr>
        <p:spPr>
          <a:xfrm>
            <a:off x="609480" y="5562720"/>
            <a:ext cx="16765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a50021"/>
                </a:solidFill>
                <a:latin typeface="华文行楷"/>
              </a:rPr>
              <a:t>冬天</a:t>
            </a:r>
            <a:endParaRPr b="0" lang="en-US" sz="2400" spc="1" strike="noStrike">
              <a:ln w="0">
                <a:noFill/>
              </a:ln>
              <a:solidFill>
                <a:srgbClr val="a50021"/>
              </a:solidFill>
              <a:latin typeface="华文行楷"/>
              <a:ea typeface="华文行楷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2124000" y="184464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冬天，雪花在空中飞舞，树上积满了白雪。地上的雪厚厚的，又松又软，常常没过脚面。黑熊和兔子只好出来在外面找吃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6" dur="75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3"/>
          <p:cNvSpPr/>
          <p:nvPr/>
        </p:nvSpPr>
        <p:spPr>
          <a:xfrm>
            <a:off x="1981080" y="1143000"/>
            <a:ext cx="7010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黑体"/>
              </a:rPr>
              <a:t>春天：  树木    小溪    小鹿       原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黑体"/>
              </a:rPr>
              <a:t>夏天：  树木    晨雾    草地       野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黑体"/>
              </a:rPr>
              <a:t>秋天：  树木    落叶   太阳       木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Times New Roman"/>
                <a:ea typeface="黑体"/>
              </a:rPr>
              <a:t>冬天：  树木    积雪    西北风   紫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5"/>
          <p:cNvSpPr/>
          <p:nvPr/>
        </p:nvSpPr>
        <p:spPr>
          <a:xfrm>
            <a:off x="7696080" y="1314360"/>
            <a:ext cx="304920" cy="4038840"/>
          </a:xfrm>
          <a:custGeom>
            <a:avLst/>
            <a:gdLst>
              <a:gd name="textAreaLeft" fmla="*/ 0 w 304920"/>
              <a:gd name="textAreaRight" fmla="*/ 110160 w 304920"/>
              <a:gd name="textAreaTop" fmla="*/ 105120 h 4038840"/>
              <a:gd name="textAreaBottom" fmla="*/ 3933720 h 403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8077320" y="1695600"/>
            <a:ext cx="761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黑体"/>
              </a:rPr>
              <a:t>花园宝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utoShape 7"/>
          <p:cNvSpPr/>
          <p:nvPr/>
        </p:nvSpPr>
        <p:spPr>
          <a:xfrm>
            <a:off x="1528920" y="1309680"/>
            <a:ext cx="380880" cy="4114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8"/>
          <p:cNvSpPr/>
          <p:nvPr/>
        </p:nvSpPr>
        <p:spPr>
          <a:xfrm>
            <a:off x="-152640" y="1295280"/>
            <a:ext cx="1521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美丽的小兴安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6"/>
          <p:cNvSpPr/>
          <p:nvPr/>
        </p:nvSpPr>
        <p:spPr>
          <a:xfrm>
            <a:off x="611280" y="213372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黑体"/>
              </a:rPr>
              <a:t>通过对这篇课文的学习，我们知道了小兴安岭一年四季景色优美，物产丰富。我们还掌握了学习的方法，并能应用这种方法自己学习，非常成功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Picture 7" descr="花6"/>
          <p:cNvPicPr/>
          <p:nvPr/>
        </p:nvPicPr>
        <p:blipFill>
          <a:blip r:embed="rId1"/>
          <a:stretch/>
        </p:blipFill>
        <p:spPr>
          <a:xfrm>
            <a:off x="7956720" y="4581360"/>
            <a:ext cx="1028520" cy="18288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花6"/>
          <p:cNvPicPr/>
          <p:nvPr/>
        </p:nvPicPr>
        <p:blipFill>
          <a:blip r:embed="rId2"/>
          <a:stretch/>
        </p:blipFill>
        <p:spPr>
          <a:xfrm>
            <a:off x="324000" y="4797360"/>
            <a:ext cx="771480" cy="13716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9" descr="花6"/>
          <p:cNvPicPr/>
          <p:nvPr/>
        </p:nvPicPr>
        <p:blipFill>
          <a:blip r:embed="rId3"/>
          <a:stretch/>
        </p:blipFill>
        <p:spPr>
          <a:xfrm>
            <a:off x="7020000" y="4653000"/>
            <a:ext cx="1028520" cy="1828800"/>
          </a:xfrm>
          <a:prstGeom prst="rect">
            <a:avLst/>
          </a:prstGeom>
          <a:ln w="0">
            <a:noFill/>
          </a:ln>
        </p:spPr>
      </p:pic>
      <p:sp>
        <p:nvSpPr>
          <p:cNvPr id="550" name="WordArt 12"/>
          <p:cNvSpPr txBox="1"/>
          <p:nvPr/>
        </p:nvSpPr>
        <p:spPr>
          <a:xfrm>
            <a:off x="2556000" y="549360"/>
            <a:ext cx="3733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a50021"/>
                </a:solidFill>
                <a:latin typeface="华文行楷"/>
              </a:rPr>
              <a:t>小结</a:t>
            </a:r>
            <a:endParaRPr b="0" lang="en-US" sz="2400" spc="1" strike="noStrike">
              <a:ln w="0">
                <a:noFill/>
              </a:ln>
              <a:solidFill>
                <a:srgbClr val="a50021"/>
              </a:solidFill>
              <a:latin typeface="华文行楷"/>
              <a:ea typeface="华文行楷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75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4" descr="Pi_21800"/>
          <p:cNvPicPr/>
          <p:nvPr/>
        </p:nvPicPr>
        <p:blipFill>
          <a:blip r:embed="rId1"/>
          <a:stretch/>
        </p:blipFill>
        <p:spPr>
          <a:xfrm>
            <a:off x="3492360" y="4724280"/>
            <a:ext cx="2664000" cy="169560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5"/>
          <p:cNvSpPr/>
          <p:nvPr/>
        </p:nvSpPr>
        <p:spPr>
          <a:xfrm>
            <a:off x="4474440" y="35542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0000"/>
                </a:solidFill>
                <a:latin typeface="Times New Roman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WordArt 6"/>
          <p:cNvSpPr txBox="1"/>
          <p:nvPr/>
        </p:nvSpPr>
        <p:spPr>
          <a:xfrm>
            <a:off x="1981080" y="1143000"/>
            <a:ext cx="5257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5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达标测评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3"/>
          <p:cNvSpPr/>
          <p:nvPr/>
        </p:nvSpPr>
        <p:spPr>
          <a:xfrm>
            <a:off x="609480" y="914400"/>
            <a:ext cx="7848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一、回答问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本文是按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___ 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、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___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___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___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的季节顺序，描写了小兴安岭美丽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_______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和丰富的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_______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4"/>
          <p:cNvSpPr/>
          <p:nvPr/>
        </p:nvSpPr>
        <p:spPr>
          <a:xfrm>
            <a:off x="1369080" y="230652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二、填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974880" y="344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1447920" y="3171960"/>
          <a:ext cx="6095880" cy="283500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季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描写景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8" name="Text Box 36"/>
          <p:cNvSpPr/>
          <p:nvPr/>
        </p:nvSpPr>
        <p:spPr>
          <a:xfrm>
            <a:off x="2604240" y="1447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38"/>
          <p:cNvSpPr/>
          <p:nvPr/>
        </p:nvSpPr>
        <p:spPr>
          <a:xfrm>
            <a:off x="3408480" y="1447920"/>
            <a:ext cx="58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9"/>
          <p:cNvSpPr/>
          <p:nvPr/>
        </p:nvSpPr>
        <p:spPr>
          <a:xfrm>
            <a:off x="4254480" y="1447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40"/>
          <p:cNvSpPr/>
          <p:nvPr/>
        </p:nvSpPr>
        <p:spPr>
          <a:xfrm>
            <a:off x="5016240" y="1447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41"/>
          <p:cNvSpPr/>
          <p:nvPr/>
        </p:nvSpPr>
        <p:spPr>
          <a:xfrm>
            <a:off x="2792160" y="1828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景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42"/>
          <p:cNvSpPr/>
          <p:nvPr/>
        </p:nvSpPr>
        <p:spPr>
          <a:xfrm>
            <a:off x="5078160" y="1828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物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43"/>
          <p:cNvSpPr/>
          <p:nvPr/>
        </p:nvSpPr>
        <p:spPr>
          <a:xfrm>
            <a:off x="5536800" y="3733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柳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4"/>
          <p:cNvSpPr/>
          <p:nvPr/>
        </p:nvSpPr>
        <p:spPr>
          <a:xfrm>
            <a:off x="5546880" y="6497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45"/>
          <p:cNvSpPr/>
          <p:nvPr/>
        </p:nvSpPr>
        <p:spPr>
          <a:xfrm>
            <a:off x="5533560" y="4343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绿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46"/>
          <p:cNvSpPr/>
          <p:nvPr/>
        </p:nvSpPr>
        <p:spPr>
          <a:xfrm>
            <a:off x="5533560" y="4876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落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47"/>
          <p:cNvSpPr/>
          <p:nvPr/>
        </p:nvSpPr>
        <p:spPr>
          <a:xfrm>
            <a:off x="5532120" y="548640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白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4"/>
          <p:cNvSpPr/>
          <p:nvPr/>
        </p:nvSpPr>
        <p:spPr>
          <a:xfrm>
            <a:off x="214200" y="357120"/>
            <a:ext cx="83995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、课文中有许多词语用得准确、生动，根据课文填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春天，树木（     ）新的枝条，长出嫩绿的叶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夏天，密密层层的枝叶把森林（     ）得严严实实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秋风吹来，落叶在林间（        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西北风呼呼地（      ）过树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、例：千万缕像利剑一样的金光，穿过树梢，照射在工人宿舍门前的草地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说一句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Times New Roman"/>
                <a:ea typeface="隶书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会作者生动、准确的语言，学习作者抓住景物观察事物方法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背诵自己喜欢的段落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了解小兴安岭美丽的景色和丰富的物产，激发同学们热爱祖国大好河山的思想感情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隶书"/>
              </a:rPr>
              <a:t>拓展练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喜欢小兴安岭吗？你愿意做个小导游，把你喜欢的那一季节的景色介绍给大家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小兴安岭是一座巨大的宝库，又是一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大花园，我们如何对待已拥有的一切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WordArt 11"/>
          <p:cNvSpPr txBox="1"/>
          <p:nvPr/>
        </p:nvSpPr>
        <p:spPr>
          <a:xfrm>
            <a:off x="2050920" y="1989000"/>
            <a:ext cx="532944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再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小兴安岭是我国的重要林区之一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长约三百六十公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平均高度为海拔四百至六百米。整个山分布着温带针叶、落叶和阔叶混合林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它与大兴安岭、长白山同是我国最大的林区。它们集中了全国木材蓄积量的三分之一以上。林中主要的针叶树木有红松、沙松等。森林中有梅花鹿、紫貂和东北虎等珍贵的动物。林地上生长着人参、乌拉草及其他珍贵的药材。其中“三北”防护林体系被称为“世界上最大的生态工程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4"/>
          <p:cNvSpPr/>
          <p:nvPr/>
        </p:nvSpPr>
        <p:spPr>
          <a:xfrm>
            <a:off x="6461280" y="47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Group 15"/>
          <p:cNvGrpSpPr/>
          <p:nvPr/>
        </p:nvGrpSpPr>
        <p:grpSpPr>
          <a:xfrm>
            <a:off x="1258920" y="333360"/>
            <a:ext cx="6781680" cy="1008360"/>
            <a:chOff x="1258920" y="333360"/>
            <a:chExt cx="6781680" cy="1008360"/>
          </a:xfrm>
        </p:grpSpPr>
        <p:sp>
          <p:nvSpPr>
            <p:cNvPr id="498" name="Text Box 2"/>
            <p:cNvSpPr/>
            <p:nvPr/>
          </p:nvSpPr>
          <p:spPr>
            <a:xfrm>
              <a:off x="1944720" y="333360"/>
              <a:ext cx="6095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前提测评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9" name="Picture 3" descr="BD14578_"/>
            <p:cNvPicPr/>
            <p:nvPr/>
          </p:nvPicPr>
          <p:blipFill>
            <a:blip r:embed="rId1"/>
            <a:stretch/>
          </p:blipFill>
          <p:spPr>
            <a:xfrm>
              <a:off x="1258920" y="638280"/>
              <a:ext cx="5331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6" descr="BD14578_"/>
            <p:cNvPicPr/>
            <p:nvPr/>
          </p:nvPicPr>
          <p:blipFill>
            <a:blip r:embed="rId2"/>
            <a:stretch/>
          </p:blipFill>
          <p:spPr>
            <a:xfrm>
              <a:off x="5297400" y="657360"/>
              <a:ext cx="53352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Text Box 10"/>
          <p:cNvSpPr/>
          <p:nvPr/>
        </p:nvSpPr>
        <p:spPr>
          <a:xfrm>
            <a:off x="684360" y="1557360"/>
            <a:ext cx="7848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  <a:ea typeface="黑体"/>
              </a:rPr>
              <a:t>1.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黑体"/>
              </a:rPr>
              <a:t>正确读写词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黑体"/>
              </a:rPr>
              <a:t>踌躇       积雪       散步       照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黑体"/>
              </a:rPr>
              <a:t>葱葱茏茏      郁郁葱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11"/>
          <p:cNvSpPr/>
          <p:nvPr/>
        </p:nvSpPr>
        <p:spPr>
          <a:xfrm>
            <a:off x="539640" y="3933720"/>
            <a:ext cx="77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  <a:ea typeface="黑体"/>
              </a:rPr>
              <a:t>2.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黑体"/>
              </a:rPr>
              <a:t>课文可以分为几段？它们是怎样分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Picture 14" descr="孩子"/>
          <p:cNvPicPr/>
          <p:nvPr/>
        </p:nvPicPr>
        <p:blipFill>
          <a:blip r:embed="rId3"/>
          <a:stretch/>
        </p:blipFill>
        <p:spPr>
          <a:xfrm>
            <a:off x="6877080" y="4797360"/>
            <a:ext cx="172872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自读提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自由读描写春天的自然段，边读边画，把描写春天景物特点懂得词语用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——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线画出来，并说说你读懂了些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82692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、小组合作学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择你喜欢的季节读读，用刚才的学习方法学习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喜欢的这一季节的树木与春天树木有什么不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这个季节作者向我们描绘了哪些景物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说说你喜欢这个季节的原因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3" descr="chunti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93934" dir="3506058" blurRad="0" rotWithShape="0">
              <a:srgbClr val="808080"/>
            </a:outerShdw>
          </a:effectLst>
        </p:spPr>
      </p:pic>
      <p:pic>
        <p:nvPicPr>
          <p:cNvPr id="508" name="Picture 4" descr="花2"/>
          <p:cNvPicPr/>
          <p:nvPr/>
        </p:nvPicPr>
        <p:blipFill>
          <a:blip r:embed="rId2"/>
          <a:stretch/>
        </p:blipFill>
        <p:spPr>
          <a:xfrm>
            <a:off x="1295280" y="5257800"/>
            <a:ext cx="1428840" cy="16002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5" descr="花2"/>
          <p:cNvPicPr/>
          <p:nvPr/>
        </p:nvPicPr>
        <p:blipFill>
          <a:blip r:embed="rId3"/>
          <a:stretch/>
        </p:blipFill>
        <p:spPr>
          <a:xfrm>
            <a:off x="0" y="5257800"/>
            <a:ext cx="1428840" cy="16002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6" descr="花2"/>
          <p:cNvPicPr/>
          <p:nvPr/>
        </p:nvPicPr>
        <p:blipFill>
          <a:blip r:embed="rId4"/>
          <a:stretch/>
        </p:blipFill>
        <p:spPr>
          <a:xfrm>
            <a:off x="7924680" y="4114800"/>
            <a:ext cx="1428840" cy="16002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7" descr="花2"/>
          <p:cNvPicPr/>
          <p:nvPr/>
        </p:nvPicPr>
        <p:blipFill>
          <a:blip r:embed="rId5"/>
          <a:stretch/>
        </p:blipFill>
        <p:spPr>
          <a:xfrm>
            <a:off x="914400" y="2895480"/>
            <a:ext cx="1428840" cy="16002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8" descr="花2"/>
          <p:cNvPicPr/>
          <p:nvPr/>
        </p:nvPicPr>
        <p:blipFill>
          <a:blip r:embed="rId6"/>
          <a:stretch/>
        </p:blipFill>
        <p:spPr>
          <a:xfrm>
            <a:off x="7162920" y="2895480"/>
            <a:ext cx="1428480" cy="16002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9" descr="花6"/>
          <p:cNvPicPr/>
          <p:nvPr/>
        </p:nvPicPr>
        <p:blipFill>
          <a:blip r:embed="rId7"/>
          <a:stretch/>
        </p:blipFill>
        <p:spPr>
          <a:xfrm>
            <a:off x="1905120" y="5105520"/>
            <a:ext cx="1104840" cy="144756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0" descr="花6"/>
          <p:cNvPicPr/>
          <p:nvPr/>
        </p:nvPicPr>
        <p:blipFill>
          <a:blip r:embed="rId8"/>
          <a:stretch/>
        </p:blipFill>
        <p:spPr>
          <a:xfrm>
            <a:off x="2514600" y="605808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1" descr="花6"/>
          <p:cNvPicPr/>
          <p:nvPr/>
        </p:nvPicPr>
        <p:blipFill>
          <a:blip r:embed="rId9"/>
          <a:stretch/>
        </p:blipFill>
        <p:spPr>
          <a:xfrm>
            <a:off x="8039160" y="3200400"/>
            <a:ext cx="1104840" cy="14479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2" descr="小鸟"/>
          <p:cNvPicPr/>
          <p:nvPr/>
        </p:nvPicPr>
        <p:blipFill>
          <a:blip r:embed="rId10"/>
          <a:stretch/>
        </p:blipFill>
        <p:spPr>
          <a:xfrm>
            <a:off x="1619280" y="6922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3" descr="鸭子"/>
          <p:cNvPicPr/>
          <p:nvPr/>
        </p:nvPicPr>
        <p:blipFill>
          <a:blip r:embed="rId11"/>
          <a:stretch/>
        </p:blipFill>
        <p:spPr>
          <a:xfrm>
            <a:off x="4284720" y="5013360"/>
            <a:ext cx="2590920" cy="974520"/>
          </a:xfrm>
          <a:prstGeom prst="rect">
            <a:avLst/>
          </a:prstGeom>
          <a:ln w="0">
            <a:noFill/>
          </a:ln>
        </p:spPr>
      </p:pic>
      <p:sp>
        <p:nvSpPr>
          <p:cNvPr id="518" name="WordArt 16"/>
          <p:cNvSpPr txBox="1"/>
          <p:nvPr/>
        </p:nvSpPr>
        <p:spPr>
          <a:xfrm>
            <a:off x="6948360" y="5516640"/>
            <a:ext cx="16765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ffff"/>
                </a:solidFill>
                <a:latin typeface="华文行楷"/>
              </a:rPr>
              <a:t>春天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华文行楷"/>
              <a:ea typeface="华文行楷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2"/>
          <p:cNvSpPr/>
          <p:nvPr/>
        </p:nvSpPr>
        <p:spPr>
          <a:xfrm>
            <a:off x="2514600" y="20131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春天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树木抽出了新的枝条，长出了嫩绿的叶子。山上的积雪融化了，雪水汇成小溪，淙淙的流着。小鸟快乐的在林中飞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75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2" descr="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4" descr="花2"/>
          <p:cNvPicPr/>
          <p:nvPr/>
        </p:nvPicPr>
        <p:blipFill>
          <a:blip r:embed="rId2"/>
          <a:stretch/>
        </p:blipFill>
        <p:spPr>
          <a:xfrm>
            <a:off x="6781680" y="5791320"/>
            <a:ext cx="1089000" cy="12189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5" descr="花1"/>
          <p:cNvPicPr/>
          <p:nvPr/>
        </p:nvPicPr>
        <p:blipFill>
          <a:blip r:embed="rId3"/>
          <a:stretch/>
        </p:blipFill>
        <p:spPr>
          <a:xfrm>
            <a:off x="6400800" y="6019920"/>
            <a:ext cx="520560" cy="8380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6" descr="花1"/>
          <p:cNvPicPr/>
          <p:nvPr/>
        </p:nvPicPr>
        <p:blipFill>
          <a:blip r:embed="rId4"/>
          <a:stretch/>
        </p:blipFill>
        <p:spPr>
          <a:xfrm>
            <a:off x="8251920" y="5019840"/>
            <a:ext cx="892080" cy="18288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" descr="花1"/>
          <p:cNvPicPr/>
          <p:nvPr/>
        </p:nvPicPr>
        <p:blipFill>
          <a:blip r:embed="rId5"/>
          <a:stretch/>
        </p:blipFill>
        <p:spPr>
          <a:xfrm>
            <a:off x="7763040" y="5791320"/>
            <a:ext cx="520560" cy="10666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8" descr="花2"/>
          <p:cNvPicPr/>
          <p:nvPr/>
        </p:nvPicPr>
        <p:blipFill>
          <a:blip r:embed="rId6"/>
          <a:stretch/>
        </p:blipFill>
        <p:spPr>
          <a:xfrm>
            <a:off x="7772400" y="5638680"/>
            <a:ext cx="1089000" cy="12193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9" descr="小鸟"/>
          <p:cNvPicPr/>
          <p:nvPr/>
        </p:nvPicPr>
        <p:blipFill>
          <a:blip r:embed="rId7"/>
          <a:stretch/>
        </p:blipFill>
        <p:spPr>
          <a:xfrm>
            <a:off x="7467480" y="30492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527" name="WordArt 10"/>
          <p:cNvSpPr txBox="1"/>
          <p:nvPr/>
        </p:nvSpPr>
        <p:spPr>
          <a:xfrm>
            <a:off x="755640" y="4797360"/>
            <a:ext cx="16765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ffff"/>
                </a:solidFill>
                <a:latin typeface="华文行楷"/>
              </a:rPr>
              <a:t>夏天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华文行楷"/>
              <a:ea typeface="华文行楷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06:48:14Z</dcterms:created>
  <dc:creator/>
  <dc:description/>
  <dc:language>en-US</dc:language>
  <cp:lastModifiedBy>yanlu</cp:lastModifiedBy>
  <dcterms:modified xsi:type="dcterms:W3CDTF">2014-04-14T02:50:18Z</dcterms:modified>
  <cp:revision>52</cp:revision>
  <dc:subject/>
  <dc:title>幻灯片 1</dc:title>
</cp:coreProperties>
</file>